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explode.wav" ContentType="audio/x-wav"/>
  <Override PartName="/ppt/media/suction.wav" ContentType="audio/x-wav"/>
  <Override PartName="/ppt/media/image7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095-B664-4266-A2BC-201C1A0C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A54-F06C-45E3-8565-EA495D7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E55-2C30-45AF-BABA-5EECA1A1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F77-80E2-4C16-81FF-03A214D0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B957-CDE7-4845-AB2A-AE58F877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CCD2-19D1-448A-99DA-D2249A6B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B744-F845-444A-83E6-81EB0A1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440-101C-445D-9026-36E7AC55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34E9-7B52-4138-A6FC-49DA476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51AF-19DB-44F3-ADFA-02629FD8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A8A6-19F7-484F-A584-76EA1D4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F16-64FF-4530-9E32-D0A582BB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FB75-1D7B-4C92-A714-84A3ED6C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5F89-47CD-4764-B45D-ADD0CD0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0544-1BDA-4467-9E9C-E9B5565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E07-AFA2-4198-B275-74B9D376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AB9-8D04-43F7-8DD6-B83DA75D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00A-8D7D-4ED3-8BBD-DE0005C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231-C54A-4B5F-B079-527B684D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68B-12D5-43A3-840E-1637626D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4AA-1453-41E9-A72D-9F45CF18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715-79F0-40EB-959E-56D9545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4EB-8F56-4FD1-80F6-9EAEFAA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29D-5AE2-464E-AF26-9399EF4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E0C-67CE-41C4-BCDF-3FE77751264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198-4E37-4646-AE26-052108CD26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40080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arm-up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3" marL="1752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Finding the Value of One Variable Workshe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2438280"/>
            <a:ext cx="6043680" cy="1757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2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lving 2-Step Equation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4419720"/>
            <a:ext cx="15940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addition or subtract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o multiplication or division by doing the oppos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3809880"/>
          <a:ext cx="1800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1800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486400" y="3657600"/>
          <a:ext cx="1733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62120" y="5029200"/>
          <a:ext cx="165096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029200"/>
                    <a:ext cx="1650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38680" y="5029200"/>
          <a:ext cx="16002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5029200"/>
                    <a:ext cx="16002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00840" y="22068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 Students will solve 2-step equations with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9240" y="2678040"/>
            <a:ext cx="1857600" cy="519120"/>
          </a:xfrm>
          <a:custGeom>
            <a:avLst/>
            <a:gdLst/>
            <a:ahLst/>
            <a:rect l="l" t="t" r="r" b="b"/>
            <a:pathLst>
              <a:path w="5160" h="1440">
                <a:moveTo>
                  <a:pt x="14610" y="8235"/>
                </a:moveTo>
                <a:cubicBezTo>
                  <a:pt x="14719" y="8235"/>
                  <a:pt x="14866" y="8227"/>
                  <a:pt x="14932" y="8260"/>
                </a:cubicBezTo>
                <a:cubicBezTo>
                  <a:pt x="14940" y="8260"/>
                  <a:pt x="14949" y="8260"/>
                  <a:pt x="14957" y="8260"/>
                </a:cubicBezTo>
              </a:path>
              <a:path w="5160" h="1440">
                <a:moveTo>
                  <a:pt x="15205" y="7863"/>
                </a:moveTo>
                <a:cubicBezTo>
                  <a:pt x="15250" y="7893"/>
                  <a:pt x="15215" y="7838"/>
                  <a:pt x="15280" y="7789"/>
                </a:cubicBezTo>
                <a:cubicBezTo>
                  <a:pt x="15350" y="7737"/>
                  <a:pt x="15428" y="7739"/>
                  <a:pt x="15503" y="7764"/>
                </a:cubicBezTo>
                <a:cubicBezTo>
                  <a:pt x="15557" y="7782"/>
                  <a:pt x="15571" y="7789"/>
                  <a:pt x="15627" y="7789"/>
                </a:cubicBezTo>
                <a:cubicBezTo>
                  <a:pt x="15596" y="7969"/>
                  <a:pt x="15488" y="8136"/>
                  <a:pt x="15429" y="8310"/>
                </a:cubicBezTo>
                <a:cubicBezTo>
                  <a:pt x="15393" y="8415"/>
                  <a:pt x="15268" y="8563"/>
                  <a:pt x="15354" y="8632"/>
                </a:cubicBezTo>
                <a:cubicBezTo>
                  <a:pt x="15382" y="8632"/>
                  <a:pt x="15393" y="8630"/>
                  <a:pt x="15404" y="8607"/>
                </a:cubicBezTo>
              </a:path>
              <a:path w="5160" h="1440">
                <a:moveTo>
                  <a:pt x="16073" y="7441"/>
                </a:moveTo>
                <a:cubicBezTo>
                  <a:pt x="15984" y="7561"/>
                  <a:pt x="15937" y="7692"/>
                  <a:pt x="15900" y="7863"/>
                </a:cubicBezTo>
                <a:cubicBezTo>
                  <a:pt x="15839" y="8143"/>
                  <a:pt x="15762" y="8483"/>
                  <a:pt x="15875" y="8756"/>
                </a:cubicBezTo>
                <a:cubicBezTo>
                  <a:pt x="15921" y="8825"/>
                  <a:pt x="15934" y="8845"/>
                  <a:pt x="15974" y="8880"/>
                </a:cubicBezTo>
              </a:path>
              <a:path w="5160" h="1440">
                <a:moveTo>
                  <a:pt x="16098" y="8161"/>
                </a:moveTo>
                <a:cubicBezTo>
                  <a:pt x="16149" y="8152"/>
                  <a:pt x="16194" y="8136"/>
                  <a:pt x="16247" y="8136"/>
                </a:cubicBezTo>
                <a:cubicBezTo>
                  <a:pt x="16264" y="8136"/>
                  <a:pt x="16280" y="8136"/>
                  <a:pt x="16297" y="8136"/>
                </a:cubicBezTo>
              </a:path>
              <a:path w="5160" h="1440">
                <a:moveTo>
                  <a:pt x="16396" y="7888"/>
                </a:moveTo>
                <a:cubicBezTo>
                  <a:pt x="16416" y="7807"/>
                  <a:pt x="16495" y="7816"/>
                  <a:pt x="16570" y="7813"/>
                </a:cubicBezTo>
                <a:cubicBezTo>
                  <a:pt x="16712" y="7806"/>
                  <a:pt x="16680" y="8032"/>
                  <a:pt x="16644" y="8111"/>
                </a:cubicBezTo>
                <a:cubicBezTo>
                  <a:pt x="16570" y="8275"/>
                  <a:pt x="16416" y="8424"/>
                  <a:pt x="16297" y="8558"/>
                </a:cubicBezTo>
                <a:cubicBezTo>
                  <a:pt x="16401" y="8537"/>
                  <a:pt x="16512" y="8507"/>
                  <a:pt x="16619" y="8483"/>
                </a:cubicBezTo>
                <a:cubicBezTo>
                  <a:pt x="16752" y="8453"/>
                  <a:pt x="16686" y="8463"/>
                  <a:pt x="16768" y="8483"/>
                </a:cubicBezTo>
              </a:path>
              <a:path w="5160" h="1440">
                <a:moveTo>
                  <a:pt x="16842" y="7565"/>
                </a:moveTo>
                <a:cubicBezTo>
                  <a:pt x="16978" y="7762"/>
                  <a:pt x="17083" y="7988"/>
                  <a:pt x="17090" y="8235"/>
                </a:cubicBezTo>
                <a:cubicBezTo>
                  <a:pt x="17096" y="8445"/>
                  <a:pt x="17027" y="8645"/>
                  <a:pt x="16867" y="8781"/>
                </a:cubicBezTo>
                <a:cubicBezTo>
                  <a:pt x="16800" y="8838"/>
                  <a:pt x="16758" y="8892"/>
                  <a:pt x="16743" y="8806"/>
                </a:cubicBezTo>
              </a:path>
              <a:path w="5160" h="1440">
                <a:moveTo>
                  <a:pt x="17338" y="8136"/>
                </a:moveTo>
                <a:cubicBezTo>
                  <a:pt x="17432" y="8136"/>
                  <a:pt x="17514" y="8114"/>
                  <a:pt x="17611" y="8111"/>
                </a:cubicBezTo>
                <a:cubicBezTo>
                  <a:pt x="17653" y="8111"/>
                  <a:pt x="17661" y="8111"/>
                  <a:pt x="17686" y="8111"/>
                </a:cubicBezTo>
              </a:path>
              <a:path w="5160" h="1440">
                <a:moveTo>
                  <a:pt x="18306" y="7813"/>
                </a:moveTo>
                <a:cubicBezTo>
                  <a:pt x="18224" y="7820"/>
                  <a:pt x="18153" y="7844"/>
                  <a:pt x="18083" y="7863"/>
                </a:cubicBezTo>
                <a:cubicBezTo>
                  <a:pt x="18038" y="7875"/>
                  <a:pt x="18018" y="8004"/>
                  <a:pt x="18008" y="8062"/>
                </a:cubicBezTo>
                <a:cubicBezTo>
                  <a:pt x="18008" y="8078"/>
                  <a:pt x="18008" y="8095"/>
                  <a:pt x="18008" y="8111"/>
                </a:cubicBezTo>
                <a:cubicBezTo>
                  <a:pt x="18118" y="8102"/>
                  <a:pt x="18243" y="8058"/>
                  <a:pt x="18331" y="8161"/>
                </a:cubicBezTo>
                <a:cubicBezTo>
                  <a:pt x="18464" y="8318"/>
                  <a:pt x="18296" y="8459"/>
                  <a:pt x="18157" y="8508"/>
                </a:cubicBezTo>
                <a:cubicBezTo>
                  <a:pt x="18008" y="8560"/>
                  <a:pt x="17977" y="8526"/>
                  <a:pt x="17884" y="8434"/>
                </a:cubicBezTo>
              </a:path>
              <a:path w="5160" h="1440">
                <a:moveTo>
                  <a:pt x="18653" y="7938"/>
                </a:moveTo>
                <a:cubicBezTo>
                  <a:pt x="18754" y="7938"/>
                  <a:pt x="18850" y="7916"/>
                  <a:pt x="18951" y="7913"/>
                </a:cubicBezTo>
                <a:cubicBezTo>
                  <a:pt x="19018" y="7911"/>
                  <a:pt x="19036" y="7895"/>
                  <a:pt x="19050" y="7938"/>
                </a:cubicBezTo>
              </a:path>
              <a:path w="5160" h="1440">
                <a:moveTo>
                  <a:pt x="18703" y="8210"/>
                </a:moveTo>
                <a:cubicBezTo>
                  <a:pt x="18842" y="8176"/>
                  <a:pt x="18957" y="8161"/>
                  <a:pt x="19100" y="8161"/>
                </a:cubicBezTo>
              </a:path>
              <a:path w="5160" h="1440">
                <a:moveTo>
                  <a:pt x="19645" y="8037"/>
                </a:moveTo>
                <a:cubicBezTo>
                  <a:pt x="19645" y="7929"/>
                  <a:pt x="19672" y="7861"/>
                  <a:pt x="19571" y="7789"/>
                </a:cubicBezTo>
                <a:cubicBezTo>
                  <a:pt x="19430" y="7689"/>
                  <a:pt x="19290" y="7799"/>
                  <a:pt x="19248" y="7938"/>
                </a:cubicBezTo>
                <a:cubicBezTo>
                  <a:pt x="19248" y="7963"/>
                  <a:pt x="19248" y="7987"/>
                  <a:pt x="19248" y="8012"/>
                </a:cubicBezTo>
                <a:cubicBezTo>
                  <a:pt x="19404" y="8103"/>
                  <a:pt x="19556" y="8086"/>
                  <a:pt x="19695" y="7938"/>
                </a:cubicBezTo>
                <a:cubicBezTo>
                  <a:pt x="19733" y="7861"/>
                  <a:pt x="19732" y="7846"/>
                  <a:pt x="19769" y="7813"/>
                </a:cubicBezTo>
                <a:cubicBezTo>
                  <a:pt x="19749" y="7955"/>
                  <a:pt x="19745" y="8089"/>
                  <a:pt x="19745" y="8235"/>
                </a:cubicBezTo>
                <a:cubicBezTo>
                  <a:pt x="19745" y="8326"/>
                  <a:pt x="19745" y="8417"/>
                  <a:pt x="19745" y="8508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48200" y="4340160"/>
            <a:ext cx="1260720" cy="633600"/>
          </a:xfrm>
          <a:custGeom>
            <a:avLst/>
            <a:gdLst/>
            <a:ahLst/>
            <a:rect l="l" t="t" r="r" b="b"/>
            <a:pathLst>
              <a:path w="3499" h="1762">
                <a:moveTo>
                  <a:pt x="16247" y="12477"/>
                </a:moveTo>
                <a:cubicBezTo>
                  <a:pt x="16320" y="12477"/>
                  <a:pt x="16356" y="12487"/>
                  <a:pt x="16421" y="12477"/>
                </a:cubicBezTo>
                <a:cubicBezTo>
                  <a:pt x="16429" y="12477"/>
                  <a:pt x="16438" y="12477"/>
                  <a:pt x="16446" y="12477"/>
                </a:cubicBezTo>
              </a:path>
              <a:path w="3499" h="1762">
                <a:moveTo>
                  <a:pt x="16718" y="12179"/>
                </a:moveTo>
                <a:cubicBezTo>
                  <a:pt x="16820" y="12179"/>
                  <a:pt x="16949" y="12212"/>
                  <a:pt x="17041" y="12204"/>
                </a:cubicBezTo>
                <a:cubicBezTo>
                  <a:pt x="17112" y="12198"/>
                  <a:pt x="17096" y="12194"/>
                  <a:pt x="17140" y="12179"/>
                </a:cubicBezTo>
                <a:cubicBezTo>
                  <a:pt x="17122" y="12301"/>
                  <a:pt x="17068" y="12413"/>
                  <a:pt x="17016" y="12526"/>
                </a:cubicBezTo>
                <a:cubicBezTo>
                  <a:pt x="16983" y="12597"/>
                  <a:pt x="16935" y="12679"/>
                  <a:pt x="16917" y="12750"/>
                </a:cubicBezTo>
              </a:path>
              <a:path w="3499" h="1762">
                <a:moveTo>
                  <a:pt x="17314" y="12378"/>
                </a:moveTo>
                <a:cubicBezTo>
                  <a:pt x="17414" y="12403"/>
                  <a:pt x="17450" y="12487"/>
                  <a:pt x="17537" y="12551"/>
                </a:cubicBezTo>
                <a:cubicBezTo>
                  <a:pt x="17585" y="12586"/>
                  <a:pt x="17621" y="12630"/>
                  <a:pt x="17661" y="12650"/>
                </a:cubicBezTo>
              </a:path>
              <a:path w="3499" h="1762">
                <a:moveTo>
                  <a:pt x="17611" y="12278"/>
                </a:moveTo>
                <a:cubicBezTo>
                  <a:pt x="17534" y="12372"/>
                  <a:pt x="17476" y="12473"/>
                  <a:pt x="17413" y="12576"/>
                </a:cubicBezTo>
                <a:cubicBezTo>
                  <a:pt x="17377" y="12634"/>
                  <a:pt x="17351" y="12662"/>
                  <a:pt x="17338" y="12725"/>
                </a:cubicBezTo>
              </a:path>
              <a:path w="3499" h="1762">
                <a:moveTo>
                  <a:pt x="18132" y="12303"/>
                </a:moveTo>
                <a:cubicBezTo>
                  <a:pt x="18190" y="12303"/>
                  <a:pt x="18248" y="12303"/>
                  <a:pt x="18306" y="12303"/>
                </a:cubicBezTo>
              </a:path>
              <a:path w="3499" h="1762">
                <a:moveTo>
                  <a:pt x="18058" y="12502"/>
                </a:moveTo>
                <a:cubicBezTo>
                  <a:pt x="18124" y="12502"/>
                  <a:pt x="18190" y="12502"/>
                  <a:pt x="18256" y="12502"/>
                </a:cubicBezTo>
              </a:path>
              <a:path w="3499" h="1762">
                <a:moveTo>
                  <a:pt x="18852" y="12204"/>
                </a:moveTo>
                <a:cubicBezTo>
                  <a:pt x="18852" y="12306"/>
                  <a:pt x="18874" y="12399"/>
                  <a:pt x="18876" y="12502"/>
                </a:cubicBezTo>
                <a:cubicBezTo>
                  <a:pt x="18878" y="12585"/>
                  <a:pt x="18876" y="12667"/>
                  <a:pt x="18876" y="12750"/>
                </a:cubicBezTo>
              </a:path>
              <a:path w="3499" h="1762">
                <a:moveTo>
                  <a:pt x="19248" y="12229"/>
                </a:moveTo>
                <a:cubicBezTo>
                  <a:pt x="19204" y="12263"/>
                  <a:pt x="19188" y="12345"/>
                  <a:pt x="19149" y="12402"/>
                </a:cubicBezTo>
                <a:cubicBezTo>
                  <a:pt x="19215" y="12418"/>
                  <a:pt x="19269" y="12427"/>
                  <a:pt x="19348" y="12427"/>
                </a:cubicBezTo>
                <a:cubicBezTo>
                  <a:pt x="19414" y="12427"/>
                  <a:pt x="19446" y="12413"/>
                  <a:pt x="19472" y="12452"/>
                </a:cubicBezTo>
              </a:path>
              <a:path w="3499" h="1762">
                <a:moveTo>
                  <a:pt x="19372" y="12105"/>
                </a:moveTo>
                <a:cubicBezTo>
                  <a:pt x="19372" y="12030"/>
                  <a:pt x="19384" y="12204"/>
                  <a:pt x="19397" y="12278"/>
                </a:cubicBezTo>
                <a:cubicBezTo>
                  <a:pt x="19419" y="12404"/>
                  <a:pt x="19421" y="12530"/>
                  <a:pt x="19447" y="12650"/>
                </a:cubicBezTo>
                <a:cubicBezTo>
                  <a:pt x="19447" y="12658"/>
                  <a:pt x="19447" y="12667"/>
                  <a:pt x="19447" y="12675"/>
                </a:cubicBezTo>
              </a:path>
              <a:path w="3499" h="1762">
                <a:moveTo>
                  <a:pt x="16396" y="13122"/>
                </a:moveTo>
                <a:cubicBezTo>
                  <a:pt x="16438" y="13080"/>
                  <a:pt x="16506" y="13042"/>
                  <a:pt x="16570" y="13047"/>
                </a:cubicBezTo>
                <a:cubicBezTo>
                  <a:pt x="16691" y="13056"/>
                  <a:pt x="16813" y="13047"/>
                  <a:pt x="16942" y="13047"/>
                </a:cubicBezTo>
                <a:cubicBezTo>
                  <a:pt x="17063" y="13047"/>
                  <a:pt x="17173" y="13035"/>
                  <a:pt x="17289" y="13022"/>
                </a:cubicBezTo>
                <a:cubicBezTo>
                  <a:pt x="17425" y="13007"/>
                  <a:pt x="17555" y="13029"/>
                  <a:pt x="17686" y="12998"/>
                </a:cubicBezTo>
                <a:cubicBezTo>
                  <a:pt x="17715" y="12991"/>
                  <a:pt x="17755" y="12998"/>
                  <a:pt x="17785" y="12998"/>
                </a:cubicBezTo>
              </a:path>
              <a:path w="3499" h="1762">
                <a:moveTo>
                  <a:pt x="17090" y="13395"/>
                </a:moveTo>
                <a:cubicBezTo>
                  <a:pt x="17028" y="13395"/>
                  <a:pt x="17153" y="13354"/>
                  <a:pt x="17214" y="13345"/>
                </a:cubicBezTo>
                <a:cubicBezTo>
                  <a:pt x="17282" y="13345"/>
                  <a:pt x="17301" y="13348"/>
                  <a:pt x="17338" y="13320"/>
                </a:cubicBezTo>
                <a:cubicBezTo>
                  <a:pt x="17356" y="13391"/>
                  <a:pt x="17350" y="13431"/>
                  <a:pt x="17314" y="13519"/>
                </a:cubicBezTo>
                <a:cubicBezTo>
                  <a:pt x="17279" y="13604"/>
                  <a:pt x="17214" y="13673"/>
                  <a:pt x="17214" y="13767"/>
                </a:cubicBezTo>
                <a:cubicBezTo>
                  <a:pt x="17214" y="13791"/>
                  <a:pt x="17214" y="13800"/>
                  <a:pt x="17214" y="13816"/>
                </a:cubicBezTo>
              </a:path>
              <a:path w="3499" h="1762">
                <a:moveTo>
                  <a:pt x="18951" y="12998"/>
                </a:moveTo>
                <a:cubicBezTo>
                  <a:pt x="19089" y="12966"/>
                  <a:pt x="19230" y="12971"/>
                  <a:pt x="19372" y="12948"/>
                </a:cubicBezTo>
                <a:cubicBezTo>
                  <a:pt x="19491" y="12929"/>
                  <a:pt x="19600" y="12898"/>
                  <a:pt x="19720" y="12898"/>
                </a:cubicBezTo>
                <a:cubicBezTo>
                  <a:pt x="19745" y="12898"/>
                  <a:pt x="19753" y="12898"/>
                  <a:pt x="19745" y="12923"/>
                </a:cubicBezTo>
              </a:path>
              <a:path w="3499" h="1762">
                <a:moveTo>
                  <a:pt x="19199" y="13246"/>
                </a:moveTo>
                <a:cubicBezTo>
                  <a:pt x="19260" y="13234"/>
                  <a:pt x="19338" y="13215"/>
                  <a:pt x="19397" y="13196"/>
                </a:cubicBezTo>
                <a:cubicBezTo>
                  <a:pt x="19451" y="13179"/>
                  <a:pt x="19466" y="13171"/>
                  <a:pt x="19521" y="13171"/>
                </a:cubicBezTo>
                <a:cubicBezTo>
                  <a:pt x="19481" y="13301"/>
                  <a:pt x="19438" y="13401"/>
                  <a:pt x="19372" y="13519"/>
                </a:cubicBezTo>
                <a:cubicBezTo>
                  <a:pt x="19351" y="13556"/>
                  <a:pt x="19326" y="13594"/>
                  <a:pt x="19323" y="13618"/>
                </a:cubicBezTo>
                <a:cubicBezTo>
                  <a:pt x="19322" y="13629"/>
                  <a:pt x="19323" y="13734"/>
                  <a:pt x="19323" y="13667"/>
                </a:cubicBezTo>
              </a:path>
              <a:path w="3499" h="1762">
                <a:moveTo>
                  <a:pt x="16669" y="13692"/>
                </a:moveTo>
                <a:cubicBezTo>
                  <a:pt x="16688" y="13636"/>
                  <a:pt x="16736" y="13683"/>
                  <a:pt x="16793" y="13692"/>
                </a:cubicBezTo>
                <a:cubicBezTo>
                  <a:pt x="16832" y="13698"/>
                  <a:pt x="16877" y="13692"/>
                  <a:pt x="16917" y="13692"/>
                </a:cubicBezTo>
              </a:path>
              <a:path w="3499" h="1762">
                <a:moveTo>
                  <a:pt x="18777" y="13444"/>
                </a:moveTo>
                <a:cubicBezTo>
                  <a:pt x="18851" y="13444"/>
                  <a:pt x="18926" y="13444"/>
                  <a:pt x="19000" y="13444"/>
                </a:cubicBezTo>
              </a:path>
              <a:path w="3499" h="1762">
                <a:moveTo>
                  <a:pt x="16842" y="12080"/>
                </a:moveTo>
                <a:cubicBezTo>
                  <a:pt x="16818" y="12080"/>
                  <a:pt x="16810" y="12080"/>
                  <a:pt x="16818" y="12055"/>
                </a:cubicBezTo>
              </a:path>
              <a:path w="3499" h="1762">
                <a:moveTo>
                  <a:pt x="16818" y="12080"/>
                </a:moveTo>
                <a:lnTo>
                  <a:pt x="16818" y="12080"/>
                </a:lnTo>
              </a:path>
              <a:path w="3499" h="1762">
                <a:moveTo>
                  <a:pt x="16818" y="12105"/>
                </a:moveTo>
                <a:cubicBezTo>
                  <a:pt x="16832" y="12373"/>
                  <a:pt x="16880" y="12633"/>
                  <a:pt x="16917" y="12898"/>
                </a:cubicBezTo>
                <a:cubicBezTo>
                  <a:pt x="16950" y="13130"/>
                  <a:pt x="16966" y="13359"/>
                  <a:pt x="16966" y="13593"/>
                </a:cubicBezTo>
                <a:cubicBezTo>
                  <a:pt x="16966" y="13669"/>
                  <a:pt x="16971" y="13705"/>
                  <a:pt x="16942" y="13742"/>
                </a:cubicBezTo>
                <a:cubicBezTo>
                  <a:pt x="16932" y="13754"/>
                  <a:pt x="16907" y="13758"/>
                  <a:pt x="16892" y="13767"/>
                </a:cubicBezTo>
                <a:cubicBezTo>
                  <a:pt x="16898" y="13723"/>
                  <a:pt x="16896" y="13718"/>
                  <a:pt x="16917" y="13692"/>
                </a:cubicBezTo>
                <a:cubicBezTo>
                  <a:pt x="16933" y="13672"/>
                  <a:pt x="16924" y="13710"/>
                  <a:pt x="16942" y="13692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7880" y="3330720"/>
            <a:ext cx="455400" cy="401400"/>
          </a:xfrm>
          <a:custGeom>
            <a:avLst/>
            <a:gdLst/>
            <a:ahLst/>
            <a:rect l="l" t="t" r="r" b="b"/>
            <a:pathLst>
              <a:path w="1266" h="1117">
                <a:moveTo>
                  <a:pt x="21382" y="10096"/>
                </a:moveTo>
                <a:cubicBezTo>
                  <a:pt x="21445" y="10196"/>
                  <a:pt x="21501" y="10281"/>
                  <a:pt x="21580" y="10368"/>
                </a:cubicBezTo>
                <a:cubicBezTo>
                  <a:pt x="21826" y="10255"/>
                  <a:pt x="21990" y="9841"/>
                  <a:pt x="22175" y="9624"/>
                </a:cubicBezTo>
                <a:cubicBezTo>
                  <a:pt x="22401" y="9398"/>
                  <a:pt x="22456" y="9331"/>
                  <a:pt x="22647" y="9252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2880" y="3606840"/>
            <a:ext cx="1428480" cy="366840"/>
          </a:xfrm>
          <a:custGeom>
            <a:avLst/>
            <a:gdLst/>
            <a:ahLst/>
            <a:rect l="l" t="t" r="r" b="b"/>
            <a:pathLst>
              <a:path w="3970" h="1018">
                <a:moveTo>
                  <a:pt x="9054" y="10344"/>
                </a:moveTo>
                <a:cubicBezTo>
                  <a:pt x="9087" y="10333"/>
                  <a:pt x="9090" y="10291"/>
                  <a:pt x="9079" y="10244"/>
                </a:cubicBezTo>
                <a:cubicBezTo>
                  <a:pt x="9061" y="10167"/>
                  <a:pt x="8967" y="10093"/>
                  <a:pt x="8880" y="10096"/>
                </a:cubicBezTo>
                <a:cubicBezTo>
                  <a:pt x="8739" y="10101"/>
                  <a:pt x="8760" y="10206"/>
                  <a:pt x="8756" y="10319"/>
                </a:cubicBezTo>
                <a:cubicBezTo>
                  <a:pt x="8753" y="10420"/>
                  <a:pt x="8804" y="10492"/>
                  <a:pt x="8905" y="10443"/>
                </a:cubicBezTo>
                <a:cubicBezTo>
                  <a:pt x="9007" y="10393"/>
                  <a:pt x="9037" y="10300"/>
                  <a:pt x="9079" y="10220"/>
                </a:cubicBezTo>
                <a:cubicBezTo>
                  <a:pt x="9101" y="10197"/>
                  <a:pt x="9109" y="10186"/>
                  <a:pt x="9103" y="10220"/>
                </a:cubicBezTo>
                <a:cubicBezTo>
                  <a:pt x="9041" y="10345"/>
                  <a:pt x="9010" y="10506"/>
                  <a:pt x="8954" y="10641"/>
                </a:cubicBezTo>
                <a:cubicBezTo>
                  <a:pt x="8918" y="10714"/>
                  <a:pt x="8901" y="10719"/>
                  <a:pt x="8905" y="10765"/>
                </a:cubicBezTo>
              </a:path>
              <a:path w="3970" h="1018">
                <a:moveTo>
                  <a:pt x="9500" y="10021"/>
                </a:moveTo>
                <a:cubicBezTo>
                  <a:pt x="9391" y="10093"/>
                  <a:pt x="9305" y="10265"/>
                  <a:pt x="9252" y="10393"/>
                </a:cubicBezTo>
                <a:cubicBezTo>
                  <a:pt x="9189" y="10547"/>
                  <a:pt x="9150" y="10708"/>
                  <a:pt x="9227" y="10864"/>
                </a:cubicBezTo>
                <a:cubicBezTo>
                  <a:pt x="9235" y="10872"/>
                  <a:pt x="9244" y="10881"/>
                  <a:pt x="9252" y="10889"/>
                </a:cubicBezTo>
              </a:path>
              <a:path w="3970" h="1018">
                <a:moveTo>
                  <a:pt x="9525" y="10319"/>
                </a:moveTo>
                <a:cubicBezTo>
                  <a:pt x="9588" y="10319"/>
                  <a:pt x="9639" y="10314"/>
                  <a:pt x="9699" y="10344"/>
                </a:cubicBezTo>
                <a:cubicBezTo>
                  <a:pt x="9800" y="10394"/>
                  <a:pt x="9635" y="10587"/>
                  <a:pt x="9599" y="10616"/>
                </a:cubicBezTo>
                <a:cubicBezTo>
                  <a:pt x="9545" y="10659"/>
                  <a:pt x="9420" y="10685"/>
                  <a:pt x="9401" y="10740"/>
                </a:cubicBezTo>
                <a:cubicBezTo>
                  <a:pt x="9503" y="10726"/>
                  <a:pt x="9595" y="10716"/>
                  <a:pt x="9699" y="10716"/>
                </a:cubicBezTo>
                <a:cubicBezTo>
                  <a:pt x="9732" y="10716"/>
                  <a:pt x="9765" y="10716"/>
                  <a:pt x="9798" y="10716"/>
                </a:cubicBezTo>
              </a:path>
              <a:path w="3970" h="1018">
                <a:moveTo>
                  <a:pt x="9847" y="10071"/>
                </a:moveTo>
                <a:cubicBezTo>
                  <a:pt x="9974" y="10170"/>
                  <a:pt x="10057" y="10306"/>
                  <a:pt x="10096" y="10468"/>
                </a:cubicBezTo>
                <a:cubicBezTo>
                  <a:pt x="10152" y="10701"/>
                  <a:pt x="10051" y="10834"/>
                  <a:pt x="9897" y="10988"/>
                </a:cubicBezTo>
                <a:cubicBezTo>
                  <a:pt x="9852" y="11033"/>
                  <a:pt x="9839" y="11064"/>
                  <a:pt x="9823" y="11013"/>
                </a:cubicBezTo>
              </a:path>
              <a:path w="3970" h="1018">
                <a:moveTo>
                  <a:pt x="10418" y="10443"/>
                </a:moveTo>
                <a:cubicBezTo>
                  <a:pt x="10480" y="10412"/>
                  <a:pt x="10557" y="10398"/>
                  <a:pt x="10616" y="10418"/>
                </a:cubicBezTo>
              </a:path>
              <a:path w="3970" h="1018">
                <a:moveTo>
                  <a:pt x="10815" y="10244"/>
                </a:moveTo>
                <a:cubicBezTo>
                  <a:pt x="10799" y="10307"/>
                  <a:pt x="10753" y="10371"/>
                  <a:pt x="10740" y="10443"/>
                </a:cubicBezTo>
                <a:cubicBezTo>
                  <a:pt x="10740" y="10459"/>
                  <a:pt x="10740" y="10476"/>
                  <a:pt x="10740" y="10492"/>
                </a:cubicBezTo>
                <a:cubicBezTo>
                  <a:pt x="10860" y="10492"/>
                  <a:pt x="10970" y="10481"/>
                  <a:pt x="11088" y="10468"/>
                </a:cubicBezTo>
                <a:cubicBezTo>
                  <a:pt x="11129" y="10468"/>
                  <a:pt x="11137" y="10468"/>
                  <a:pt x="11162" y="10468"/>
                </a:cubicBezTo>
              </a:path>
              <a:path w="3970" h="1018">
                <a:moveTo>
                  <a:pt x="11137" y="10120"/>
                </a:moveTo>
                <a:cubicBezTo>
                  <a:pt x="11094" y="10284"/>
                  <a:pt x="11055" y="10451"/>
                  <a:pt x="11013" y="10616"/>
                </a:cubicBezTo>
                <a:cubicBezTo>
                  <a:pt x="10991" y="10702"/>
                  <a:pt x="10939" y="10952"/>
                  <a:pt x="10939" y="10864"/>
                </a:cubicBezTo>
                <a:cubicBezTo>
                  <a:pt x="10939" y="10848"/>
                  <a:pt x="10939" y="10831"/>
                  <a:pt x="10939" y="10815"/>
                </a:cubicBezTo>
              </a:path>
              <a:path w="3970" h="1018">
                <a:moveTo>
                  <a:pt x="11385" y="10294"/>
                </a:moveTo>
                <a:cubicBezTo>
                  <a:pt x="11483" y="10338"/>
                  <a:pt x="11551" y="10344"/>
                  <a:pt x="11658" y="10344"/>
                </a:cubicBezTo>
                <a:cubicBezTo>
                  <a:pt x="11686" y="10344"/>
                  <a:pt x="11697" y="10346"/>
                  <a:pt x="11708" y="10368"/>
                </a:cubicBezTo>
              </a:path>
              <a:path w="3970" h="1018">
                <a:moveTo>
                  <a:pt x="11410" y="10443"/>
                </a:moveTo>
                <a:cubicBezTo>
                  <a:pt x="11496" y="10457"/>
                  <a:pt x="11582" y="10434"/>
                  <a:pt x="11658" y="10443"/>
                </a:cubicBezTo>
                <a:cubicBezTo>
                  <a:pt x="11722" y="10451"/>
                  <a:pt x="11645" y="10464"/>
                  <a:pt x="11708" y="10443"/>
                </a:cubicBezTo>
              </a:path>
              <a:path w="3970" h="1018">
                <a:moveTo>
                  <a:pt x="12055" y="10170"/>
                </a:moveTo>
                <a:cubicBezTo>
                  <a:pt x="12038" y="10290"/>
                  <a:pt x="11965" y="10416"/>
                  <a:pt x="11931" y="10542"/>
                </a:cubicBezTo>
                <a:cubicBezTo>
                  <a:pt x="11908" y="10630"/>
                  <a:pt x="11883" y="10687"/>
                  <a:pt x="11857" y="10765"/>
                </a:cubicBezTo>
              </a:path>
              <a:path w="3970" h="1018">
                <a:moveTo>
                  <a:pt x="12378" y="10220"/>
                </a:moveTo>
                <a:cubicBezTo>
                  <a:pt x="12359" y="10285"/>
                  <a:pt x="12294" y="10357"/>
                  <a:pt x="12278" y="10418"/>
                </a:cubicBezTo>
                <a:cubicBezTo>
                  <a:pt x="12278" y="10435"/>
                  <a:pt x="12278" y="10451"/>
                  <a:pt x="12278" y="10468"/>
                </a:cubicBezTo>
                <a:cubicBezTo>
                  <a:pt x="12381" y="10468"/>
                  <a:pt x="12475" y="10474"/>
                  <a:pt x="12576" y="10443"/>
                </a:cubicBezTo>
                <a:cubicBezTo>
                  <a:pt x="12637" y="10424"/>
                  <a:pt x="12699" y="10420"/>
                  <a:pt x="12725" y="10368"/>
                </a:cubicBezTo>
              </a:path>
              <a:path w="3970" h="1018">
                <a:moveTo>
                  <a:pt x="12675" y="10046"/>
                </a:moveTo>
                <a:cubicBezTo>
                  <a:pt x="12610" y="10089"/>
                  <a:pt x="12594" y="10319"/>
                  <a:pt x="12576" y="10418"/>
                </a:cubicBezTo>
                <a:cubicBezTo>
                  <a:pt x="12558" y="10517"/>
                  <a:pt x="12526" y="10817"/>
                  <a:pt x="12526" y="10716"/>
                </a:cubicBezTo>
                <a:cubicBezTo>
                  <a:pt x="12526" y="10708"/>
                  <a:pt x="12526" y="10699"/>
                  <a:pt x="12526" y="10691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4040" y="3313080"/>
            <a:ext cx="2573280" cy="946080"/>
          </a:xfrm>
          <a:custGeom>
            <a:avLst/>
            <a:gdLst/>
            <a:ahLst/>
            <a:rect l="l" t="t" r="r" b="b"/>
            <a:pathLst>
              <a:path w="7145" h="2630">
                <a:moveTo>
                  <a:pt x="21977" y="11088"/>
                </a:moveTo>
                <a:cubicBezTo>
                  <a:pt x="22048" y="11141"/>
                  <a:pt x="22148" y="11366"/>
                  <a:pt x="22200" y="11460"/>
                </a:cubicBezTo>
                <a:cubicBezTo>
                  <a:pt x="22262" y="11571"/>
                  <a:pt x="22305" y="11704"/>
                  <a:pt x="22374" y="11807"/>
                </a:cubicBezTo>
              </a:path>
              <a:path w="7145" h="2630">
                <a:moveTo>
                  <a:pt x="22299" y="11038"/>
                </a:moveTo>
                <a:cubicBezTo>
                  <a:pt x="22235" y="11287"/>
                  <a:pt x="22191" y="11541"/>
                  <a:pt x="22101" y="11782"/>
                </a:cubicBezTo>
                <a:cubicBezTo>
                  <a:pt x="22093" y="11799"/>
                  <a:pt x="22084" y="11815"/>
                  <a:pt x="22076" y="11832"/>
                </a:cubicBezTo>
              </a:path>
              <a:path w="7145" h="2630">
                <a:moveTo>
                  <a:pt x="22696" y="11212"/>
                </a:moveTo>
                <a:cubicBezTo>
                  <a:pt x="22813" y="11212"/>
                  <a:pt x="23149" y="11150"/>
                  <a:pt x="23168" y="11261"/>
                </a:cubicBezTo>
              </a:path>
              <a:path w="7145" h="2630">
                <a:moveTo>
                  <a:pt x="22721" y="11509"/>
                </a:moveTo>
                <a:cubicBezTo>
                  <a:pt x="22832" y="11501"/>
                  <a:pt x="22987" y="11515"/>
                  <a:pt x="23093" y="11485"/>
                </a:cubicBezTo>
                <a:cubicBezTo>
                  <a:pt x="23116" y="11462"/>
                  <a:pt x="23124" y="11451"/>
                  <a:pt x="23118" y="11485"/>
                </a:cubicBezTo>
              </a:path>
              <a:path w="7145" h="2630">
                <a:moveTo>
                  <a:pt x="23366" y="10889"/>
                </a:moveTo>
                <a:cubicBezTo>
                  <a:pt x="23450" y="10863"/>
                  <a:pt x="23573" y="10808"/>
                  <a:pt x="23664" y="10840"/>
                </a:cubicBezTo>
                <a:cubicBezTo>
                  <a:pt x="23672" y="10848"/>
                  <a:pt x="23680" y="10856"/>
                  <a:pt x="23688" y="10864"/>
                </a:cubicBezTo>
              </a:path>
              <a:path w="7145" h="2630">
                <a:moveTo>
                  <a:pt x="23862" y="10840"/>
                </a:moveTo>
                <a:cubicBezTo>
                  <a:pt x="23875" y="10788"/>
                  <a:pt x="23915" y="10726"/>
                  <a:pt x="23961" y="10691"/>
                </a:cubicBezTo>
                <a:cubicBezTo>
                  <a:pt x="24023" y="10644"/>
                  <a:pt x="24082" y="10651"/>
                  <a:pt x="24110" y="10716"/>
                </a:cubicBezTo>
                <a:cubicBezTo>
                  <a:pt x="24155" y="10822"/>
                  <a:pt x="24085" y="10871"/>
                  <a:pt x="24036" y="10964"/>
                </a:cubicBezTo>
                <a:cubicBezTo>
                  <a:pt x="23986" y="11059"/>
                  <a:pt x="23904" y="11111"/>
                  <a:pt x="23837" y="11187"/>
                </a:cubicBezTo>
                <a:cubicBezTo>
                  <a:pt x="23756" y="11280"/>
                  <a:pt x="23683" y="11341"/>
                  <a:pt x="23639" y="11460"/>
                </a:cubicBezTo>
                <a:cubicBezTo>
                  <a:pt x="23617" y="11518"/>
                  <a:pt x="23614" y="11532"/>
                  <a:pt x="23614" y="11584"/>
                </a:cubicBezTo>
                <a:cubicBezTo>
                  <a:pt x="23687" y="11555"/>
                  <a:pt x="23741" y="11479"/>
                  <a:pt x="23812" y="11435"/>
                </a:cubicBezTo>
                <a:cubicBezTo>
                  <a:pt x="23869" y="11400"/>
                  <a:pt x="23893" y="11393"/>
                  <a:pt x="23937" y="11361"/>
                </a:cubicBezTo>
                <a:cubicBezTo>
                  <a:pt x="23971" y="11424"/>
                  <a:pt x="24017" y="11556"/>
                  <a:pt x="24110" y="11534"/>
                </a:cubicBezTo>
                <a:cubicBezTo>
                  <a:pt x="24196" y="11514"/>
                  <a:pt x="24196" y="11476"/>
                  <a:pt x="24135" y="11435"/>
                </a:cubicBezTo>
              </a:path>
              <a:path w="7145" h="2630">
                <a:moveTo>
                  <a:pt x="24036" y="10319"/>
                </a:moveTo>
                <a:cubicBezTo>
                  <a:pt x="24021" y="10303"/>
                  <a:pt x="23989" y="10243"/>
                  <a:pt x="23961" y="10220"/>
                </a:cubicBezTo>
                <a:cubicBezTo>
                  <a:pt x="23841" y="10121"/>
                  <a:pt x="23697" y="10020"/>
                  <a:pt x="23564" y="9947"/>
                </a:cubicBezTo>
                <a:cubicBezTo>
                  <a:pt x="23426" y="9871"/>
                  <a:pt x="23262" y="9786"/>
                  <a:pt x="23118" y="9723"/>
                </a:cubicBezTo>
                <a:cubicBezTo>
                  <a:pt x="22975" y="9660"/>
                  <a:pt x="22817" y="9625"/>
                  <a:pt x="22671" y="9575"/>
                </a:cubicBezTo>
                <a:cubicBezTo>
                  <a:pt x="22481" y="9510"/>
                  <a:pt x="22301" y="9480"/>
                  <a:pt x="22101" y="9451"/>
                </a:cubicBezTo>
                <a:cubicBezTo>
                  <a:pt x="21877" y="9419"/>
                  <a:pt x="21654" y="9400"/>
                  <a:pt x="21431" y="9376"/>
                </a:cubicBezTo>
                <a:cubicBezTo>
                  <a:pt x="21255" y="9357"/>
                  <a:pt x="21084" y="9337"/>
                  <a:pt x="20910" y="9302"/>
                </a:cubicBezTo>
                <a:cubicBezTo>
                  <a:pt x="20752" y="9270"/>
                  <a:pt x="20597" y="9271"/>
                  <a:pt x="20439" y="9252"/>
                </a:cubicBezTo>
                <a:cubicBezTo>
                  <a:pt x="20256" y="9229"/>
                  <a:pt x="20077" y="9242"/>
                  <a:pt x="19893" y="9227"/>
                </a:cubicBezTo>
                <a:cubicBezTo>
                  <a:pt x="19622" y="9204"/>
                  <a:pt x="19371" y="9217"/>
                  <a:pt x="19100" y="9227"/>
                </a:cubicBezTo>
                <a:cubicBezTo>
                  <a:pt x="18867" y="9236"/>
                  <a:pt x="18637" y="9263"/>
                  <a:pt x="18405" y="9277"/>
                </a:cubicBezTo>
                <a:cubicBezTo>
                  <a:pt x="18317" y="9282"/>
                  <a:pt x="18210" y="9280"/>
                  <a:pt x="18132" y="9327"/>
                </a:cubicBezTo>
                <a:cubicBezTo>
                  <a:pt x="18046" y="9379"/>
                  <a:pt x="17944" y="9506"/>
                  <a:pt x="17884" y="9575"/>
                </a:cubicBezTo>
                <a:cubicBezTo>
                  <a:pt x="17811" y="9659"/>
                  <a:pt x="17747" y="9727"/>
                  <a:pt x="17661" y="9798"/>
                </a:cubicBezTo>
                <a:cubicBezTo>
                  <a:pt x="17583" y="9862"/>
                  <a:pt x="17499" y="9916"/>
                  <a:pt x="17413" y="9971"/>
                </a:cubicBezTo>
                <a:cubicBezTo>
                  <a:pt x="17367" y="10000"/>
                  <a:pt x="17330" y="10018"/>
                  <a:pt x="17289" y="10046"/>
                </a:cubicBezTo>
                <a:cubicBezTo>
                  <a:pt x="17256" y="10069"/>
                  <a:pt x="17201" y="10106"/>
                  <a:pt x="17165" y="10145"/>
                </a:cubicBezTo>
                <a:cubicBezTo>
                  <a:pt x="17143" y="10169"/>
                  <a:pt x="17111" y="10206"/>
                  <a:pt x="17090" y="10244"/>
                </a:cubicBezTo>
                <a:cubicBezTo>
                  <a:pt x="17064" y="10290"/>
                  <a:pt x="17057" y="10339"/>
                  <a:pt x="17041" y="10393"/>
                </a:cubicBezTo>
                <a:cubicBezTo>
                  <a:pt x="17047" y="10258"/>
                  <a:pt x="17061" y="10151"/>
                  <a:pt x="17090" y="10021"/>
                </a:cubicBezTo>
                <a:cubicBezTo>
                  <a:pt x="17086" y="10148"/>
                  <a:pt x="17081" y="10273"/>
                  <a:pt x="17066" y="10393"/>
                </a:cubicBezTo>
                <a:cubicBezTo>
                  <a:pt x="17158" y="10373"/>
                  <a:pt x="17246" y="10344"/>
                  <a:pt x="17338" y="10319"/>
                </a:cubicBezTo>
                <a:cubicBezTo>
                  <a:pt x="17423" y="10296"/>
                  <a:pt x="17477" y="10289"/>
                  <a:pt x="17562" y="1026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187800"/>
            <a:ext cx="768240" cy="233280"/>
          </a:xfrm>
          <a:custGeom>
            <a:avLst/>
            <a:gdLst/>
            <a:ahLst/>
            <a:rect l="l" t="t" r="r" b="b"/>
            <a:pathLst>
              <a:path w="2134" h="646">
                <a:moveTo>
                  <a:pt x="15602" y="9029"/>
                </a:moveTo>
                <a:cubicBezTo>
                  <a:pt x="15602" y="9021"/>
                  <a:pt x="15602" y="9012"/>
                  <a:pt x="15602" y="9004"/>
                </a:cubicBezTo>
                <a:cubicBezTo>
                  <a:pt x="15664" y="9025"/>
                  <a:pt x="15693" y="9182"/>
                  <a:pt x="15701" y="9252"/>
                </a:cubicBezTo>
                <a:cubicBezTo>
                  <a:pt x="15709" y="9322"/>
                  <a:pt x="15701" y="9403"/>
                  <a:pt x="15701" y="9475"/>
                </a:cubicBezTo>
              </a:path>
              <a:path w="2134" h="646">
                <a:moveTo>
                  <a:pt x="15974" y="9054"/>
                </a:moveTo>
                <a:cubicBezTo>
                  <a:pt x="15956" y="9104"/>
                  <a:pt x="15935" y="9153"/>
                  <a:pt x="15925" y="9203"/>
                </a:cubicBezTo>
                <a:cubicBezTo>
                  <a:pt x="15988" y="9219"/>
                  <a:pt x="16053" y="9214"/>
                  <a:pt x="16123" y="9227"/>
                </a:cubicBezTo>
                <a:cubicBezTo>
                  <a:pt x="16202" y="9242"/>
                  <a:pt x="16211" y="9273"/>
                  <a:pt x="16272" y="9227"/>
                </a:cubicBezTo>
              </a:path>
              <a:path w="2134" h="646">
                <a:moveTo>
                  <a:pt x="16247" y="8979"/>
                </a:moveTo>
                <a:cubicBezTo>
                  <a:pt x="16247" y="9156"/>
                  <a:pt x="16252" y="9326"/>
                  <a:pt x="16272" y="9500"/>
                </a:cubicBezTo>
                <a:cubicBezTo>
                  <a:pt x="16272" y="9492"/>
                  <a:pt x="16272" y="9483"/>
                  <a:pt x="16272" y="9475"/>
                </a:cubicBezTo>
              </a:path>
              <a:path w="2134" h="646">
                <a:moveTo>
                  <a:pt x="16446" y="9277"/>
                </a:moveTo>
                <a:cubicBezTo>
                  <a:pt x="16509" y="9256"/>
                  <a:pt x="16578" y="9234"/>
                  <a:pt x="16644" y="9227"/>
                </a:cubicBezTo>
                <a:cubicBezTo>
                  <a:pt x="16652" y="9227"/>
                  <a:pt x="16661" y="9227"/>
                  <a:pt x="16669" y="9227"/>
                </a:cubicBezTo>
              </a:path>
              <a:path w="2134" h="646">
                <a:moveTo>
                  <a:pt x="17239" y="8855"/>
                </a:moveTo>
                <a:cubicBezTo>
                  <a:pt x="17196" y="8866"/>
                  <a:pt x="17148" y="8907"/>
                  <a:pt x="17115" y="8930"/>
                </a:cubicBezTo>
                <a:cubicBezTo>
                  <a:pt x="17072" y="8959"/>
                  <a:pt x="17066" y="8967"/>
                  <a:pt x="17041" y="8930"/>
                </a:cubicBezTo>
                <a:cubicBezTo>
                  <a:pt x="17002" y="8978"/>
                  <a:pt x="16962" y="9048"/>
                  <a:pt x="16942" y="9103"/>
                </a:cubicBezTo>
                <a:cubicBezTo>
                  <a:pt x="16942" y="9111"/>
                  <a:pt x="16942" y="9120"/>
                  <a:pt x="16942" y="9128"/>
                </a:cubicBezTo>
                <a:cubicBezTo>
                  <a:pt x="17014" y="9128"/>
                  <a:pt x="17134" y="9100"/>
                  <a:pt x="17190" y="9153"/>
                </a:cubicBezTo>
                <a:cubicBezTo>
                  <a:pt x="17280" y="9239"/>
                  <a:pt x="17251" y="9377"/>
                  <a:pt x="17165" y="9451"/>
                </a:cubicBezTo>
                <a:cubicBezTo>
                  <a:pt x="17119" y="9490"/>
                  <a:pt x="16944" y="9553"/>
                  <a:pt x="16917" y="9451"/>
                </a:cubicBezTo>
                <a:cubicBezTo>
                  <a:pt x="16917" y="9426"/>
                  <a:pt x="16917" y="9401"/>
                  <a:pt x="16917" y="9376"/>
                </a:cubicBezTo>
              </a:path>
              <a:path w="2134" h="646">
                <a:moveTo>
                  <a:pt x="17413" y="9079"/>
                </a:moveTo>
                <a:cubicBezTo>
                  <a:pt x="17506" y="9063"/>
                  <a:pt x="17590" y="9033"/>
                  <a:pt x="17686" y="9029"/>
                </a:cubicBezTo>
                <a:cubicBezTo>
                  <a:pt x="17775" y="9025"/>
                  <a:pt x="17731" y="9073"/>
                  <a:pt x="17711" y="9128"/>
                </a:cubicBezTo>
              </a:path>
              <a:path w="2134" h="646">
                <a:moveTo>
                  <a:pt x="17438" y="9227"/>
                </a:moveTo>
                <a:cubicBezTo>
                  <a:pt x="17512" y="9196"/>
                  <a:pt x="17624" y="9194"/>
                  <a:pt x="17711" y="9178"/>
                </a:cubicBezTo>
                <a:cubicBezTo>
                  <a:pt x="17719" y="9178"/>
                  <a:pt x="17727" y="9178"/>
                  <a:pt x="17735" y="9178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45160" y="3143160"/>
            <a:ext cx="125640" cy="250920"/>
          </a:xfrm>
          <a:custGeom>
            <a:avLst/>
            <a:gdLst/>
            <a:ahLst/>
            <a:rect l="l" t="t" r="r" b="b"/>
            <a:pathLst>
              <a:path w="348" h="696">
                <a:moveTo>
                  <a:pt x="18504" y="8855"/>
                </a:moveTo>
                <a:cubicBezTo>
                  <a:pt x="18504" y="8806"/>
                  <a:pt x="18456" y="8747"/>
                  <a:pt x="18405" y="8731"/>
                </a:cubicBezTo>
                <a:cubicBezTo>
                  <a:pt x="18270" y="8689"/>
                  <a:pt x="18199" y="8854"/>
                  <a:pt x="18182" y="8954"/>
                </a:cubicBezTo>
                <a:cubicBezTo>
                  <a:pt x="18182" y="8979"/>
                  <a:pt x="18182" y="9004"/>
                  <a:pt x="18182" y="9029"/>
                </a:cubicBezTo>
                <a:cubicBezTo>
                  <a:pt x="18337" y="9068"/>
                  <a:pt x="18394" y="9029"/>
                  <a:pt x="18479" y="8880"/>
                </a:cubicBezTo>
                <a:cubicBezTo>
                  <a:pt x="18498" y="8823"/>
                  <a:pt x="18489" y="8798"/>
                  <a:pt x="18529" y="8806"/>
                </a:cubicBezTo>
                <a:cubicBezTo>
                  <a:pt x="18529" y="8909"/>
                  <a:pt x="18516" y="9027"/>
                  <a:pt x="18504" y="9128"/>
                </a:cubicBezTo>
                <a:cubicBezTo>
                  <a:pt x="18492" y="9230"/>
                  <a:pt x="18465" y="9326"/>
                  <a:pt x="18455" y="9426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5080" y="3990960"/>
            <a:ext cx="947880" cy="223920"/>
          </a:xfrm>
          <a:custGeom>
            <a:avLst/>
            <a:gdLst/>
            <a:ahLst/>
            <a:rect l="l" t="t" r="r" b="b"/>
            <a:pathLst>
              <a:path w="2630" h="621">
                <a:moveTo>
                  <a:pt x="9004" y="11112"/>
                </a:moveTo>
                <a:cubicBezTo>
                  <a:pt x="8989" y="11258"/>
                  <a:pt x="8963" y="11415"/>
                  <a:pt x="8930" y="11559"/>
                </a:cubicBezTo>
                <a:cubicBezTo>
                  <a:pt x="8914" y="11629"/>
                  <a:pt x="8881" y="11651"/>
                  <a:pt x="8930" y="11683"/>
                </a:cubicBezTo>
              </a:path>
              <a:path w="2630" h="621">
                <a:moveTo>
                  <a:pt x="9500" y="11187"/>
                </a:moveTo>
                <a:cubicBezTo>
                  <a:pt x="9452" y="11168"/>
                  <a:pt x="9351" y="11202"/>
                  <a:pt x="9351" y="11286"/>
                </a:cubicBezTo>
                <a:cubicBezTo>
                  <a:pt x="9351" y="11400"/>
                  <a:pt x="9545" y="11445"/>
                  <a:pt x="9575" y="11559"/>
                </a:cubicBezTo>
                <a:cubicBezTo>
                  <a:pt x="9575" y="11632"/>
                  <a:pt x="9576" y="11656"/>
                  <a:pt x="9525" y="11683"/>
                </a:cubicBezTo>
                <a:cubicBezTo>
                  <a:pt x="9383" y="11644"/>
                  <a:pt x="9374" y="11564"/>
                  <a:pt x="9426" y="11410"/>
                </a:cubicBezTo>
                <a:cubicBezTo>
                  <a:pt x="9451" y="11335"/>
                  <a:pt x="9487" y="11289"/>
                  <a:pt x="9500" y="11212"/>
                </a:cubicBezTo>
              </a:path>
              <a:path w="2630" h="621">
                <a:moveTo>
                  <a:pt x="9823" y="11361"/>
                </a:moveTo>
                <a:cubicBezTo>
                  <a:pt x="9886" y="11377"/>
                  <a:pt x="9951" y="11372"/>
                  <a:pt x="10021" y="11385"/>
                </a:cubicBezTo>
                <a:cubicBezTo>
                  <a:pt x="10079" y="11404"/>
                  <a:pt x="10085" y="11413"/>
                  <a:pt x="10120" y="11410"/>
                </a:cubicBezTo>
              </a:path>
              <a:path w="2630" h="621">
                <a:moveTo>
                  <a:pt x="10468" y="11261"/>
                </a:moveTo>
                <a:cubicBezTo>
                  <a:pt x="10458" y="11313"/>
                  <a:pt x="10404" y="11381"/>
                  <a:pt x="10418" y="11435"/>
                </a:cubicBezTo>
                <a:cubicBezTo>
                  <a:pt x="10441" y="11528"/>
                  <a:pt x="10571" y="11509"/>
                  <a:pt x="10641" y="11485"/>
                </a:cubicBezTo>
                <a:cubicBezTo>
                  <a:pt x="10782" y="11437"/>
                  <a:pt x="10848" y="11323"/>
                  <a:pt x="10815" y="11187"/>
                </a:cubicBezTo>
                <a:cubicBezTo>
                  <a:pt x="10795" y="11146"/>
                  <a:pt x="10786" y="11140"/>
                  <a:pt x="10790" y="11112"/>
                </a:cubicBezTo>
                <a:cubicBezTo>
                  <a:pt x="10790" y="11029"/>
                  <a:pt x="10780" y="11229"/>
                  <a:pt x="10765" y="11311"/>
                </a:cubicBezTo>
                <a:cubicBezTo>
                  <a:pt x="10747" y="11411"/>
                  <a:pt x="10672" y="11614"/>
                  <a:pt x="10691" y="11708"/>
                </a:cubicBezTo>
                <a:cubicBezTo>
                  <a:pt x="10716" y="11708"/>
                  <a:pt x="10724" y="11708"/>
                  <a:pt x="10740" y="11708"/>
                </a:cubicBezTo>
              </a:path>
              <a:path w="2630" h="621">
                <a:moveTo>
                  <a:pt x="11212" y="11336"/>
                </a:moveTo>
                <a:cubicBezTo>
                  <a:pt x="11288" y="11298"/>
                  <a:pt x="11355" y="11303"/>
                  <a:pt x="11435" y="11311"/>
                </a:cubicBezTo>
                <a:cubicBezTo>
                  <a:pt x="11452" y="11311"/>
                  <a:pt x="11468" y="11311"/>
                  <a:pt x="11485" y="11311"/>
                </a:cubicBezTo>
              </a:path>
              <a:path w="2630" h="621">
                <a:moveTo>
                  <a:pt x="11212" y="11485"/>
                </a:moveTo>
                <a:cubicBezTo>
                  <a:pt x="11323" y="11478"/>
                  <a:pt x="11431" y="11470"/>
                  <a:pt x="11534" y="11435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0160" y="3938760"/>
            <a:ext cx="303120" cy="312480"/>
          </a:xfrm>
          <a:custGeom>
            <a:avLst/>
            <a:gdLst/>
            <a:ahLst/>
            <a:rect l="l" t="t" r="r" b="b"/>
            <a:pathLst>
              <a:path w="844" h="869">
                <a:moveTo>
                  <a:pt x="12179" y="11187"/>
                </a:moveTo>
                <a:cubicBezTo>
                  <a:pt x="12129" y="11335"/>
                  <a:pt x="12080" y="11501"/>
                  <a:pt x="12055" y="11658"/>
                </a:cubicBezTo>
                <a:cubicBezTo>
                  <a:pt x="12045" y="11721"/>
                  <a:pt x="12037" y="11754"/>
                  <a:pt x="12080" y="11683"/>
                </a:cubicBezTo>
              </a:path>
              <a:path w="844" h="869">
                <a:moveTo>
                  <a:pt x="12551" y="11237"/>
                </a:moveTo>
                <a:cubicBezTo>
                  <a:pt x="12504" y="11308"/>
                  <a:pt x="12489" y="11329"/>
                  <a:pt x="12477" y="11385"/>
                </a:cubicBezTo>
                <a:cubicBezTo>
                  <a:pt x="12585" y="11439"/>
                  <a:pt x="12658" y="11358"/>
                  <a:pt x="12774" y="11361"/>
                </a:cubicBezTo>
                <a:cubicBezTo>
                  <a:pt x="12840" y="11382"/>
                  <a:pt x="12855" y="11390"/>
                  <a:pt x="12898" y="11385"/>
                </a:cubicBezTo>
              </a:path>
              <a:path w="844" h="869">
                <a:moveTo>
                  <a:pt x="12874" y="10939"/>
                </a:moveTo>
                <a:cubicBezTo>
                  <a:pt x="12822" y="11187"/>
                  <a:pt x="12795" y="11434"/>
                  <a:pt x="12750" y="11683"/>
                </a:cubicBezTo>
                <a:cubicBezTo>
                  <a:pt x="12731" y="11757"/>
                  <a:pt x="12723" y="11764"/>
                  <a:pt x="12725" y="11807"/>
                </a:cubicBezTo>
              </a:path>
            </a:pathLst>
          </a:custGeom>
          <a:noFill/>
          <a:ln cap="rnd" w="34920">
            <a:solidFill>
              <a:srgbClr val="00b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59680" y="3714840"/>
            <a:ext cx="357120" cy="509400"/>
          </a:xfrm>
          <a:custGeom>
            <a:avLst/>
            <a:gdLst/>
            <a:ahLst/>
            <a:rect l="l" t="t" r="r" b="b"/>
            <a:pathLst>
              <a:path w="993" h="1415">
                <a:moveTo>
                  <a:pt x="17512" y="11336"/>
                </a:moveTo>
                <a:cubicBezTo>
                  <a:pt x="17573" y="11356"/>
                  <a:pt x="17551" y="11446"/>
                  <a:pt x="17562" y="11509"/>
                </a:cubicBezTo>
                <a:cubicBezTo>
                  <a:pt x="17579" y="11606"/>
                  <a:pt x="17572" y="11640"/>
                  <a:pt x="17562" y="11733"/>
                </a:cubicBezTo>
              </a:path>
              <a:path w="993" h="1415">
                <a:moveTo>
                  <a:pt x="17462" y="11584"/>
                </a:moveTo>
                <a:cubicBezTo>
                  <a:pt x="17557" y="11521"/>
                  <a:pt x="17646" y="11534"/>
                  <a:pt x="17760" y="11534"/>
                </a:cubicBezTo>
                <a:cubicBezTo>
                  <a:pt x="17768" y="11534"/>
                  <a:pt x="17777" y="11534"/>
                  <a:pt x="17785" y="11534"/>
                </a:cubicBezTo>
              </a:path>
              <a:path w="993" h="1415">
                <a:moveTo>
                  <a:pt x="18256" y="11237"/>
                </a:moveTo>
                <a:cubicBezTo>
                  <a:pt x="18181" y="11237"/>
                  <a:pt x="18133" y="11246"/>
                  <a:pt x="18058" y="11237"/>
                </a:cubicBezTo>
                <a:cubicBezTo>
                  <a:pt x="18050" y="11237"/>
                  <a:pt x="18041" y="11237"/>
                  <a:pt x="18033" y="11237"/>
                </a:cubicBezTo>
                <a:cubicBezTo>
                  <a:pt x="18020" y="11314"/>
                  <a:pt x="17989" y="11382"/>
                  <a:pt x="17983" y="11460"/>
                </a:cubicBezTo>
                <a:cubicBezTo>
                  <a:pt x="17983" y="11468"/>
                  <a:pt x="17983" y="11477"/>
                  <a:pt x="17983" y="11485"/>
                </a:cubicBezTo>
                <a:cubicBezTo>
                  <a:pt x="18045" y="11473"/>
                  <a:pt x="18118" y="11408"/>
                  <a:pt x="18182" y="11410"/>
                </a:cubicBezTo>
                <a:cubicBezTo>
                  <a:pt x="18282" y="11414"/>
                  <a:pt x="18344" y="11519"/>
                  <a:pt x="18306" y="11609"/>
                </a:cubicBezTo>
                <a:cubicBezTo>
                  <a:pt x="18267" y="11701"/>
                  <a:pt x="18099" y="11754"/>
                  <a:pt x="18008" y="11708"/>
                </a:cubicBezTo>
                <a:cubicBezTo>
                  <a:pt x="18008" y="11700"/>
                  <a:pt x="18008" y="11691"/>
                  <a:pt x="18008" y="11683"/>
                </a:cubicBezTo>
              </a:path>
              <a:path w="993" h="1415">
                <a:moveTo>
                  <a:pt x="17388" y="10542"/>
                </a:moveTo>
                <a:cubicBezTo>
                  <a:pt x="17553" y="10740"/>
                  <a:pt x="17737" y="10920"/>
                  <a:pt x="17909" y="11112"/>
                </a:cubicBezTo>
                <a:cubicBezTo>
                  <a:pt x="18041" y="11260"/>
                  <a:pt x="18168" y="11424"/>
                  <a:pt x="18281" y="11584"/>
                </a:cubicBezTo>
                <a:cubicBezTo>
                  <a:pt x="18331" y="11655"/>
                  <a:pt x="18343" y="11657"/>
                  <a:pt x="18281" y="11609"/>
                </a:cubicBezTo>
              </a:path>
              <a:path w="993" h="1415">
                <a:moveTo>
                  <a:pt x="18380" y="10344"/>
                </a:moveTo>
                <a:cubicBezTo>
                  <a:pt x="18260" y="10296"/>
                  <a:pt x="18294" y="10391"/>
                  <a:pt x="18231" y="10492"/>
                </a:cubicBezTo>
                <a:cubicBezTo>
                  <a:pt x="18064" y="10758"/>
                  <a:pt x="17893" y="11024"/>
                  <a:pt x="17686" y="11261"/>
                </a:cubicBezTo>
                <a:cubicBezTo>
                  <a:pt x="17599" y="11361"/>
                  <a:pt x="17518" y="11456"/>
                  <a:pt x="17438" y="11559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92920" y="4054320"/>
            <a:ext cx="277920" cy="177840"/>
          </a:xfrm>
          <a:custGeom>
            <a:avLst/>
            <a:gdLst/>
            <a:ahLst/>
            <a:rect l="l" t="t" r="r" b="b"/>
            <a:pathLst>
              <a:path w="770" h="497">
                <a:moveTo>
                  <a:pt x="19248" y="11385"/>
                </a:moveTo>
                <a:cubicBezTo>
                  <a:pt x="19248" y="11476"/>
                  <a:pt x="19248" y="11567"/>
                  <a:pt x="19248" y="11658"/>
                </a:cubicBezTo>
              </a:path>
              <a:path w="770" h="497">
                <a:moveTo>
                  <a:pt x="19149" y="11584"/>
                </a:moveTo>
                <a:cubicBezTo>
                  <a:pt x="19228" y="11558"/>
                  <a:pt x="19312" y="11540"/>
                  <a:pt x="19397" y="11534"/>
                </a:cubicBezTo>
                <a:cubicBezTo>
                  <a:pt x="19405" y="11534"/>
                  <a:pt x="19414" y="11534"/>
                  <a:pt x="19422" y="11534"/>
                </a:cubicBezTo>
              </a:path>
              <a:path w="770" h="497">
                <a:moveTo>
                  <a:pt x="19844" y="11261"/>
                </a:moveTo>
                <a:cubicBezTo>
                  <a:pt x="19770" y="11261"/>
                  <a:pt x="19695" y="11261"/>
                  <a:pt x="19621" y="11261"/>
                </a:cubicBezTo>
                <a:cubicBezTo>
                  <a:pt x="19621" y="11337"/>
                  <a:pt x="19613" y="11398"/>
                  <a:pt x="19596" y="11460"/>
                </a:cubicBezTo>
                <a:cubicBezTo>
                  <a:pt x="19596" y="11485"/>
                  <a:pt x="19596" y="11493"/>
                  <a:pt x="19596" y="11509"/>
                </a:cubicBezTo>
                <a:cubicBezTo>
                  <a:pt x="19676" y="11493"/>
                  <a:pt x="19756" y="11468"/>
                  <a:pt x="19844" y="11485"/>
                </a:cubicBezTo>
                <a:cubicBezTo>
                  <a:pt x="19950" y="11506"/>
                  <a:pt x="19937" y="11653"/>
                  <a:pt x="19869" y="11708"/>
                </a:cubicBezTo>
                <a:cubicBezTo>
                  <a:pt x="19782" y="11779"/>
                  <a:pt x="19657" y="11769"/>
                  <a:pt x="19596" y="11708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6040" y="4394160"/>
            <a:ext cx="2349720" cy="1347840"/>
          </a:xfrm>
          <a:custGeom>
            <a:avLst/>
            <a:gdLst/>
            <a:ahLst/>
            <a:rect l="l" t="t" r="r" b="b"/>
            <a:pathLst>
              <a:path w="6525" h="3746">
                <a:moveTo>
                  <a:pt x="1240" y="12477"/>
                </a:moveTo>
                <a:cubicBezTo>
                  <a:pt x="1529" y="12477"/>
                  <a:pt x="1825" y="12494"/>
                  <a:pt x="2108" y="12452"/>
                </a:cubicBezTo>
                <a:cubicBezTo>
                  <a:pt x="2212" y="12436"/>
                  <a:pt x="2327" y="12409"/>
                  <a:pt x="2431" y="12402"/>
                </a:cubicBezTo>
                <a:cubicBezTo>
                  <a:pt x="2532" y="12395"/>
                  <a:pt x="2630" y="12396"/>
                  <a:pt x="2729" y="12378"/>
                </a:cubicBezTo>
                <a:cubicBezTo>
                  <a:pt x="2810" y="12363"/>
                  <a:pt x="2892" y="12338"/>
                  <a:pt x="2977" y="12328"/>
                </a:cubicBezTo>
                <a:cubicBezTo>
                  <a:pt x="3110" y="12313"/>
                  <a:pt x="3238" y="12303"/>
                  <a:pt x="3373" y="12303"/>
                </a:cubicBezTo>
                <a:cubicBezTo>
                  <a:pt x="3583" y="12303"/>
                  <a:pt x="3790" y="12290"/>
                  <a:pt x="3994" y="12278"/>
                </a:cubicBezTo>
                <a:cubicBezTo>
                  <a:pt x="4100" y="12272"/>
                  <a:pt x="4224" y="12292"/>
                  <a:pt x="4341" y="12278"/>
                </a:cubicBezTo>
                <a:cubicBezTo>
                  <a:pt x="4562" y="12252"/>
                  <a:pt x="4788" y="12234"/>
                  <a:pt x="5011" y="12229"/>
                </a:cubicBezTo>
                <a:cubicBezTo>
                  <a:pt x="5195" y="12225"/>
                  <a:pt x="5373" y="12208"/>
                  <a:pt x="5556" y="12204"/>
                </a:cubicBezTo>
                <a:cubicBezTo>
                  <a:pt x="5678" y="12201"/>
                  <a:pt x="5786" y="12213"/>
                  <a:pt x="5904" y="12229"/>
                </a:cubicBezTo>
                <a:cubicBezTo>
                  <a:pt x="6019" y="12245"/>
                  <a:pt x="6135" y="12238"/>
                  <a:pt x="6251" y="12254"/>
                </a:cubicBezTo>
                <a:cubicBezTo>
                  <a:pt x="6377" y="12271"/>
                  <a:pt x="6494" y="12278"/>
                  <a:pt x="6623" y="12278"/>
                </a:cubicBezTo>
                <a:cubicBezTo>
                  <a:pt x="6724" y="12278"/>
                  <a:pt x="6887" y="12247"/>
                  <a:pt x="6970" y="12254"/>
                </a:cubicBezTo>
                <a:cubicBezTo>
                  <a:pt x="6978" y="12262"/>
                  <a:pt x="6987" y="12270"/>
                  <a:pt x="6995" y="12278"/>
                </a:cubicBezTo>
              </a:path>
              <a:path w="6525" h="3746">
                <a:moveTo>
                  <a:pt x="2555" y="15850"/>
                </a:moveTo>
                <a:cubicBezTo>
                  <a:pt x="2713" y="15855"/>
                  <a:pt x="2871" y="15850"/>
                  <a:pt x="3026" y="15875"/>
                </a:cubicBezTo>
                <a:cubicBezTo>
                  <a:pt x="3175" y="15899"/>
                  <a:pt x="3321" y="15922"/>
                  <a:pt x="3473" y="15925"/>
                </a:cubicBezTo>
                <a:cubicBezTo>
                  <a:pt x="3650" y="15929"/>
                  <a:pt x="3820" y="15935"/>
                  <a:pt x="3994" y="15949"/>
                </a:cubicBezTo>
                <a:cubicBezTo>
                  <a:pt x="4288" y="15973"/>
                  <a:pt x="4597" y="15948"/>
                  <a:pt x="4887" y="15925"/>
                </a:cubicBezTo>
                <a:cubicBezTo>
                  <a:pt x="5019" y="15914"/>
                  <a:pt x="5153" y="15911"/>
                  <a:pt x="5283" y="15900"/>
                </a:cubicBezTo>
                <a:cubicBezTo>
                  <a:pt x="5425" y="15888"/>
                  <a:pt x="5566" y="15881"/>
                  <a:pt x="5705" y="15850"/>
                </a:cubicBezTo>
                <a:cubicBezTo>
                  <a:pt x="5838" y="15820"/>
                  <a:pt x="5965" y="15825"/>
                  <a:pt x="6102" y="15825"/>
                </a:cubicBezTo>
                <a:cubicBezTo>
                  <a:pt x="6244" y="15825"/>
                  <a:pt x="6380" y="15801"/>
                  <a:pt x="6524" y="15801"/>
                </a:cubicBezTo>
                <a:cubicBezTo>
                  <a:pt x="6684" y="15801"/>
                  <a:pt x="6838" y="15764"/>
                  <a:pt x="6995" y="15751"/>
                </a:cubicBezTo>
                <a:cubicBezTo>
                  <a:pt x="7158" y="15738"/>
                  <a:pt x="7331" y="15737"/>
                  <a:pt x="7491" y="15726"/>
                </a:cubicBezTo>
                <a:cubicBezTo>
                  <a:pt x="7593" y="15719"/>
                  <a:pt x="7680" y="15731"/>
                  <a:pt x="7764" y="1575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68960" y="4232160"/>
            <a:ext cx="2500200" cy="1911600"/>
          </a:xfrm>
          <a:custGeom>
            <a:avLst/>
            <a:gdLst/>
            <a:ahLst/>
            <a:rect l="l" t="t" r="r" b="b"/>
            <a:pathLst>
              <a:path w="6946" h="5310">
                <a:moveTo>
                  <a:pt x="15230" y="11807"/>
                </a:moveTo>
                <a:cubicBezTo>
                  <a:pt x="15363" y="11786"/>
                  <a:pt x="15489" y="11760"/>
                  <a:pt x="15627" y="11757"/>
                </a:cubicBezTo>
                <a:cubicBezTo>
                  <a:pt x="15829" y="11752"/>
                  <a:pt x="16023" y="11767"/>
                  <a:pt x="16222" y="11782"/>
                </a:cubicBezTo>
                <a:cubicBezTo>
                  <a:pt x="16356" y="11792"/>
                  <a:pt x="16487" y="11788"/>
                  <a:pt x="16619" y="11807"/>
                </a:cubicBezTo>
                <a:cubicBezTo>
                  <a:pt x="16702" y="11819"/>
                  <a:pt x="16795" y="11840"/>
                  <a:pt x="16867" y="11857"/>
                </a:cubicBezTo>
                <a:cubicBezTo>
                  <a:pt x="16934" y="11873"/>
                  <a:pt x="17025" y="11902"/>
                  <a:pt x="17090" y="11906"/>
                </a:cubicBezTo>
                <a:cubicBezTo>
                  <a:pt x="17215" y="11914"/>
                  <a:pt x="17338" y="11924"/>
                  <a:pt x="17462" y="11931"/>
                </a:cubicBezTo>
                <a:cubicBezTo>
                  <a:pt x="17561" y="11936"/>
                  <a:pt x="17665" y="11951"/>
                  <a:pt x="17760" y="11956"/>
                </a:cubicBezTo>
                <a:cubicBezTo>
                  <a:pt x="18065" y="11973"/>
                  <a:pt x="18376" y="11954"/>
                  <a:pt x="18678" y="11931"/>
                </a:cubicBezTo>
                <a:cubicBezTo>
                  <a:pt x="18829" y="11919"/>
                  <a:pt x="19029" y="11899"/>
                  <a:pt x="19174" y="11906"/>
                </a:cubicBezTo>
                <a:cubicBezTo>
                  <a:pt x="19289" y="11911"/>
                  <a:pt x="19402" y="11931"/>
                  <a:pt x="19521" y="11931"/>
                </a:cubicBezTo>
                <a:cubicBezTo>
                  <a:pt x="19673" y="11931"/>
                  <a:pt x="19818" y="11915"/>
                  <a:pt x="19968" y="11906"/>
                </a:cubicBezTo>
                <a:cubicBezTo>
                  <a:pt x="20156" y="11895"/>
                  <a:pt x="20351" y="11901"/>
                  <a:pt x="20538" y="11881"/>
                </a:cubicBezTo>
                <a:cubicBezTo>
                  <a:pt x="20720" y="11862"/>
                  <a:pt x="20903" y="11853"/>
                  <a:pt x="21084" y="11832"/>
                </a:cubicBezTo>
                <a:cubicBezTo>
                  <a:pt x="21239" y="11814"/>
                  <a:pt x="21373" y="11786"/>
                  <a:pt x="21530" y="11782"/>
                </a:cubicBezTo>
                <a:cubicBezTo>
                  <a:pt x="21555" y="11782"/>
                  <a:pt x="21563" y="11782"/>
                  <a:pt x="21580" y="11782"/>
                </a:cubicBezTo>
              </a:path>
              <a:path w="6946" h="5310">
                <a:moveTo>
                  <a:pt x="14635" y="16842"/>
                </a:moveTo>
                <a:cubicBezTo>
                  <a:pt x="14843" y="16836"/>
                  <a:pt x="15047" y="16820"/>
                  <a:pt x="15255" y="16818"/>
                </a:cubicBezTo>
                <a:cubicBezTo>
                  <a:pt x="15828" y="16811"/>
                  <a:pt x="16399" y="16805"/>
                  <a:pt x="16966" y="16867"/>
                </a:cubicBezTo>
                <a:cubicBezTo>
                  <a:pt x="17365" y="16910"/>
                  <a:pt x="17757" y="16980"/>
                  <a:pt x="18157" y="17016"/>
                </a:cubicBezTo>
                <a:cubicBezTo>
                  <a:pt x="18591" y="17055"/>
                  <a:pt x="19012" y="17061"/>
                  <a:pt x="19447" y="17041"/>
                </a:cubicBezTo>
                <a:cubicBezTo>
                  <a:pt x="19904" y="17020"/>
                  <a:pt x="20356" y="16959"/>
                  <a:pt x="20811" y="16917"/>
                </a:cubicBezTo>
                <a:cubicBezTo>
                  <a:pt x="21061" y="16894"/>
                  <a:pt x="21305" y="16874"/>
                  <a:pt x="21555" y="16867"/>
                </a:cubicBezTo>
              </a:path>
            </a:pathLst>
          </a:custGeom>
          <a:noFill/>
          <a:ln cap="rnd"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240" y="4224240"/>
            <a:ext cx="3679920" cy="901800"/>
          </a:xfrm>
          <a:custGeom>
            <a:avLst/>
            <a:gdLst/>
            <a:ahLst/>
            <a:rect l="l" t="t" r="r" b="b"/>
            <a:pathLst>
              <a:path w="10221" h="2506">
                <a:moveTo>
                  <a:pt x="3944" y="12948"/>
                </a:moveTo>
                <a:cubicBezTo>
                  <a:pt x="3974" y="13037"/>
                  <a:pt x="4041" y="13095"/>
                  <a:pt x="4093" y="13171"/>
                </a:cubicBezTo>
                <a:cubicBezTo>
                  <a:pt x="4126" y="13219"/>
                  <a:pt x="4127" y="13233"/>
                  <a:pt x="4167" y="13246"/>
                </a:cubicBezTo>
              </a:path>
              <a:path w="10221" h="2506">
                <a:moveTo>
                  <a:pt x="4217" y="12923"/>
                </a:moveTo>
                <a:cubicBezTo>
                  <a:pt x="4199" y="13012"/>
                  <a:pt x="4153" y="13102"/>
                  <a:pt x="4142" y="13196"/>
                </a:cubicBezTo>
                <a:cubicBezTo>
                  <a:pt x="4128" y="13319"/>
                  <a:pt x="4154" y="13448"/>
                  <a:pt x="4118" y="13568"/>
                </a:cubicBezTo>
                <a:cubicBezTo>
                  <a:pt x="4115" y="13578"/>
                  <a:pt x="4068" y="13672"/>
                  <a:pt x="4093" y="13692"/>
                </a:cubicBezTo>
                <a:cubicBezTo>
                  <a:pt x="4101" y="13692"/>
                  <a:pt x="4110" y="13692"/>
                  <a:pt x="4118" y="13692"/>
                </a:cubicBezTo>
              </a:path>
              <a:path w="10221" h="2506">
                <a:moveTo>
                  <a:pt x="4738" y="12700"/>
                </a:moveTo>
                <a:cubicBezTo>
                  <a:pt x="4817" y="12700"/>
                  <a:pt x="4859" y="12669"/>
                  <a:pt x="4936" y="12650"/>
                </a:cubicBezTo>
                <a:cubicBezTo>
                  <a:pt x="4944" y="12650"/>
                  <a:pt x="4953" y="12650"/>
                  <a:pt x="4961" y="12650"/>
                </a:cubicBezTo>
              </a:path>
              <a:path w="10221" h="2506">
                <a:moveTo>
                  <a:pt x="4787" y="12874"/>
                </a:moveTo>
                <a:cubicBezTo>
                  <a:pt x="4857" y="12874"/>
                  <a:pt x="4919" y="12880"/>
                  <a:pt x="4986" y="12849"/>
                </a:cubicBezTo>
                <a:cubicBezTo>
                  <a:pt x="5008" y="12827"/>
                  <a:pt x="5013" y="12818"/>
                  <a:pt x="5035" y="12824"/>
                </a:cubicBezTo>
              </a:path>
              <a:path w="10221" h="2506">
                <a:moveTo>
                  <a:pt x="5606" y="12378"/>
                </a:moveTo>
                <a:cubicBezTo>
                  <a:pt x="5606" y="12480"/>
                  <a:pt x="5589" y="12574"/>
                  <a:pt x="5581" y="12675"/>
                </a:cubicBezTo>
                <a:cubicBezTo>
                  <a:pt x="5581" y="12774"/>
                  <a:pt x="5581" y="12808"/>
                  <a:pt x="5581" y="12874"/>
                </a:cubicBezTo>
              </a:path>
              <a:path w="10221" h="2506">
                <a:moveTo>
                  <a:pt x="6350" y="12526"/>
                </a:moveTo>
                <a:cubicBezTo>
                  <a:pt x="6342" y="12502"/>
                  <a:pt x="6265" y="12474"/>
                  <a:pt x="6226" y="12477"/>
                </a:cubicBezTo>
                <a:cubicBezTo>
                  <a:pt x="6137" y="12483"/>
                  <a:pt x="6021" y="12490"/>
                  <a:pt x="5953" y="12551"/>
                </a:cubicBezTo>
                <a:cubicBezTo>
                  <a:pt x="5945" y="12559"/>
                  <a:pt x="5936" y="12568"/>
                  <a:pt x="5928" y="12576"/>
                </a:cubicBezTo>
                <a:cubicBezTo>
                  <a:pt x="5928" y="12660"/>
                  <a:pt x="5965" y="12691"/>
                  <a:pt x="6052" y="12725"/>
                </a:cubicBezTo>
                <a:cubicBezTo>
                  <a:pt x="6123" y="12753"/>
                  <a:pt x="6283" y="12753"/>
                  <a:pt x="6276" y="12874"/>
                </a:cubicBezTo>
                <a:cubicBezTo>
                  <a:pt x="6272" y="12940"/>
                  <a:pt x="6155" y="13000"/>
                  <a:pt x="6102" y="12998"/>
                </a:cubicBezTo>
                <a:cubicBezTo>
                  <a:pt x="6000" y="12994"/>
                  <a:pt x="5977" y="12896"/>
                  <a:pt x="6028" y="12824"/>
                </a:cubicBezTo>
                <a:cubicBezTo>
                  <a:pt x="6085" y="12744"/>
                  <a:pt x="6192" y="12767"/>
                  <a:pt x="6251" y="12700"/>
                </a:cubicBezTo>
                <a:cubicBezTo>
                  <a:pt x="6277" y="12671"/>
                  <a:pt x="6298" y="12641"/>
                  <a:pt x="6300" y="12601"/>
                </a:cubicBezTo>
                <a:cubicBezTo>
                  <a:pt x="6304" y="12533"/>
                  <a:pt x="6283" y="12538"/>
                  <a:pt x="6226" y="12526"/>
                </a:cubicBezTo>
              </a:path>
              <a:path w="10221" h="2506">
                <a:moveTo>
                  <a:pt x="3249" y="13568"/>
                </a:moveTo>
                <a:cubicBezTo>
                  <a:pt x="3255" y="13585"/>
                  <a:pt x="3296" y="13615"/>
                  <a:pt x="3324" y="13618"/>
                </a:cubicBezTo>
                <a:cubicBezTo>
                  <a:pt x="3510" y="13641"/>
                  <a:pt x="3708" y="13625"/>
                  <a:pt x="3894" y="13643"/>
                </a:cubicBezTo>
                <a:cubicBezTo>
                  <a:pt x="3974" y="13651"/>
                  <a:pt x="4036" y="13621"/>
                  <a:pt x="4068" y="13643"/>
                </a:cubicBezTo>
              </a:path>
              <a:path w="10221" h="2506">
                <a:moveTo>
                  <a:pt x="5383" y="13196"/>
                </a:moveTo>
                <a:cubicBezTo>
                  <a:pt x="5493" y="13260"/>
                  <a:pt x="5627" y="13249"/>
                  <a:pt x="5755" y="13271"/>
                </a:cubicBezTo>
                <a:cubicBezTo>
                  <a:pt x="5844" y="13287"/>
                  <a:pt x="6011" y="13356"/>
                  <a:pt x="6102" y="13345"/>
                </a:cubicBezTo>
                <a:cubicBezTo>
                  <a:pt x="6139" y="13340"/>
                  <a:pt x="6174" y="13345"/>
                  <a:pt x="6226" y="13345"/>
                </a:cubicBezTo>
              </a:path>
              <a:path w="10221" h="2506">
                <a:moveTo>
                  <a:pt x="4068" y="13717"/>
                </a:moveTo>
                <a:cubicBezTo>
                  <a:pt x="4037" y="13675"/>
                  <a:pt x="3937" y="13613"/>
                  <a:pt x="3870" y="13667"/>
                </a:cubicBezTo>
                <a:cubicBezTo>
                  <a:pt x="3798" y="13726"/>
                  <a:pt x="3783" y="13811"/>
                  <a:pt x="3770" y="13891"/>
                </a:cubicBezTo>
                <a:cubicBezTo>
                  <a:pt x="3887" y="13923"/>
                  <a:pt x="3946" y="13866"/>
                  <a:pt x="4018" y="13767"/>
                </a:cubicBezTo>
                <a:cubicBezTo>
                  <a:pt x="4035" y="13742"/>
                  <a:pt x="4051" y="13717"/>
                  <a:pt x="4068" y="13692"/>
                </a:cubicBezTo>
                <a:cubicBezTo>
                  <a:pt x="4068" y="13824"/>
                  <a:pt x="4068" y="13957"/>
                  <a:pt x="4068" y="14089"/>
                </a:cubicBezTo>
              </a:path>
              <a:path w="10221" h="2506">
                <a:moveTo>
                  <a:pt x="5904" y="13519"/>
                </a:moveTo>
                <a:cubicBezTo>
                  <a:pt x="5893" y="13475"/>
                  <a:pt x="5863" y="13453"/>
                  <a:pt x="5829" y="13419"/>
                </a:cubicBezTo>
                <a:cubicBezTo>
                  <a:pt x="5729" y="13500"/>
                  <a:pt x="5716" y="13537"/>
                  <a:pt x="5705" y="13667"/>
                </a:cubicBezTo>
                <a:cubicBezTo>
                  <a:pt x="5822" y="13644"/>
                  <a:pt x="5838" y="13584"/>
                  <a:pt x="5904" y="13494"/>
                </a:cubicBezTo>
                <a:cubicBezTo>
                  <a:pt x="5912" y="13486"/>
                  <a:pt x="5920" y="13477"/>
                  <a:pt x="5928" y="13469"/>
                </a:cubicBezTo>
                <a:cubicBezTo>
                  <a:pt x="5939" y="13578"/>
                  <a:pt x="5953" y="13680"/>
                  <a:pt x="5953" y="13791"/>
                </a:cubicBezTo>
                <a:cubicBezTo>
                  <a:pt x="5953" y="13833"/>
                  <a:pt x="5961" y="13849"/>
                  <a:pt x="5928" y="13841"/>
                </a:cubicBezTo>
              </a:path>
              <a:path w="10221" h="2506">
                <a:moveTo>
                  <a:pt x="3448" y="12626"/>
                </a:moveTo>
                <a:cubicBezTo>
                  <a:pt x="3462" y="12682"/>
                  <a:pt x="3461" y="12668"/>
                  <a:pt x="3473" y="12725"/>
                </a:cubicBezTo>
                <a:cubicBezTo>
                  <a:pt x="3497" y="12841"/>
                  <a:pt x="3556" y="12954"/>
                  <a:pt x="3572" y="13072"/>
                </a:cubicBezTo>
                <a:cubicBezTo>
                  <a:pt x="3586" y="13174"/>
                  <a:pt x="3597" y="13265"/>
                  <a:pt x="3597" y="13370"/>
                </a:cubicBezTo>
                <a:cubicBezTo>
                  <a:pt x="3597" y="13491"/>
                  <a:pt x="3607" y="13604"/>
                  <a:pt x="3621" y="13717"/>
                </a:cubicBezTo>
                <a:cubicBezTo>
                  <a:pt x="3631" y="13793"/>
                  <a:pt x="3636" y="13866"/>
                  <a:pt x="3646" y="13940"/>
                </a:cubicBezTo>
                <a:cubicBezTo>
                  <a:pt x="3652" y="13983"/>
                  <a:pt x="3656" y="14024"/>
                  <a:pt x="3671" y="14064"/>
                </a:cubicBezTo>
                <a:cubicBezTo>
                  <a:pt x="3689" y="14111"/>
                  <a:pt x="3681" y="14154"/>
                  <a:pt x="3696" y="14139"/>
                </a:cubicBezTo>
                <a:cubicBezTo>
                  <a:pt x="3704" y="14122"/>
                  <a:pt x="3713" y="14106"/>
                  <a:pt x="3721" y="14089"/>
                </a:cubicBezTo>
              </a:path>
              <a:path w="10221" h="2506">
                <a:moveTo>
                  <a:pt x="8682" y="12849"/>
                </a:moveTo>
                <a:cubicBezTo>
                  <a:pt x="8701" y="12949"/>
                  <a:pt x="8784" y="13052"/>
                  <a:pt x="8830" y="13146"/>
                </a:cubicBezTo>
                <a:cubicBezTo>
                  <a:pt x="8876" y="13240"/>
                  <a:pt x="8880" y="13250"/>
                  <a:pt x="8880" y="13345"/>
                </a:cubicBezTo>
              </a:path>
              <a:path w="10221" h="2506">
                <a:moveTo>
                  <a:pt x="9004" y="12824"/>
                </a:moveTo>
                <a:cubicBezTo>
                  <a:pt x="8922" y="13022"/>
                  <a:pt x="8863" y="13213"/>
                  <a:pt x="8806" y="13419"/>
                </a:cubicBezTo>
                <a:cubicBezTo>
                  <a:pt x="8782" y="13507"/>
                  <a:pt x="8672" y="13766"/>
                  <a:pt x="8706" y="13767"/>
                </a:cubicBezTo>
              </a:path>
              <a:path w="10221" h="2506">
                <a:moveTo>
                  <a:pt x="9401" y="12948"/>
                </a:moveTo>
                <a:cubicBezTo>
                  <a:pt x="9415" y="12926"/>
                  <a:pt x="9524" y="12875"/>
                  <a:pt x="9575" y="12898"/>
                </a:cubicBezTo>
                <a:cubicBezTo>
                  <a:pt x="9575" y="12906"/>
                  <a:pt x="9575" y="12915"/>
                  <a:pt x="9575" y="12923"/>
                </a:cubicBezTo>
              </a:path>
              <a:path w="10221" h="2506">
                <a:moveTo>
                  <a:pt x="9302" y="13171"/>
                </a:moveTo>
                <a:cubicBezTo>
                  <a:pt x="9376" y="13171"/>
                  <a:pt x="9451" y="13171"/>
                  <a:pt x="9525" y="13171"/>
                </a:cubicBezTo>
              </a:path>
              <a:path w="10221" h="2506">
                <a:moveTo>
                  <a:pt x="10294" y="12675"/>
                </a:moveTo>
                <a:cubicBezTo>
                  <a:pt x="10252" y="12654"/>
                  <a:pt x="10329" y="12622"/>
                  <a:pt x="10368" y="12601"/>
                </a:cubicBezTo>
                <a:cubicBezTo>
                  <a:pt x="10407" y="12580"/>
                  <a:pt x="10430" y="12561"/>
                  <a:pt x="10468" y="12551"/>
                </a:cubicBezTo>
                <a:cubicBezTo>
                  <a:pt x="10540" y="12662"/>
                  <a:pt x="10511" y="12761"/>
                  <a:pt x="10443" y="12874"/>
                </a:cubicBezTo>
                <a:cubicBezTo>
                  <a:pt x="10361" y="13012"/>
                  <a:pt x="10221" y="13106"/>
                  <a:pt x="10120" y="13221"/>
                </a:cubicBezTo>
                <a:cubicBezTo>
                  <a:pt x="10070" y="13278"/>
                  <a:pt x="10052" y="13351"/>
                  <a:pt x="10021" y="13419"/>
                </a:cubicBezTo>
                <a:cubicBezTo>
                  <a:pt x="10096" y="13373"/>
                  <a:pt x="10167" y="13309"/>
                  <a:pt x="10244" y="13271"/>
                </a:cubicBezTo>
                <a:cubicBezTo>
                  <a:pt x="10287" y="13250"/>
                  <a:pt x="10389" y="13346"/>
                  <a:pt x="10418" y="13370"/>
                </a:cubicBezTo>
                <a:cubicBezTo>
                  <a:pt x="10529" y="13461"/>
                  <a:pt x="10594" y="13452"/>
                  <a:pt x="10716" y="13370"/>
                </a:cubicBezTo>
                <a:cubicBezTo>
                  <a:pt x="10724" y="13362"/>
                  <a:pt x="10732" y="13353"/>
                  <a:pt x="10740" y="13345"/>
                </a:cubicBezTo>
              </a:path>
              <a:path w="10221" h="2506">
                <a:moveTo>
                  <a:pt x="10071" y="13667"/>
                </a:moveTo>
                <a:cubicBezTo>
                  <a:pt x="10036" y="13757"/>
                  <a:pt x="10032" y="13856"/>
                  <a:pt x="9971" y="13940"/>
                </a:cubicBezTo>
                <a:cubicBezTo>
                  <a:pt x="9867" y="14083"/>
                  <a:pt x="9740" y="14146"/>
                  <a:pt x="9575" y="14188"/>
                </a:cubicBezTo>
                <a:cubicBezTo>
                  <a:pt x="9426" y="14226"/>
                  <a:pt x="9259" y="14244"/>
                  <a:pt x="9103" y="14238"/>
                </a:cubicBezTo>
                <a:cubicBezTo>
                  <a:pt x="8987" y="14233"/>
                  <a:pt x="8866" y="14201"/>
                  <a:pt x="8756" y="14163"/>
                </a:cubicBezTo>
                <a:cubicBezTo>
                  <a:pt x="8668" y="14132"/>
                  <a:pt x="8583" y="14098"/>
                  <a:pt x="8508" y="14064"/>
                </a:cubicBezTo>
                <a:cubicBezTo>
                  <a:pt x="8320" y="13979"/>
                  <a:pt x="8146" y="13903"/>
                  <a:pt x="7962" y="13841"/>
                </a:cubicBezTo>
                <a:cubicBezTo>
                  <a:pt x="7893" y="13818"/>
                  <a:pt x="7831" y="13790"/>
                  <a:pt x="7764" y="13767"/>
                </a:cubicBezTo>
                <a:cubicBezTo>
                  <a:pt x="7710" y="13748"/>
                  <a:pt x="7669" y="13729"/>
                  <a:pt x="7615" y="13717"/>
                </a:cubicBezTo>
                <a:cubicBezTo>
                  <a:pt x="7539" y="13699"/>
                  <a:pt x="7445" y="13698"/>
                  <a:pt x="7367" y="13692"/>
                </a:cubicBezTo>
                <a:cubicBezTo>
                  <a:pt x="7249" y="13683"/>
                  <a:pt x="7137" y="13672"/>
                  <a:pt x="7020" y="13667"/>
                </a:cubicBezTo>
                <a:cubicBezTo>
                  <a:pt x="6867" y="13661"/>
                  <a:pt x="6721" y="13676"/>
                  <a:pt x="6573" y="13692"/>
                </a:cubicBezTo>
                <a:cubicBezTo>
                  <a:pt x="6480" y="13702"/>
                  <a:pt x="6395" y="13712"/>
                  <a:pt x="6300" y="13717"/>
                </a:cubicBezTo>
                <a:cubicBezTo>
                  <a:pt x="6026" y="13733"/>
                  <a:pt x="5724" y="13733"/>
                  <a:pt x="5457" y="13692"/>
                </a:cubicBezTo>
                <a:cubicBezTo>
                  <a:pt x="5284" y="13665"/>
                  <a:pt x="5106" y="13628"/>
                  <a:pt x="4936" y="13593"/>
                </a:cubicBezTo>
                <a:cubicBezTo>
                  <a:pt x="4785" y="13562"/>
                  <a:pt x="4643" y="13537"/>
                  <a:pt x="4490" y="13519"/>
                </a:cubicBezTo>
                <a:cubicBezTo>
                  <a:pt x="4345" y="13502"/>
                  <a:pt x="4189" y="13477"/>
                  <a:pt x="4043" y="13469"/>
                </a:cubicBezTo>
                <a:cubicBezTo>
                  <a:pt x="3919" y="13462"/>
                  <a:pt x="3778" y="13469"/>
                  <a:pt x="3646" y="13469"/>
                </a:cubicBezTo>
                <a:cubicBezTo>
                  <a:pt x="3496" y="13469"/>
                  <a:pt x="3351" y="13479"/>
                  <a:pt x="3200" y="13469"/>
                </a:cubicBezTo>
                <a:cubicBezTo>
                  <a:pt x="3035" y="13458"/>
                  <a:pt x="2836" y="13428"/>
                  <a:pt x="2679" y="13370"/>
                </a:cubicBezTo>
                <a:cubicBezTo>
                  <a:pt x="2562" y="13327"/>
                  <a:pt x="2413" y="13255"/>
                  <a:pt x="2307" y="13196"/>
                </a:cubicBezTo>
                <a:cubicBezTo>
                  <a:pt x="2192" y="13131"/>
                  <a:pt x="2158" y="13073"/>
                  <a:pt x="2084" y="12973"/>
                </a:cubicBezTo>
                <a:cubicBezTo>
                  <a:pt x="1992" y="12849"/>
                  <a:pt x="1990" y="12721"/>
                  <a:pt x="1984" y="12576"/>
                </a:cubicBezTo>
                <a:cubicBezTo>
                  <a:pt x="1978" y="12433"/>
                  <a:pt x="1994" y="12308"/>
                  <a:pt x="2059" y="12179"/>
                </a:cubicBezTo>
                <a:cubicBezTo>
                  <a:pt x="2112" y="12074"/>
                  <a:pt x="2214" y="11997"/>
                  <a:pt x="2307" y="11931"/>
                </a:cubicBezTo>
                <a:cubicBezTo>
                  <a:pt x="2389" y="11874"/>
                  <a:pt x="2477" y="11845"/>
                  <a:pt x="2555" y="11807"/>
                </a:cubicBezTo>
                <a:cubicBezTo>
                  <a:pt x="2577" y="11785"/>
                  <a:pt x="2582" y="11776"/>
                  <a:pt x="2604" y="11782"/>
                </a:cubicBezTo>
                <a:cubicBezTo>
                  <a:pt x="2546" y="11790"/>
                  <a:pt x="2555" y="11764"/>
                  <a:pt x="2480" y="11782"/>
                </a:cubicBezTo>
                <a:cubicBezTo>
                  <a:pt x="2385" y="11804"/>
                  <a:pt x="2315" y="11850"/>
                  <a:pt x="2232" y="11881"/>
                </a:cubicBezTo>
                <a:cubicBezTo>
                  <a:pt x="2192" y="11901"/>
                  <a:pt x="2186" y="11910"/>
                  <a:pt x="2158" y="11906"/>
                </a:cubicBezTo>
                <a:cubicBezTo>
                  <a:pt x="2234" y="11873"/>
                  <a:pt x="2284" y="11875"/>
                  <a:pt x="2356" y="11832"/>
                </a:cubicBezTo>
                <a:cubicBezTo>
                  <a:pt x="2425" y="11791"/>
                  <a:pt x="2495" y="11764"/>
                  <a:pt x="2555" y="11733"/>
                </a:cubicBezTo>
                <a:cubicBezTo>
                  <a:pt x="2575" y="11816"/>
                  <a:pt x="2614" y="11897"/>
                  <a:pt x="2629" y="11981"/>
                </a:cubicBezTo>
                <a:cubicBezTo>
                  <a:pt x="2629" y="12022"/>
                  <a:pt x="2629" y="12030"/>
                  <a:pt x="2629" y="12055"/>
                </a:cubicBezTo>
              </a:path>
              <a:path w="10221" h="2506">
                <a:moveTo>
                  <a:pt x="11212" y="13097"/>
                </a:moveTo>
                <a:cubicBezTo>
                  <a:pt x="11241" y="13188"/>
                  <a:pt x="11265" y="13290"/>
                  <a:pt x="11311" y="13370"/>
                </a:cubicBezTo>
                <a:cubicBezTo>
                  <a:pt x="11487" y="13194"/>
                  <a:pt x="11574" y="12919"/>
                  <a:pt x="11757" y="12725"/>
                </a:cubicBezTo>
                <a:cubicBezTo>
                  <a:pt x="11973" y="12531"/>
                  <a:pt x="12014" y="12467"/>
                  <a:pt x="12204" y="1245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9840" y="5187960"/>
            <a:ext cx="484200" cy="420840"/>
          </a:xfrm>
          <a:custGeom>
            <a:avLst/>
            <a:gdLst/>
            <a:ahLst/>
            <a:rect l="l" t="t" r="r" b="b"/>
            <a:pathLst>
              <a:path w="1341" h="1166">
                <a:moveTo>
                  <a:pt x="13667" y="14684"/>
                </a:moveTo>
                <a:cubicBezTo>
                  <a:pt x="13677" y="14777"/>
                  <a:pt x="13719" y="14887"/>
                  <a:pt x="13692" y="14982"/>
                </a:cubicBezTo>
                <a:cubicBezTo>
                  <a:pt x="13684" y="14990"/>
                  <a:pt x="13675" y="14999"/>
                  <a:pt x="13667" y="15007"/>
                </a:cubicBezTo>
                <a:cubicBezTo>
                  <a:pt x="13764" y="15007"/>
                  <a:pt x="13839" y="14945"/>
                  <a:pt x="13940" y="14932"/>
                </a:cubicBezTo>
                <a:cubicBezTo>
                  <a:pt x="14092" y="14912"/>
                  <a:pt x="14161" y="15005"/>
                  <a:pt x="14089" y="14833"/>
                </a:cubicBezTo>
              </a:path>
              <a:path w="1341" h="1166">
                <a:moveTo>
                  <a:pt x="13965" y="14784"/>
                </a:moveTo>
                <a:cubicBezTo>
                  <a:pt x="13988" y="14924"/>
                  <a:pt x="14017" y="15067"/>
                  <a:pt x="14039" y="15205"/>
                </a:cubicBezTo>
              </a:path>
              <a:path w="1341" h="1166">
                <a:moveTo>
                  <a:pt x="13419" y="15503"/>
                </a:moveTo>
                <a:cubicBezTo>
                  <a:pt x="13721" y="15589"/>
                  <a:pt x="14036" y="15563"/>
                  <a:pt x="14312" y="15354"/>
                </a:cubicBezTo>
                <a:cubicBezTo>
                  <a:pt x="14587" y="15146"/>
                  <a:pt x="14604" y="14761"/>
                  <a:pt x="14337" y="14536"/>
                </a:cubicBezTo>
                <a:cubicBezTo>
                  <a:pt x="13955" y="14214"/>
                  <a:pt x="13423" y="14519"/>
                  <a:pt x="13246" y="14908"/>
                </a:cubicBezTo>
                <a:cubicBezTo>
                  <a:pt x="13070" y="15295"/>
                  <a:pt x="13285" y="15367"/>
                  <a:pt x="13543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49920" y="5276880"/>
            <a:ext cx="1957320" cy="1332000"/>
          </a:xfrm>
          <a:custGeom>
            <a:avLst/>
            <a:gdLst/>
            <a:ahLst/>
            <a:rect l="l" t="t" r="r" b="b"/>
            <a:pathLst>
              <a:path w="5433" h="3696">
                <a:moveTo>
                  <a:pt x="17115" y="16123"/>
                </a:moveTo>
                <a:cubicBezTo>
                  <a:pt x="17115" y="16255"/>
                  <a:pt x="17115" y="16388"/>
                  <a:pt x="17115" y="16520"/>
                </a:cubicBezTo>
              </a:path>
              <a:path w="5433" h="3696">
                <a:moveTo>
                  <a:pt x="16942" y="16396"/>
                </a:moveTo>
                <a:cubicBezTo>
                  <a:pt x="17048" y="16353"/>
                  <a:pt x="17149" y="16327"/>
                  <a:pt x="17264" y="16321"/>
                </a:cubicBezTo>
                <a:cubicBezTo>
                  <a:pt x="17272" y="16321"/>
                  <a:pt x="17281" y="16321"/>
                  <a:pt x="17289" y="16321"/>
                </a:cubicBezTo>
              </a:path>
              <a:path w="5433" h="3696">
                <a:moveTo>
                  <a:pt x="17735" y="15974"/>
                </a:moveTo>
                <a:cubicBezTo>
                  <a:pt x="17786" y="16025"/>
                  <a:pt x="17783" y="16202"/>
                  <a:pt x="17785" y="16297"/>
                </a:cubicBezTo>
                <a:cubicBezTo>
                  <a:pt x="17785" y="16380"/>
                  <a:pt x="17785" y="16396"/>
                  <a:pt x="17785" y="16446"/>
                </a:cubicBezTo>
              </a:path>
              <a:path w="5433" h="3696">
                <a:moveTo>
                  <a:pt x="18083" y="15974"/>
                </a:moveTo>
                <a:cubicBezTo>
                  <a:pt x="18083" y="16062"/>
                  <a:pt x="18089" y="16106"/>
                  <a:pt x="18083" y="16197"/>
                </a:cubicBezTo>
                <a:cubicBezTo>
                  <a:pt x="18080" y="16241"/>
                  <a:pt x="18059" y="16406"/>
                  <a:pt x="18132" y="16421"/>
                </a:cubicBezTo>
                <a:cubicBezTo>
                  <a:pt x="18236" y="16443"/>
                  <a:pt x="18399" y="16432"/>
                  <a:pt x="18455" y="16321"/>
                </a:cubicBezTo>
                <a:cubicBezTo>
                  <a:pt x="18455" y="16305"/>
                  <a:pt x="18455" y="16288"/>
                  <a:pt x="18455" y="16272"/>
                </a:cubicBezTo>
                <a:cubicBezTo>
                  <a:pt x="18438" y="16247"/>
                  <a:pt x="18374" y="16204"/>
                  <a:pt x="18331" y="16247"/>
                </a:cubicBezTo>
                <a:cubicBezTo>
                  <a:pt x="18271" y="16307"/>
                  <a:pt x="18256" y="16368"/>
                  <a:pt x="18256" y="16446"/>
                </a:cubicBezTo>
              </a:path>
              <a:path w="5433" h="3696">
                <a:moveTo>
                  <a:pt x="19348" y="16049"/>
                </a:moveTo>
                <a:cubicBezTo>
                  <a:pt x="19348" y="16169"/>
                  <a:pt x="19360" y="16285"/>
                  <a:pt x="19323" y="16396"/>
                </a:cubicBezTo>
              </a:path>
              <a:path w="5433" h="3696">
                <a:moveTo>
                  <a:pt x="19174" y="16321"/>
                </a:moveTo>
                <a:cubicBezTo>
                  <a:pt x="19293" y="16321"/>
                  <a:pt x="19363" y="16294"/>
                  <a:pt x="19472" y="16247"/>
                </a:cubicBezTo>
              </a:path>
              <a:path w="5433" h="3696">
                <a:moveTo>
                  <a:pt x="19720" y="15974"/>
                </a:moveTo>
                <a:cubicBezTo>
                  <a:pt x="19691" y="16098"/>
                  <a:pt x="19695" y="16217"/>
                  <a:pt x="19695" y="16346"/>
                </a:cubicBezTo>
                <a:cubicBezTo>
                  <a:pt x="19695" y="16371"/>
                  <a:pt x="19695" y="16379"/>
                  <a:pt x="19695" y="16346"/>
                </a:cubicBezTo>
              </a:path>
              <a:path w="5433" h="3696">
                <a:moveTo>
                  <a:pt x="19943" y="15925"/>
                </a:moveTo>
                <a:cubicBezTo>
                  <a:pt x="19961" y="16013"/>
                  <a:pt x="19946" y="16079"/>
                  <a:pt x="19943" y="16173"/>
                </a:cubicBezTo>
                <a:cubicBezTo>
                  <a:pt x="19940" y="16264"/>
                  <a:pt x="19949" y="16400"/>
                  <a:pt x="20067" y="16421"/>
                </a:cubicBezTo>
                <a:cubicBezTo>
                  <a:pt x="20229" y="16450"/>
                  <a:pt x="20287" y="16348"/>
                  <a:pt x="20340" y="16222"/>
                </a:cubicBezTo>
                <a:cubicBezTo>
                  <a:pt x="20213" y="16210"/>
                  <a:pt x="20165" y="16259"/>
                  <a:pt x="20141" y="16396"/>
                </a:cubicBezTo>
                <a:cubicBezTo>
                  <a:pt x="20141" y="16404"/>
                  <a:pt x="20141" y="16413"/>
                  <a:pt x="20141" y="16421"/>
                </a:cubicBezTo>
              </a:path>
              <a:path w="5433" h="3696">
                <a:moveTo>
                  <a:pt x="16991" y="15180"/>
                </a:moveTo>
                <a:cubicBezTo>
                  <a:pt x="17153" y="15282"/>
                  <a:pt x="17294" y="15449"/>
                  <a:pt x="17438" y="15577"/>
                </a:cubicBezTo>
                <a:cubicBezTo>
                  <a:pt x="17685" y="15797"/>
                  <a:pt x="17913" y="16061"/>
                  <a:pt x="18182" y="16247"/>
                </a:cubicBezTo>
                <a:cubicBezTo>
                  <a:pt x="18315" y="16339"/>
                  <a:pt x="18453" y="16435"/>
                  <a:pt x="18405" y="16247"/>
                </a:cubicBezTo>
              </a:path>
              <a:path w="5433" h="3696">
                <a:moveTo>
                  <a:pt x="18207" y="14684"/>
                </a:moveTo>
                <a:cubicBezTo>
                  <a:pt x="18121" y="14780"/>
                  <a:pt x="17955" y="15044"/>
                  <a:pt x="17859" y="15205"/>
                </a:cubicBezTo>
                <a:cubicBezTo>
                  <a:pt x="17639" y="15575"/>
                  <a:pt x="17394" y="15942"/>
                  <a:pt x="17239" y="16346"/>
                </a:cubicBezTo>
                <a:cubicBezTo>
                  <a:pt x="17197" y="16457"/>
                  <a:pt x="17097" y="16624"/>
                  <a:pt x="17090" y="16743"/>
                </a:cubicBezTo>
                <a:cubicBezTo>
                  <a:pt x="17098" y="16743"/>
                  <a:pt x="17107" y="16743"/>
                  <a:pt x="17115" y="16743"/>
                </a:cubicBezTo>
              </a:path>
              <a:path w="5433" h="3696">
                <a:moveTo>
                  <a:pt x="19050" y="17413"/>
                </a:moveTo>
                <a:cubicBezTo>
                  <a:pt x="19123" y="17370"/>
                  <a:pt x="19190" y="17330"/>
                  <a:pt x="19273" y="17314"/>
                </a:cubicBezTo>
              </a:path>
              <a:path w="5433" h="3696">
                <a:moveTo>
                  <a:pt x="18976" y="17587"/>
                </a:moveTo>
                <a:cubicBezTo>
                  <a:pt x="19068" y="17574"/>
                  <a:pt x="19161" y="17548"/>
                  <a:pt x="19248" y="17512"/>
                </a:cubicBezTo>
                <a:cubicBezTo>
                  <a:pt x="19265" y="17504"/>
                  <a:pt x="19281" y="17495"/>
                  <a:pt x="19298" y="17487"/>
                </a:cubicBezTo>
              </a:path>
              <a:path w="5433" h="3696">
                <a:moveTo>
                  <a:pt x="19645" y="17214"/>
                </a:moveTo>
                <a:cubicBezTo>
                  <a:pt x="19668" y="17365"/>
                  <a:pt x="19670" y="17507"/>
                  <a:pt x="19670" y="17661"/>
                </a:cubicBezTo>
                <a:cubicBezTo>
                  <a:pt x="19670" y="17689"/>
                  <a:pt x="19672" y="17695"/>
                  <a:pt x="19695" y="17661"/>
                </a:cubicBezTo>
              </a:path>
              <a:path w="5433" h="3696">
                <a:moveTo>
                  <a:pt x="20117" y="17115"/>
                </a:moveTo>
                <a:cubicBezTo>
                  <a:pt x="20030" y="17151"/>
                  <a:pt x="19953" y="17176"/>
                  <a:pt x="19918" y="17264"/>
                </a:cubicBezTo>
                <a:cubicBezTo>
                  <a:pt x="19987" y="17326"/>
                  <a:pt x="20210" y="17420"/>
                  <a:pt x="20166" y="17537"/>
                </a:cubicBezTo>
                <a:cubicBezTo>
                  <a:pt x="20137" y="17613"/>
                  <a:pt x="20053" y="17606"/>
                  <a:pt x="19993" y="17611"/>
                </a:cubicBezTo>
                <a:cubicBezTo>
                  <a:pt x="19944" y="17481"/>
                  <a:pt x="20017" y="17425"/>
                  <a:pt x="20092" y="17314"/>
                </a:cubicBezTo>
                <a:cubicBezTo>
                  <a:pt x="20147" y="17232"/>
                  <a:pt x="20189" y="17229"/>
                  <a:pt x="20117" y="17214"/>
                </a:cubicBezTo>
              </a:path>
              <a:path w="5433" h="3696">
                <a:moveTo>
                  <a:pt x="17388" y="17090"/>
                </a:moveTo>
                <a:cubicBezTo>
                  <a:pt x="17396" y="17082"/>
                  <a:pt x="17405" y="17074"/>
                  <a:pt x="17413" y="17066"/>
                </a:cubicBezTo>
                <a:cubicBezTo>
                  <a:pt x="17470" y="17122"/>
                  <a:pt x="17529" y="17191"/>
                  <a:pt x="17587" y="17239"/>
                </a:cubicBezTo>
                <a:cubicBezTo>
                  <a:pt x="17622" y="17268"/>
                  <a:pt x="17674" y="17299"/>
                  <a:pt x="17711" y="17314"/>
                </a:cubicBezTo>
              </a:path>
              <a:path w="5433" h="3696">
                <a:moveTo>
                  <a:pt x="17760" y="17016"/>
                </a:moveTo>
                <a:cubicBezTo>
                  <a:pt x="17711" y="17082"/>
                  <a:pt x="17735" y="17181"/>
                  <a:pt x="17735" y="17264"/>
                </a:cubicBezTo>
                <a:cubicBezTo>
                  <a:pt x="17735" y="17367"/>
                  <a:pt x="17711" y="17459"/>
                  <a:pt x="17711" y="17562"/>
                </a:cubicBezTo>
              </a:path>
              <a:path w="5433" h="3696">
                <a:moveTo>
                  <a:pt x="17239" y="17835"/>
                </a:moveTo>
                <a:cubicBezTo>
                  <a:pt x="17391" y="17780"/>
                  <a:pt x="17554" y="17732"/>
                  <a:pt x="17711" y="17686"/>
                </a:cubicBezTo>
                <a:cubicBezTo>
                  <a:pt x="17781" y="17665"/>
                  <a:pt x="17870" y="17643"/>
                  <a:pt x="17934" y="17636"/>
                </a:cubicBezTo>
                <a:cubicBezTo>
                  <a:pt x="17942" y="17636"/>
                  <a:pt x="17951" y="17636"/>
                  <a:pt x="17959" y="17636"/>
                </a:cubicBezTo>
              </a:path>
              <a:path w="5433" h="3696">
                <a:moveTo>
                  <a:pt x="17562" y="18008"/>
                </a:moveTo>
                <a:cubicBezTo>
                  <a:pt x="17634" y="18008"/>
                  <a:pt x="17691" y="17975"/>
                  <a:pt x="17760" y="17959"/>
                </a:cubicBezTo>
                <a:cubicBezTo>
                  <a:pt x="17785" y="17959"/>
                  <a:pt x="17793" y="17959"/>
                  <a:pt x="17810" y="17959"/>
                </a:cubicBezTo>
                <a:cubicBezTo>
                  <a:pt x="17810" y="18051"/>
                  <a:pt x="17806" y="18136"/>
                  <a:pt x="17735" y="18207"/>
                </a:cubicBezTo>
                <a:cubicBezTo>
                  <a:pt x="17691" y="18251"/>
                  <a:pt x="17633" y="18284"/>
                  <a:pt x="17587" y="18331"/>
                </a:cubicBezTo>
                <a:cubicBezTo>
                  <a:pt x="17608" y="18395"/>
                  <a:pt x="17705" y="18338"/>
                  <a:pt x="17760" y="18331"/>
                </a:cubicBezTo>
                <a:cubicBezTo>
                  <a:pt x="17819" y="18323"/>
                  <a:pt x="17874" y="18306"/>
                  <a:pt x="17934" y="18306"/>
                </a:cubicBezTo>
              </a:path>
              <a:path w="5433" h="3696">
                <a:moveTo>
                  <a:pt x="16694" y="17760"/>
                </a:moveTo>
                <a:cubicBezTo>
                  <a:pt x="16686" y="17752"/>
                  <a:pt x="16677" y="17743"/>
                  <a:pt x="16669" y="17735"/>
                </a:cubicBezTo>
                <a:cubicBezTo>
                  <a:pt x="16745" y="17735"/>
                  <a:pt x="16795" y="17801"/>
                  <a:pt x="16842" y="17859"/>
                </a:cubicBezTo>
                <a:cubicBezTo>
                  <a:pt x="16848" y="17867"/>
                  <a:pt x="16956" y="18043"/>
                  <a:pt x="16991" y="18008"/>
                </a:cubicBezTo>
                <a:cubicBezTo>
                  <a:pt x="16991" y="18000"/>
                  <a:pt x="16991" y="17991"/>
                  <a:pt x="16991" y="17983"/>
                </a:cubicBezTo>
              </a:path>
              <a:path w="5433" h="3696">
                <a:moveTo>
                  <a:pt x="16942" y="17636"/>
                </a:moveTo>
                <a:cubicBezTo>
                  <a:pt x="16921" y="17720"/>
                  <a:pt x="16912" y="17814"/>
                  <a:pt x="16892" y="17909"/>
                </a:cubicBezTo>
                <a:cubicBezTo>
                  <a:pt x="16875" y="17989"/>
                  <a:pt x="16850" y="18058"/>
                  <a:pt x="16818" y="18132"/>
                </a:cubicBezTo>
              </a:path>
              <a:path w="5433" h="3696">
                <a:moveTo>
                  <a:pt x="15974" y="17462"/>
                </a:moveTo>
                <a:cubicBezTo>
                  <a:pt x="16058" y="17409"/>
                  <a:pt x="16121" y="17367"/>
                  <a:pt x="16222" y="17363"/>
                </a:cubicBezTo>
                <a:cubicBezTo>
                  <a:pt x="16361" y="17357"/>
                  <a:pt x="16323" y="17431"/>
                  <a:pt x="16297" y="17537"/>
                </a:cubicBezTo>
                <a:cubicBezTo>
                  <a:pt x="16262" y="17680"/>
                  <a:pt x="16172" y="17778"/>
                  <a:pt x="16073" y="17884"/>
                </a:cubicBezTo>
                <a:cubicBezTo>
                  <a:pt x="16051" y="17907"/>
                  <a:pt x="16043" y="17912"/>
                  <a:pt x="16049" y="17934"/>
                </a:cubicBezTo>
                <a:cubicBezTo>
                  <a:pt x="16131" y="17878"/>
                  <a:pt x="16245" y="17869"/>
                  <a:pt x="16346" y="17859"/>
                </a:cubicBezTo>
                <a:cubicBezTo>
                  <a:pt x="16385" y="17855"/>
                  <a:pt x="16430" y="17859"/>
                  <a:pt x="16470" y="17859"/>
                </a:cubicBezTo>
              </a:path>
              <a:path w="5433" h="3696">
                <a:moveTo>
                  <a:pt x="20439" y="17363"/>
                </a:moveTo>
                <a:cubicBezTo>
                  <a:pt x="20514" y="17331"/>
                  <a:pt x="20548" y="17342"/>
                  <a:pt x="20613" y="17413"/>
                </a:cubicBezTo>
                <a:cubicBezTo>
                  <a:pt x="20679" y="17485"/>
                  <a:pt x="20676" y="17578"/>
                  <a:pt x="20762" y="17636"/>
                </a:cubicBezTo>
                <a:cubicBezTo>
                  <a:pt x="20848" y="17694"/>
                  <a:pt x="20826" y="17673"/>
                  <a:pt x="20836" y="17562"/>
                </a:cubicBezTo>
              </a:path>
              <a:path w="5433" h="3696">
                <a:moveTo>
                  <a:pt x="20786" y="17363"/>
                </a:moveTo>
                <a:cubicBezTo>
                  <a:pt x="20720" y="17479"/>
                  <a:pt x="20649" y="17605"/>
                  <a:pt x="20613" y="17735"/>
                </a:cubicBezTo>
                <a:cubicBezTo>
                  <a:pt x="20613" y="17760"/>
                  <a:pt x="20613" y="17768"/>
                  <a:pt x="20613" y="17785"/>
                </a:cubicBezTo>
              </a:path>
              <a:path w="5433" h="3696">
                <a:moveTo>
                  <a:pt x="21158" y="17016"/>
                </a:moveTo>
                <a:cubicBezTo>
                  <a:pt x="21204" y="16989"/>
                  <a:pt x="21224" y="16991"/>
                  <a:pt x="21282" y="16991"/>
                </a:cubicBezTo>
                <a:cubicBezTo>
                  <a:pt x="21267" y="17128"/>
                  <a:pt x="21213" y="17206"/>
                  <a:pt x="21134" y="17314"/>
                </a:cubicBezTo>
                <a:cubicBezTo>
                  <a:pt x="21096" y="17370"/>
                  <a:pt x="21079" y="17373"/>
                  <a:pt x="21084" y="17413"/>
                </a:cubicBezTo>
                <a:cubicBezTo>
                  <a:pt x="21170" y="17399"/>
                  <a:pt x="21277" y="17377"/>
                  <a:pt x="21357" y="17338"/>
                </a:cubicBezTo>
                <a:cubicBezTo>
                  <a:pt x="21399" y="17317"/>
                  <a:pt x="21431" y="17314"/>
                  <a:pt x="21357" y="17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902040"/>
            <a:ext cx="474840" cy="866880"/>
          </a:xfrm>
          <a:custGeom>
            <a:avLst/>
            <a:gdLst/>
            <a:ahLst/>
            <a:rect l="l" t="t" r="r" b="b"/>
            <a:pathLst>
              <a:path w="1316" h="2407">
                <a:moveTo>
                  <a:pt x="3497" y="11832"/>
                </a:moveTo>
                <a:cubicBezTo>
                  <a:pt x="3497" y="11824"/>
                  <a:pt x="3497" y="11815"/>
                  <a:pt x="3497" y="11807"/>
                </a:cubicBezTo>
                <a:cubicBezTo>
                  <a:pt x="3548" y="11824"/>
                  <a:pt x="3565" y="11975"/>
                  <a:pt x="3572" y="12030"/>
                </a:cubicBezTo>
                <a:cubicBezTo>
                  <a:pt x="3581" y="12103"/>
                  <a:pt x="3583" y="12099"/>
                  <a:pt x="3597" y="12154"/>
                </a:cubicBezTo>
              </a:path>
              <a:path w="1316" h="2407">
                <a:moveTo>
                  <a:pt x="3398" y="12030"/>
                </a:moveTo>
                <a:cubicBezTo>
                  <a:pt x="3459" y="12015"/>
                  <a:pt x="3527" y="11989"/>
                  <a:pt x="3597" y="11981"/>
                </a:cubicBezTo>
                <a:cubicBezTo>
                  <a:pt x="3669" y="11973"/>
                  <a:pt x="3666" y="11970"/>
                  <a:pt x="3721" y="11956"/>
                </a:cubicBezTo>
              </a:path>
              <a:path w="1316" h="2407">
                <a:moveTo>
                  <a:pt x="4068" y="11832"/>
                </a:moveTo>
                <a:cubicBezTo>
                  <a:pt x="4068" y="11904"/>
                  <a:pt x="4055" y="11961"/>
                  <a:pt x="4043" y="12030"/>
                </a:cubicBezTo>
                <a:cubicBezTo>
                  <a:pt x="4132" y="12030"/>
                  <a:pt x="4202" y="11998"/>
                  <a:pt x="4291" y="11981"/>
                </a:cubicBezTo>
                <a:cubicBezTo>
                  <a:pt x="4316" y="11981"/>
                  <a:pt x="4324" y="11981"/>
                  <a:pt x="4341" y="11981"/>
                </a:cubicBezTo>
              </a:path>
              <a:path w="1316" h="2407">
                <a:moveTo>
                  <a:pt x="4366" y="11633"/>
                </a:moveTo>
                <a:cubicBezTo>
                  <a:pt x="4366" y="11759"/>
                  <a:pt x="4344" y="11879"/>
                  <a:pt x="4341" y="12005"/>
                </a:cubicBezTo>
                <a:cubicBezTo>
                  <a:pt x="4340" y="12054"/>
                  <a:pt x="4341" y="12104"/>
                  <a:pt x="4341" y="12154"/>
                </a:cubicBezTo>
              </a:path>
              <a:path w="1316" h="2407">
                <a:moveTo>
                  <a:pt x="3423" y="11063"/>
                </a:moveTo>
                <a:cubicBezTo>
                  <a:pt x="3489" y="11128"/>
                  <a:pt x="3525" y="11153"/>
                  <a:pt x="3597" y="11212"/>
                </a:cubicBezTo>
                <a:cubicBezTo>
                  <a:pt x="3829" y="11404"/>
                  <a:pt x="4046" y="11581"/>
                  <a:pt x="4291" y="11757"/>
                </a:cubicBezTo>
                <a:cubicBezTo>
                  <a:pt x="4407" y="11840"/>
                  <a:pt x="4488" y="11954"/>
                  <a:pt x="4589" y="12055"/>
                </a:cubicBezTo>
                <a:cubicBezTo>
                  <a:pt x="4612" y="12078"/>
                  <a:pt x="4620" y="12089"/>
                  <a:pt x="4614" y="12055"/>
                </a:cubicBezTo>
              </a:path>
              <a:path w="1316" h="2407">
                <a:moveTo>
                  <a:pt x="4390" y="10840"/>
                </a:moveTo>
                <a:cubicBezTo>
                  <a:pt x="4295" y="10919"/>
                  <a:pt x="4201" y="11029"/>
                  <a:pt x="4118" y="11137"/>
                </a:cubicBezTo>
                <a:cubicBezTo>
                  <a:pt x="3894" y="11427"/>
                  <a:pt x="3740" y="11746"/>
                  <a:pt x="3547" y="12055"/>
                </a:cubicBezTo>
                <a:cubicBezTo>
                  <a:pt x="3493" y="12141"/>
                  <a:pt x="3420" y="12244"/>
                  <a:pt x="3373" y="12328"/>
                </a:cubicBezTo>
              </a:path>
              <a:path w="1316" h="2407">
                <a:moveTo>
                  <a:pt x="3721" y="12650"/>
                </a:moveTo>
                <a:cubicBezTo>
                  <a:pt x="3703" y="12616"/>
                  <a:pt x="3647" y="12541"/>
                  <a:pt x="3597" y="12526"/>
                </a:cubicBezTo>
                <a:cubicBezTo>
                  <a:pt x="3512" y="12501"/>
                  <a:pt x="3432" y="12523"/>
                  <a:pt x="3373" y="12576"/>
                </a:cubicBezTo>
                <a:cubicBezTo>
                  <a:pt x="3304" y="12638"/>
                  <a:pt x="3271" y="12730"/>
                  <a:pt x="3299" y="12824"/>
                </a:cubicBezTo>
                <a:cubicBezTo>
                  <a:pt x="3331" y="12931"/>
                  <a:pt x="3480" y="12886"/>
                  <a:pt x="3547" y="12849"/>
                </a:cubicBezTo>
                <a:cubicBezTo>
                  <a:pt x="3622" y="12807"/>
                  <a:pt x="3658" y="12728"/>
                  <a:pt x="3671" y="12650"/>
                </a:cubicBezTo>
                <a:cubicBezTo>
                  <a:pt x="3671" y="12857"/>
                  <a:pt x="3671" y="13428"/>
                  <a:pt x="3671" y="132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31920" y="5187960"/>
            <a:ext cx="1536840" cy="1527120"/>
          </a:xfrm>
          <a:custGeom>
            <a:avLst/>
            <a:gdLst/>
            <a:ahLst/>
            <a:rect l="l" t="t" r="r" b="b"/>
            <a:pathLst>
              <a:path w="4267" h="4242">
                <a:moveTo>
                  <a:pt x="3770" y="14412"/>
                </a:moveTo>
                <a:cubicBezTo>
                  <a:pt x="3901" y="14566"/>
                  <a:pt x="4045" y="14692"/>
                  <a:pt x="4192" y="14833"/>
                </a:cubicBezTo>
                <a:cubicBezTo>
                  <a:pt x="4404" y="15037"/>
                  <a:pt x="4601" y="15249"/>
                  <a:pt x="4812" y="15453"/>
                </a:cubicBezTo>
                <a:cubicBezTo>
                  <a:pt x="4849" y="15489"/>
                  <a:pt x="4860" y="15559"/>
                  <a:pt x="4911" y="15553"/>
                </a:cubicBezTo>
                <a:cubicBezTo>
                  <a:pt x="4919" y="15545"/>
                  <a:pt x="4928" y="15536"/>
                  <a:pt x="4936" y="15528"/>
                </a:cubicBezTo>
              </a:path>
              <a:path w="4267" h="4242">
                <a:moveTo>
                  <a:pt x="5011" y="14436"/>
                </a:moveTo>
                <a:cubicBezTo>
                  <a:pt x="4897" y="14493"/>
                  <a:pt x="4815" y="14550"/>
                  <a:pt x="4713" y="14635"/>
                </a:cubicBezTo>
                <a:cubicBezTo>
                  <a:pt x="4529" y="14787"/>
                  <a:pt x="4344" y="14928"/>
                  <a:pt x="4142" y="15056"/>
                </a:cubicBezTo>
                <a:cubicBezTo>
                  <a:pt x="3980" y="15159"/>
                  <a:pt x="3844" y="15284"/>
                  <a:pt x="3696" y="15404"/>
                </a:cubicBezTo>
                <a:cubicBezTo>
                  <a:pt x="3627" y="15460"/>
                  <a:pt x="3507" y="15567"/>
                  <a:pt x="3448" y="15602"/>
                </a:cubicBezTo>
                <a:cubicBezTo>
                  <a:pt x="3440" y="15602"/>
                  <a:pt x="3431" y="15602"/>
                  <a:pt x="3423" y="15602"/>
                </a:cubicBezTo>
              </a:path>
              <a:path w="4267" h="4242">
                <a:moveTo>
                  <a:pt x="5978" y="16545"/>
                </a:moveTo>
                <a:cubicBezTo>
                  <a:pt x="6041" y="16545"/>
                  <a:pt x="6086" y="16523"/>
                  <a:pt x="6152" y="16520"/>
                </a:cubicBezTo>
                <a:cubicBezTo>
                  <a:pt x="6196" y="16520"/>
                  <a:pt x="6210" y="16517"/>
                  <a:pt x="6226" y="16545"/>
                </a:cubicBezTo>
              </a:path>
              <a:path w="4267" h="4242">
                <a:moveTo>
                  <a:pt x="6003" y="16718"/>
                </a:moveTo>
                <a:cubicBezTo>
                  <a:pt x="6099" y="16718"/>
                  <a:pt x="6186" y="16723"/>
                  <a:pt x="6276" y="16694"/>
                </a:cubicBezTo>
              </a:path>
              <a:path w="4267" h="4242">
                <a:moveTo>
                  <a:pt x="6598" y="16272"/>
                </a:moveTo>
                <a:cubicBezTo>
                  <a:pt x="6616" y="16377"/>
                  <a:pt x="6638" y="16487"/>
                  <a:pt x="6648" y="16594"/>
                </a:cubicBezTo>
                <a:cubicBezTo>
                  <a:pt x="6652" y="16635"/>
                  <a:pt x="6648" y="16711"/>
                  <a:pt x="6648" y="16669"/>
                </a:cubicBezTo>
              </a:path>
              <a:path w="4267" h="4242">
                <a:moveTo>
                  <a:pt x="7144" y="16049"/>
                </a:moveTo>
                <a:cubicBezTo>
                  <a:pt x="7082" y="16064"/>
                  <a:pt x="7016" y="16085"/>
                  <a:pt x="6945" y="16098"/>
                </a:cubicBezTo>
                <a:cubicBezTo>
                  <a:pt x="6892" y="16108"/>
                  <a:pt x="6910" y="16246"/>
                  <a:pt x="6896" y="16297"/>
                </a:cubicBezTo>
                <a:cubicBezTo>
                  <a:pt x="6872" y="16345"/>
                  <a:pt x="6863" y="16359"/>
                  <a:pt x="6871" y="16396"/>
                </a:cubicBezTo>
                <a:cubicBezTo>
                  <a:pt x="6931" y="16396"/>
                  <a:pt x="6957" y="16391"/>
                  <a:pt x="7020" y="16371"/>
                </a:cubicBezTo>
                <a:cubicBezTo>
                  <a:pt x="7114" y="16341"/>
                  <a:pt x="7196" y="16317"/>
                  <a:pt x="7243" y="16421"/>
                </a:cubicBezTo>
                <a:cubicBezTo>
                  <a:pt x="7288" y="16520"/>
                  <a:pt x="7231" y="16640"/>
                  <a:pt x="7119" y="16669"/>
                </a:cubicBezTo>
                <a:cubicBezTo>
                  <a:pt x="7020" y="16669"/>
                  <a:pt x="6987" y="16669"/>
                  <a:pt x="6921" y="16669"/>
                </a:cubicBezTo>
              </a:path>
              <a:path w="4267" h="4242">
                <a:moveTo>
                  <a:pt x="4837" y="16222"/>
                </a:moveTo>
                <a:cubicBezTo>
                  <a:pt x="4853" y="16173"/>
                  <a:pt x="4978" y="16184"/>
                  <a:pt x="5035" y="16197"/>
                </a:cubicBezTo>
                <a:cubicBezTo>
                  <a:pt x="5052" y="16205"/>
                  <a:pt x="5068" y="16214"/>
                  <a:pt x="5085" y="16222"/>
                </a:cubicBezTo>
                <a:cubicBezTo>
                  <a:pt x="5085" y="16311"/>
                  <a:pt x="5082" y="16403"/>
                  <a:pt x="5011" y="16470"/>
                </a:cubicBezTo>
                <a:cubicBezTo>
                  <a:pt x="4994" y="16478"/>
                  <a:pt x="4978" y="16487"/>
                  <a:pt x="4961" y="16495"/>
                </a:cubicBezTo>
                <a:cubicBezTo>
                  <a:pt x="5011" y="16495"/>
                  <a:pt x="5125" y="16504"/>
                  <a:pt x="5159" y="16545"/>
                </a:cubicBezTo>
                <a:cubicBezTo>
                  <a:pt x="5247" y="16649"/>
                  <a:pt x="5150" y="16748"/>
                  <a:pt x="5060" y="16793"/>
                </a:cubicBezTo>
                <a:cubicBezTo>
                  <a:pt x="4993" y="16827"/>
                  <a:pt x="4899" y="16831"/>
                  <a:pt x="4862" y="16793"/>
                </a:cubicBezTo>
              </a:path>
              <a:path w="4267" h="4242">
                <a:moveTo>
                  <a:pt x="5283" y="16421"/>
                </a:moveTo>
                <a:cubicBezTo>
                  <a:pt x="5372" y="16471"/>
                  <a:pt x="5416" y="16542"/>
                  <a:pt x="5482" y="16619"/>
                </a:cubicBezTo>
                <a:cubicBezTo>
                  <a:pt x="5512" y="16654"/>
                  <a:pt x="5548" y="16686"/>
                  <a:pt x="5581" y="16718"/>
                </a:cubicBezTo>
              </a:path>
              <a:path w="4267" h="4242">
                <a:moveTo>
                  <a:pt x="5606" y="16321"/>
                </a:moveTo>
                <a:cubicBezTo>
                  <a:pt x="5606" y="16401"/>
                  <a:pt x="5561" y="16497"/>
                  <a:pt x="5531" y="16570"/>
                </a:cubicBezTo>
                <a:cubicBezTo>
                  <a:pt x="5500" y="16646"/>
                  <a:pt x="5470" y="16773"/>
                  <a:pt x="5432" y="16842"/>
                </a:cubicBezTo>
                <a:cubicBezTo>
                  <a:pt x="5424" y="16850"/>
                  <a:pt x="5415" y="16859"/>
                  <a:pt x="5407" y="16867"/>
                </a:cubicBezTo>
              </a:path>
              <a:path w="4267" h="4242">
                <a:moveTo>
                  <a:pt x="5606" y="16768"/>
                </a:moveTo>
                <a:cubicBezTo>
                  <a:pt x="5606" y="16743"/>
                  <a:pt x="5606" y="16735"/>
                  <a:pt x="5606" y="16718"/>
                </a:cubicBezTo>
                <a:cubicBezTo>
                  <a:pt x="5637" y="16739"/>
                  <a:pt x="5645" y="16795"/>
                  <a:pt x="5680" y="16842"/>
                </a:cubicBezTo>
                <a:cubicBezTo>
                  <a:pt x="5708" y="16880"/>
                  <a:pt x="5694" y="16905"/>
                  <a:pt x="5730" y="16917"/>
                </a:cubicBezTo>
              </a:path>
              <a:path w="4267" h="4242">
                <a:moveTo>
                  <a:pt x="4738" y="17115"/>
                </a:moveTo>
                <a:cubicBezTo>
                  <a:pt x="4750" y="17077"/>
                  <a:pt x="4767" y="17090"/>
                  <a:pt x="4812" y="17090"/>
                </a:cubicBezTo>
                <a:cubicBezTo>
                  <a:pt x="4870" y="17090"/>
                  <a:pt x="4915" y="17106"/>
                  <a:pt x="4961" y="17115"/>
                </a:cubicBezTo>
                <a:cubicBezTo>
                  <a:pt x="5029" y="17129"/>
                  <a:pt x="5115" y="17130"/>
                  <a:pt x="5184" y="17140"/>
                </a:cubicBezTo>
                <a:cubicBezTo>
                  <a:pt x="5267" y="17152"/>
                  <a:pt x="5382" y="17151"/>
                  <a:pt x="5432" y="17165"/>
                </a:cubicBezTo>
                <a:cubicBezTo>
                  <a:pt x="5488" y="17180"/>
                  <a:pt x="5666" y="17181"/>
                  <a:pt x="5680" y="17140"/>
                </a:cubicBezTo>
              </a:path>
              <a:path w="4267" h="4242">
                <a:moveTo>
                  <a:pt x="6697" y="16991"/>
                </a:moveTo>
                <a:cubicBezTo>
                  <a:pt x="6639" y="16991"/>
                  <a:pt x="6763" y="16991"/>
                  <a:pt x="6821" y="16991"/>
                </a:cubicBezTo>
                <a:cubicBezTo>
                  <a:pt x="6980" y="16991"/>
                  <a:pt x="7133" y="16966"/>
                  <a:pt x="7293" y="16966"/>
                </a:cubicBezTo>
                <a:cubicBezTo>
                  <a:pt x="7347" y="16966"/>
                  <a:pt x="7388" y="16948"/>
                  <a:pt x="7441" y="16942"/>
                </a:cubicBezTo>
              </a:path>
              <a:path w="4267" h="4242">
                <a:moveTo>
                  <a:pt x="5110" y="17462"/>
                </a:moveTo>
                <a:cubicBezTo>
                  <a:pt x="5231" y="17453"/>
                  <a:pt x="5360" y="17394"/>
                  <a:pt x="5482" y="17413"/>
                </a:cubicBezTo>
                <a:cubicBezTo>
                  <a:pt x="5568" y="17426"/>
                  <a:pt x="5585" y="17529"/>
                  <a:pt x="5531" y="17587"/>
                </a:cubicBezTo>
                <a:cubicBezTo>
                  <a:pt x="5488" y="17608"/>
                  <a:pt x="5476" y="17612"/>
                  <a:pt x="5457" y="17636"/>
                </a:cubicBezTo>
                <a:cubicBezTo>
                  <a:pt x="5508" y="17636"/>
                  <a:pt x="5541" y="17629"/>
                  <a:pt x="5581" y="17661"/>
                </a:cubicBezTo>
                <a:cubicBezTo>
                  <a:pt x="5651" y="17717"/>
                  <a:pt x="5575" y="17817"/>
                  <a:pt x="5507" y="17835"/>
                </a:cubicBezTo>
                <a:cubicBezTo>
                  <a:pt x="5379" y="17869"/>
                  <a:pt x="5289" y="17850"/>
                  <a:pt x="5259" y="17760"/>
                </a:cubicBezTo>
              </a:path>
              <a:path w="4267" h="4242">
                <a:moveTo>
                  <a:pt x="6896" y="17214"/>
                </a:moveTo>
                <a:cubicBezTo>
                  <a:pt x="6961" y="17207"/>
                  <a:pt x="7126" y="17156"/>
                  <a:pt x="7169" y="17239"/>
                </a:cubicBezTo>
                <a:cubicBezTo>
                  <a:pt x="7223" y="17341"/>
                  <a:pt x="7098" y="17377"/>
                  <a:pt x="7045" y="17413"/>
                </a:cubicBezTo>
                <a:cubicBezTo>
                  <a:pt x="7142" y="17396"/>
                  <a:pt x="7164" y="17370"/>
                  <a:pt x="7218" y="17462"/>
                </a:cubicBezTo>
                <a:cubicBezTo>
                  <a:pt x="7266" y="17544"/>
                  <a:pt x="7177" y="17635"/>
                  <a:pt x="7094" y="17661"/>
                </a:cubicBezTo>
                <a:cubicBezTo>
                  <a:pt x="6998" y="17691"/>
                  <a:pt x="6925" y="17648"/>
                  <a:pt x="6846" y="17611"/>
                </a:cubicBezTo>
              </a:path>
              <a:path w="4267" h="4242">
                <a:moveTo>
                  <a:pt x="4862" y="16321"/>
                </a:moveTo>
                <a:cubicBezTo>
                  <a:pt x="4908" y="16395"/>
                  <a:pt x="4947" y="16541"/>
                  <a:pt x="4986" y="16644"/>
                </a:cubicBezTo>
                <a:cubicBezTo>
                  <a:pt x="5076" y="16883"/>
                  <a:pt x="5217" y="17098"/>
                  <a:pt x="5308" y="17338"/>
                </a:cubicBezTo>
                <a:cubicBezTo>
                  <a:pt x="5351" y="17451"/>
                  <a:pt x="5423" y="17576"/>
                  <a:pt x="5457" y="17686"/>
                </a:cubicBezTo>
                <a:cubicBezTo>
                  <a:pt x="5457" y="17735"/>
                  <a:pt x="5457" y="17752"/>
                  <a:pt x="5457" y="17785"/>
                </a:cubicBezTo>
              </a:path>
              <a:path w="4267" h="4242">
                <a:moveTo>
                  <a:pt x="5978" y="18083"/>
                </a:moveTo>
                <a:cubicBezTo>
                  <a:pt x="6047" y="18195"/>
                  <a:pt x="6095" y="18326"/>
                  <a:pt x="6176" y="18430"/>
                </a:cubicBezTo>
                <a:cubicBezTo>
                  <a:pt x="6215" y="18480"/>
                  <a:pt x="6219" y="18486"/>
                  <a:pt x="6251" y="18529"/>
                </a:cubicBezTo>
              </a:path>
              <a:path w="4267" h="4242">
                <a:moveTo>
                  <a:pt x="6325" y="18083"/>
                </a:moveTo>
                <a:cubicBezTo>
                  <a:pt x="6304" y="18229"/>
                  <a:pt x="6240" y="18346"/>
                  <a:pt x="6176" y="18479"/>
                </a:cubicBezTo>
                <a:cubicBezTo>
                  <a:pt x="6146" y="18541"/>
                  <a:pt x="6095" y="18632"/>
                  <a:pt x="6102" y="18653"/>
                </a:cubicBezTo>
              </a:path>
              <a:path w="4267" h="4242">
                <a:moveTo>
                  <a:pt x="6672" y="18231"/>
                </a:moveTo>
                <a:cubicBezTo>
                  <a:pt x="6742" y="18231"/>
                  <a:pt x="6802" y="18251"/>
                  <a:pt x="6871" y="18256"/>
                </a:cubicBezTo>
                <a:cubicBezTo>
                  <a:pt x="6896" y="18256"/>
                  <a:pt x="6904" y="18256"/>
                  <a:pt x="6921" y="18256"/>
                </a:cubicBezTo>
              </a:path>
              <a:path w="4267" h="4242">
                <a:moveTo>
                  <a:pt x="6672" y="18455"/>
                </a:moveTo>
                <a:cubicBezTo>
                  <a:pt x="6732" y="18455"/>
                  <a:pt x="6790" y="18445"/>
                  <a:pt x="6846" y="18430"/>
                </a:cubicBezTo>
                <a:cubicBezTo>
                  <a:pt x="6871" y="18422"/>
                  <a:pt x="6896" y="18413"/>
                  <a:pt x="6921" y="18405"/>
                </a:cubicBezTo>
              </a:path>
              <a:path w="4267" h="4242">
                <a:moveTo>
                  <a:pt x="7640" y="17760"/>
                </a:moveTo>
                <a:cubicBezTo>
                  <a:pt x="7545" y="17760"/>
                  <a:pt x="7460" y="17776"/>
                  <a:pt x="7367" y="17785"/>
                </a:cubicBezTo>
                <a:cubicBezTo>
                  <a:pt x="7367" y="17873"/>
                  <a:pt x="7365" y="17947"/>
                  <a:pt x="7342" y="18033"/>
                </a:cubicBezTo>
                <a:cubicBezTo>
                  <a:pt x="7326" y="18094"/>
                  <a:pt x="7317" y="18121"/>
                  <a:pt x="7317" y="18182"/>
                </a:cubicBezTo>
                <a:cubicBezTo>
                  <a:pt x="7427" y="18145"/>
                  <a:pt x="7500" y="18085"/>
                  <a:pt x="7590" y="18157"/>
                </a:cubicBezTo>
                <a:cubicBezTo>
                  <a:pt x="7676" y="18225"/>
                  <a:pt x="7727" y="18325"/>
                  <a:pt x="7665" y="18430"/>
                </a:cubicBezTo>
                <a:cubicBezTo>
                  <a:pt x="7584" y="18567"/>
                  <a:pt x="7416" y="18537"/>
                  <a:pt x="7293" y="18529"/>
                </a:cubicBezTo>
                <a:cubicBezTo>
                  <a:pt x="7268" y="18529"/>
                  <a:pt x="7243" y="18529"/>
                  <a:pt x="7218" y="1852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27160" y="418788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5730" y="11782"/>
                </a:moveTo>
                <a:cubicBezTo>
                  <a:pt x="5704" y="11860"/>
                  <a:pt x="5743" y="11961"/>
                  <a:pt x="5755" y="12055"/>
                </a:cubicBezTo>
                <a:cubicBezTo>
                  <a:pt x="5755" y="12107"/>
                  <a:pt x="5756" y="12125"/>
                  <a:pt x="5779" y="12154"/>
                </a:cubicBezTo>
              </a:path>
              <a:path w="869" h="547">
                <a:moveTo>
                  <a:pt x="5631" y="12030"/>
                </a:moveTo>
                <a:cubicBezTo>
                  <a:pt x="5727" y="12003"/>
                  <a:pt x="5859" y="11972"/>
                  <a:pt x="5953" y="11931"/>
                </a:cubicBezTo>
                <a:cubicBezTo>
                  <a:pt x="5976" y="11908"/>
                  <a:pt x="5980" y="11900"/>
                  <a:pt x="6003" y="11906"/>
                </a:cubicBezTo>
              </a:path>
              <a:path w="869" h="547">
                <a:moveTo>
                  <a:pt x="6276" y="11708"/>
                </a:moveTo>
                <a:cubicBezTo>
                  <a:pt x="6266" y="11756"/>
                  <a:pt x="6208" y="11833"/>
                  <a:pt x="6226" y="11881"/>
                </a:cubicBezTo>
                <a:cubicBezTo>
                  <a:pt x="6239" y="11917"/>
                  <a:pt x="6393" y="11871"/>
                  <a:pt x="6424" y="11857"/>
                </a:cubicBezTo>
                <a:cubicBezTo>
                  <a:pt x="6452" y="11829"/>
                  <a:pt x="6466" y="11820"/>
                  <a:pt x="6499" y="11832"/>
                </a:cubicBezTo>
              </a:path>
              <a:path w="869" h="547">
                <a:moveTo>
                  <a:pt x="6499" y="11633"/>
                </a:moveTo>
                <a:cubicBezTo>
                  <a:pt x="6479" y="11751"/>
                  <a:pt x="6474" y="11859"/>
                  <a:pt x="6474" y="11981"/>
                </a:cubicBezTo>
                <a:cubicBezTo>
                  <a:pt x="6474" y="12047"/>
                  <a:pt x="6474" y="12113"/>
                  <a:pt x="6474" y="121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32640" y="6303960"/>
            <a:ext cx="2090520" cy="500040"/>
          </a:xfrm>
          <a:custGeom>
            <a:avLst/>
            <a:gdLst/>
            <a:ahLst/>
            <a:rect l="l" t="t" r="r" b="b"/>
            <a:pathLst>
              <a:path w="5805" h="1390">
                <a:moveTo>
                  <a:pt x="16049" y="18058"/>
                </a:moveTo>
                <a:cubicBezTo>
                  <a:pt x="16165" y="18024"/>
                  <a:pt x="16270" y="17974"/>
                  <a:pt x="16396" y="17959"/>
                </a:cubicBezTo>
                <a:cubicBezTo>
                  <a:pt x="16457" y="17959"/>
                  <a:pt x="16472" y="17950"/>
                  <a:pt x="16495" y="17983"/>
                </a:cubicBezTo>
              </a:path>
              <a:path w="5805" h="1390">
                <a:moveTo>
                  <a:pt x="16321" y="18083"/>
                </a:moveTo>
                <a:cubicBezTo>
                  <a:pt x="16321" y="18040"/>
                  <a:pt x="16364" y="18235"/>
                  <a:pt x="16371" y="18281"/>
                </a:cubicBezTo>
                <a:cubicBezTo>
                  <a:pt x="16374" y="18299"/>
                  <a:pt x="16391" y="18445"/>
                  <a:pt x="16421" y="18355"/>
                </a:cubicBezTo>
              </a:path>
              <a:path w="5805" h="1390">
                <a:moveTo>
                  <a:pt x="15925" y="17537"/>
                </a:moveTo>
                <a:cubicBezTo>
                  <a:pt x="15962" y="17543"/>
                  <a:pt x="16093" y="17588"/>
                  <a:pt x="16173" y="17636"/>
                </a:cubicBezTo>
                <a:cubicBezTo>
                  <a:pt x="16275" y="17697"/>
                  <a:pt x="16358" y="17768"/>
                  <a:pt x="16470" y="17810"/>
                </a:cubicBezTo>
                <a:cubicBezTo>
                  <a:pt x="16559" y="17843"/>
                  <a:pt x="16655" y="17831"/>
                  <a:pt x="16743" y="17859"/>
                </a:cubicBezTo>
                <a:cubicBezTo>
                  <a:pt x="16810" y="17880"/>
                  <a:pt x="16876" y="17888"/>
                  <a:pt x="16942" y="17909"/>
                </a:cubicBezTo>
                <a:cubicBezTo>
                  <a:pt x="17009" y="17930"/>
                  <a:pt x="17097" y="17971"/>
                  <a:pt x="17165" y="17983"/>
                </a:cubicBezTo>
                <a:cubicBezTo>
                  <a:pt x="17264" y="18000"/>
                  <a:pt x="17360" y="18008"/>
                  <a:pt x="17462" y="18008"/>
                </a:cubicBezTo>
                <a:cubicBezTo>
                  <a:pt x="17529" y="18008"/>
                  <a:pt x="17574" y="18005"/>
                  <a:pt x="17636" y="18033"/>
                </a:cubicBezTo>
                <a:cubicBezTo>
                  <a:pt x="17710" y="18066"/>
                  <a:pt x="17818" y="18138"/>
                  <a:pt x="17884" y="18157"/>
                </a:cubicBezTo>
                <a:cubicBezTo>
                  <a:pt x="17933" y="18171"/>
                  <a:pt x="18011" y="18160"/>
                  <a:pt x="18058" y="18182"/>
                </a:cubicBezTo>
                <a:cubicBezTo>
                  <a:pt x="18058" y="18207"/>
                  <a:pt x="18058" y="18215"/>
                  <a:pt x="18083" y="18207"/>
                </a:cubicBezTo>
              </a:path>
              <a:path w="5805" h="1390">
                <a:moveTo>
                  <a:pt x="18207" y="18331"/>
                </a:moveTo>
                <a:cubicBezTo>
                  <a:pt x="18207" y="18323"/>
                  <a:pt x="18207" y="18314"/>
                  <a:pt x="18207" y="18306"/>
                </a:cubicBezTo>
                <a:cubicBezTo>
                  <a:pt x="18271" y="18306"/>
                  <a:pt x="18275" y="18321"/>
                  <a:pt x="18306" y="18380"/>
                </a:cubicBezTo>
                <a:cubicBezTo>
                  <a:pt x="18335" y="18434"/>
                  <a:pt x="18321" y="18465"/>
                  <a:pt x="18380" y="18479"/>
                </a:cubicBezTo>
              </a:path>
              <a:path w="5805" h="1390">
                <a:moveTo>
                  <a:pt x="18430" y="18231"/>
                </a:moveTo>
                <a:cubicBezTo>
                  <a:pt x="18362" y="18316"/>
                  <a:pt x="18398" y="18379"/>
                  <a:pt x="18380" y="18479"/>
                </a:cubicBezTo>
                <a:cubicBezTo>
                  <a:pt x="18366" y="18556"/>
                  <a:pt x="18355" y="18623"/>
                  <a:pt x="18355" y="18703"/>
                </a:cubicBezTo>
              </a:path>
              <a:path w="5805" h="1390">
                <a:moveTo>
                  <a:pt x="18132" y="18827"/>
                </a:moveTo>
                <a:cubicBezTo>
                  <a:pt x="18233" y="18769"/>
                  <a:pt x="18324" y="18758"/>
                  <a:pt x="18430" y="18728"/>
                </a:cubicBezTo>
                <a:cubicBezTo>
                  <a:pt x="18481" y="18714"/>
                  <a:pt x="18480" y="18703"/>
                  <a:pt x="18529" y="18703"/>
                </a:cubicBezTo>
              </a:path>
              <a:path w="5805" h="1390">
                <a:moveTo>
                  <a:pt x="18380" y="18827"/>
                </a:moveTo>
                <a:cubicBezTo>
                  <a:pt x="18380" y="18868"/>
                  <a:pt x="18380" y="18876"/>
                  <a:pt x="18380" y="18901"/>
                </a:cubicBezTo>
              </a:path>
              <a:path w="5805" h="1390">
                <a:moveTo>
                  <a:pt x="18876" y="18455"/>
                </a:moveTo>
                <a:cubicBezTo>
                  <a:pt x="18944" y="18438"/>
                  <a:pt x="18995" y="18409"/>
                  <a:pt x="19075" y="18405"/>
                </a:cubicBezTo>
                <a:cubicBezTo>
                  <a:pt x="19091" y="18405"/>
                  <a:pt x="19108" y="18405"/>
                  <a:pt x="19124" y="18405"/>
                </a:cubicBezTo>
              </a:path>
              <a:path w="5805" h="1390">
                <a:moveTo>
                  <a:pt x="18976" y="18579"/>
                </a:moveTo>
                <a:cubicBezTo>
                  <a:pt x="19050" y="18529"/>
                  <a:pt x="19140" y="18513"/>
                  <a:pt x="19224" y="18479"/>
                </a:cubicBezTo>
              </a:path>
              <a:path w="5805" h="1390">
                <a:moveTo>
                  <a:pt x="19397" y="18306"/>
                </a:moveTo>
                <a:cubicBezTo>
                  <a:pt x="19450" y="18370"/>
                  <a:pt x="19516" y="18470"/>
                  <a:pt x="19596" y="18504"/>
                </a:cubicBezTo>
                <a:cubicBezTo>
                  <a:pt x="19682" y="18540"/>
                  <a:pt x="19689" y="18485"/>
                  <a:pt x="19720" y="18430"/>
                </a:cubicBezTo>
              </a:path>
              <a:path w="5805" h="1390">
                <a:moveTo>
                  <a:pt x="19720" y="18182"/>
                </a:moveTo>
                <a:cubicBezTo>
                  <a:pt x="19692" y="18340"/>
                  <a:pt x="19695" y="18492"/>
                  <a:pt x="19695" y="18653"/>
                </a:cubicBezTo>
                <a:cubicBezTo>
                  <a:pt x="19695" y="18734"/>
                  <a:pt x="19703" y="18787"/>
                  <a:pt x="19670" y="18852"/>
                </a:cubicBezTo>
              </a:path>
              <a:path w="5805" h="1390">
                <a:moveTo>
                  <a:pt x="19993" y="18355"/>
                </a:moveTo>
                <a:cubicBezTo>
                  <a:pt x="20089" y="18355"/>
                  <a:pt x="20172" y="18347"/>
                  <a:pt x="20265" y="18331"/>
                </a:cubicBezTo>
                <a:cubicBezTo>
                  <a:pt x="20322" y="18321"/>
                  <a:pt x="20273" y="18386"/>
                  <a:pt x="20265" y="18405"/>
                </a:cubicBezTo>
              </a:path>
              <a:path w="5805" h="1390">
                <a:moveTo>
                  <a:pt x="20117" y="18479"/>
                </a:moveTo>
                <a:cubicBezTo>
                  <a:pt x="20175" y="18479"/>
                  <a:pt x="20274" y="18502"/>
                  <a:pt x="20290" y="18455"/>
                </a:cubicBezTo>
              </a:path>
              <a:path w="5805" h="1390">
                <a:moveTo>
                  <a:pt x="20811" y="18058"/>
                </a:moveTo>
                <a:cubicBezTo>
                  <a:pt x="20864" y="18045"/>
                  <a:pt x="20941" y="17966"/>
                  <a:pt x="20985" y="17959"/>
                </a:cubicBezTo>
                <a:cubicBezTo>
                  <a:pt x="20993" y="17967"/>
                  <a:pt x="21002" y="17975"/>
                  <a:pt x="21010" y="17983"/>
                </a:cubicBezTo>
                <a:cubicBezTo>
                  <a:pt x="21053" y="18072"/>
                  <a:pt x="21012" y="18158"/>
                  <a:pt x="20935" y="18231"/>
                </a:cubicBezTo>
                <a:cubicBezTo>
                  <a:pt x="20895" y="18251"/>
                  <a:pt x="20869" y="18260"/>
                  <a:pt x="20910" y="18256"/>
                </a:cubicBezTo>
                <a:cubicBezTo>
                  <a:pt x="21017" y="18256"/>
                  <a:pt x="21120" y="18242"/>
                  <a:pt x="21109" y="18380"/>
                </a:cubicBezTo>
                <a:cubicBezTo>
                  <a:pt x="21098" y="18521"/>
                  <a:pt x="20972" y="18547"/>
                  <a:pt x="20861" y="18554"/>
                </a:cubicBezTo>
                <a:cubicBezTo>
                  <a:pt x="20833" y="18554"/>
                  <a:pt x="20822" y="18552"/>
                  <a:pt x="20811" y="18529"/>
                </a:cubicBezTo>
              </a:path>
              <a:path w="5805" h="1390">
                <a:moveTo>
                  <a:pt x="21307" y="18107"/>
                </a:moveTo>
                <a:cubicBezTo>
                  <a:pt x="21291" y="18206"/>
                  <a:pt x="21244" y="18304"/>
                  <a:pt x="21233" y="18405"/>
                </a:cubicBezTo>
                <a:cubicBezTo>
                  <a:pt x="21226" y="18471"/>
                  <a:pt x="21229" y="18634"/>
                  <a:pt x="21307" y="18653"/>
                </a:cubicBezTo>
                <a:cubicBezTo>
                  <a:pt x="21465" y="18690"/>
                  <a:pt x="21562" y="18574"/>
                  <a:pt x="21654" y="18479"/>
                </a:cubicBezTo>
                <a:cubicBezTo>
                  <a:pt x="21722" y="18412"/>
                  <a:pt x="21747" y="18398"/>
                  <a:pt x="21729" y="18331"/>
                </a:cubicBezTo>
                <a:cubicBezTo>
                  <a:pt x="21584" y="18347"/>
                  <a:pt x="21558" y="18386"/>
                  <a:pt x="21481" y="18504"/>
                </a:cubicBezTo>
                <a:cubicBezTo>
                  <a:pt x="21437" y="18569"/>
                  <a:pt x="21416" y="18584"/>
                  <a:pt x="21456" y="186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5054760"/>
            <a:ext cx="384120" cy="500040"/>
          </a:xfrm>
          <a:custGeom>
            <a:avLst/>
            <a:gdLst/>
            <a:ahLst/>
            <a:rect l="l" t="t" r="r" b="b"/>
            <a:pathLst>
              <a:path w="1067" h="1391">
                <a:moveTo>
                  <a:pt x="794" y="14585"/>
                </a:moveTo>
                <a:cubicBezTo>
                  <a:pt x="710" y="14585"/>
                  <a:pt x="736" y="14509"/>
                  <a:pt x="769" y="14436"/>
                </a:cubicBezTo>
                <a:cubicBezTo>
                  <a:pt x="817" y="14365"/>
                  <a:pt x="830" y="14342"/>
                  <a:pt x="893" y="14337"/>
                </a:cubicBezTo>
                <a:cubicBezTo>
                  <a:pt x="989" y="14401"/>
                  <a:pt x="981" y="14456"/>
                  <a:pt x="992" y="14585"/>
                </a:cubicBezTo>
                <a:cubicBezTo>
                  <a:pt x="902" y="14645"/>
                  <a:pt x="1038" y="14511"/>
                  <a:pt x="1042" y="14511"/>
                </a:cubicBezTo>
                <a:cubicBezTo>
                  <a:pt x="1228" y="14495"/>
                  <a:pt x="1167" y="14791"/>
                  <a:pt x="1141" y="14883"/>
                </a:cubicBezTo>
                <a:cubicBezTo>
                  <a:pt x="1093" y="15051"/>
                  <a:pt x="1039" y="15054"/>
                  <a:pt x="893" y="15081"/>
                </a:cubicBezTo>
              </a:path>
              <a:path w="1067" h="1391">
                <a:moveTo>
                  <a:pt x="918" y="15230"/>
                </a:moveTo>
                <a:cubicBezTo>
                  <a:pt x="1143" y="15150"/>
                  <a:pt x="1235" y="15043"/>
                  <a:pt x="1315" y="14808"/>
                </a:cubicBezTo>
                <a:cubicBezTo>
                  <a:pt x="1385" y="14604"/>
                  <a:pt x="1411" y="14295"/>
                  <a:pt x="1215" y="14139"/>
                </a:cubicBezTo>
                <a:cubicBezTo>
                  <a:pt x="982" y="13953"/>
                  <a:pt x="704" y="14049"/>
                  <a:pt x="521" y="14238"/>
                </a:cubicBezTo>
                <a:cubicBezTo>
                  <a:pt x="271" y="14495"/>
                  <a:pt x="228" y="14829"/>
                  <a:pt x="372" y="15156"/>
                </a:cubicBezTo>
                <a:cubicBezTo>
                  <a:pt x="507" y="15461"/>
                  <a:pt x="821" y="15502"/>
                  <a:pt x="1091" y="15329"/>
                </a:cubicBezTo>
                <a:cubicBezTo>
                  <a:pt x="1132" y="15288"/>
                  <a:pt x="1174" y="15246"/>
                  <a:pt x="1215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03200" y="5392800"/>
            <a:ext cx="108000" cy="144360"/>
          </a:xfrm>
          <a:custGeom>
            <a:avLst/>
            <a:gdLst/>
            <a:ahLst/>
            <a:rect l="l" t="t" r="r" b="b"/>
            <a:pathLst>
              <a:path w="299" h="398">
                <a:moveTo>
                  <a:pt x="3770" y="15032"/>
                </a:moveTo>
                <a:cubicBezTo>
                  <a:pt x="3770" y="15007"/>
                  <a:pt x="3770" y="14999"/>
                  <a:pt x="3770" y="14982"/>
                </a:cubicBezTo>
                <a:cubicBezTo>
                  <a:pt x="3789" y="15059"/>
                  <a:pt x="3779" y="15145"/>
                  <a:pt x="3795" y="15230"/>
                </a:cubicBezTo>
                <a:cubicBezTo>
                  <a:pt x="3805" y="15284"/>
                  <a:pt x="3820" y="15321"/>
                  <a:pt x="3820" y="15379"/>
                </a:cubicBezTo>
              </a:path>
              <a:path w="299" h="398">
                <a:moveTo>
                  <a:pt x="3646" y="15255"/>
                </a:moveTo>
                <a:cubicBezTo>
                  <a:pt x="3579" y="15255"/>
                  <a:pt x="3730" y="15235"/>
                  <a:pt x="3746" y="15230"/>
                </a:cubicBezTo>
                <a:cubicBezTo>
                  <a:pt x="3807" y="15209"/>
                  <a:pt x="3854" y="15205"/>
                  <a:pt x="3919" y="152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1760" y="5402160"/>
            <a:ext cx="241200" cy="179640"/>
          </a:xfrm>
          <a:custGeom>
            <a:avLst/>
            <a:gdLst/>
            <a:ahLst/>
            <a:rect l="l" t="t" r="r" b="b"/>
            <a:pathLst>
              <a:path w="670" h="497">
                <a:moveTo>
                  <a:pt x="4366" y="15106"/>
                </a:moveTo>
                <a:cubicBezTo>
                  <a:pt x="4387" y="15221"/>
                  <a:pt x="4407" y="15337"/>
                  <a:pt x="4415" y="15453"/>
                </a:cubicBezTo>
                <a:cubicBezTo>
                  <a:pt x="4415" y="15461"/>
                  <a:pt x="4415" y="15470"/>
                  <a:pt x="4415" y="15478"/>
                </a:cubicBezTo>
              </a:path>
              <a:path w="670" h="497">
                <a:moveTo>
                  <a:pt x="4812" y="15106"/>
                </a:moveTo>
                <a:cubicBezTo>
                  <a:pt x="4812" y="15163"/>
                  <a:pt x="4802" y="15213"/>
                  <a:pt x="4812" y="15230"/>
                </a:cubicBezTo>
                <a:cubicBezTo>
                  <a:pt x="4866" y="15322"/>
                  <a:pt x="4896" y="15256"/>
                  <a:pt x="4986" y="15230"/>
                </a:cubicBezTo>
                <a:cubicBezTo>
                  <a:pt x="5045" y="15213"/>
                  <a:pt x="5021" y="15265"/>
                  <a:pt x="5035" y="15180"/>
                </a:cubicBezTo>
              </a:path>
              <a:path w="670" h="497">
                <a:moveTo>
                  <a:pt x="4961" y="15007"/>
                </a:moveTo>
                <a:cubicBezTo>
                  <a:pt x="4945" y="15142"/>
                  <a:pt x="4935" y="15314"/>
                  <a:pt x="4961" y="15453"/>
                </a:cubicBezTo>
                <a:cubicBezTo>
                  <a:pt x="4969" y="15470"/>
                  <a:pt x="4978" y="15486"/>
                  <a:pt x="4986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87720" y="5340240"/>
            <a:ext cx="393480" cy="2509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6176" y="15106"/>
                </a:moveTo>
                <a:cubicBezTo>
                  <a:pt x="6176" y="15081"/>
                  <a:pt x="6176" y="15073"/>
                  <a:pt x="6152" y="15081"/>
                </a:cubicBezTo>
                <a:cubicBezTo>
                  <a:pt x="6152" y="15200"/>
                  <a:pt x="6131" y="15311"/>
                  <a:pt x="6127" y="15429"/>
                </a:cubicBezTo>
                <a:cubicBezTo>
                  <a:pt x="6127" y="15445"/>
                  <a:pt x="6127" y="15462"/>
                  <a:pt x="6127" y="15478"/>
                </a:cubicBezTo>
              </a:path>
              <a:path w="1093" h="696">
                <a:moveTo>
                  <a:pt x="6077" y="15280"/>
                </a:moveTo>
                <a:cubicBezTo>
                  <a:pt x="6188" y="15280"/>
                  <a:pt x="6292" y="15289"/>
                  <a:pt x="6400" y="15255"/>
                </a:cubicBezTo>
                <a:cubicBezTo>
                  <a:pt x="6416" y="15247"/>
                  <a:pt x="6433" y="15238"/>
                  <a:pt x="6449" y="15230"/>
                </a:cubicBezTo>
              </a:path>
              <a:path w="1093" h="696">
                <a:moveTo>
                  <a:pt x="6598" y="15032"/>
                </a:moveTo>
                <a:cubicBezTo>
                  <a:pt x="6598" y="15170"/>
                  <a:pt x="6592" y="15294"/>
                  <a:pt x="6573" y="15429"/>
                </a:cubicBezTo>
                <a:cubicBezTo>
                  <a:pt x="6573" y="15457"/>
                  <a:pt x="6576" y="15462"/>
                  <a:pt x="6598" y="15429"/>
                </a:cubicBezTo>
              </a:path>
              <a:path w="1093" h="696">
                <a:moveTo>
                  <a:pt x="6871" y="15007"/>
                </a:moveTo>
                <a:cubicBezTo>
                  <a:pt x="6884" y="15084"/>
                  <a:pt x="6896" y="15150"/>
                  <a:pt x="6896" y="15230"/>
                </a:cubicBezTo>
                <a:cubicBezTo>
                  <a:pt x="6991" y="15230"/>
                  <a:pt x="7054" y="15181"/>
                  <a:pt x="7144" y="15156"/>
                </a:cubicBezTo>
                <a:cubicBezTo>
                  <a:pt x="7152" y="15156"/>
                  <a:pt x="7161" y="15156"/>
                  <a:pt x="7169" y="15156"/>
                </a:cubicBezTo>
              </a:path>
              <a:path w="1093" h="696">
                <a:moveTo>
                  <a:pt x="7144" y="14833"/>
                </a:moveTo>
                <a:cubicBezTo>
                  <a:pt x="7128" y="15009"/>
                  <a:pt x="7098" y="15176"/>
                  <a:pt x="7094" y="15354"/>
                </a:cubicBezTo>
                <a:cubicBezTo>
                  <a:pt x="7094" y="15445"/>
                  <a:pt x="7094" y="15470"/>
                  <a:pt x="7094" y="155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9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Objective:  Students will solve 2-step equations.</a:t>
            </a:r>
            <a:br>
              <a:rPr sz="2800"/>
            </a:br>
            <a:r>
              <a:rPr b="1" lang="en-US" sz="20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6840" y="838080"/>
          <a:ext cx="23511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838080"/>
                    <a:ext cx="23511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219320" y="1981080"/>
          <a:ext cx="17524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17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066680" y="3657600"/>
          <a:ext cx="228600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6576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43000" y="4800600"/>
          <a:ext cx="1676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00600"/>
                    <a:ext cx="1676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581120" y="1347840"/>
            <a:ext cx="115920" cy="19080"/>
          </a:xfrm>
          <a:custGeom>
            <a:avLst/>
            <a:gdLst/>
            <a:ahLst/>
            <a:rect l="l" t="t" r="r" b="b"/>
            <a:pathLst>
              <a:path w="324" h="50">
                <a:moveTo>
                  <a:pt x="4390" y="3795"/>
                </a:moveTo>
                <a:cubicBezTo>
                  <a:pt x="4462" y="3795"/>
                  <a:pt x="4520" y="3780"/>
                  <a:pt x="4589" y="3770"/>
                </a:cubicBezTo>
                <a:cubicBezTo>
                  <a:pt x="4663" y="3760"/>
                  <a:pt x="4642" y="3750"/>
                  <a:pt x="4713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74880" y="1251000"/>
            <a:ext cx="144360" cy="160200"/>
          </a:xfrm>
          <a:custGeom>
            <a:avLst/>
            <a:gdLst/>
            <a:ahLst/>
            <a:rect l="l" t="t" r="r" b="b"/>
            <a:pathLst>
              <a:path w="398" h="447">
                <a:moveTo>
                  <a:pt x="5482" y="3621"/>
                </a:moveTo>
                <a:cubicBezTo>
                  <a:pt x="5530" y="3606"/>
                  <a:pt x="5504" y="3569"/>
                  <a:pt x="5482" y="3522"/>
                </a:cubicBezTo>
                <a:cubicBezTo>
                  <a:pt x="5442" y="3438"/>
                  <a:pt x="5349" y="3459"/>
                  <a:pt x="5283" y="3522"/>
                </a:cubicBezTo>
                <a:cubicBezTo>
                  <a:pt x="5224" y="3579"/>
                  <a:pt x="5217" y="3647"/>
                  <a:pt x="5209" y="3721"/>
                </a:cubicBezTo>
                <a:cubicBezTo>
                  <a:pt x="5343" y="3779"/>
                  <a:pt x="5371" y="3719"/>
                  <a:pt x="5457" y="3621"/>
                </a:cubicBezTo>
                <a:cubicBezTo>
                  <a:pt x="5465" y="3613"/>
                  <a:pt x="5474" y="3605"/>
                  <a:pt x="5482" y="3597"/>
                </a:cubicBezTo>
                <a:cubicBezTo>
                  <a:pt x="5543" y="3672"/>
                  <a:pt x="5539" y="3760"/>
                  <a:pt x="5581" y="3845"/>
                </a:cubicBezTo>
                <a:cubicBezTo>
                  <a:pt x="5601" y="3885"/>
                  <a:pt x="5606" y="3872"/>
                  <a:pt x="5606" y="391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5840" y="1295280"/>
            <a:ext cx="152280" cy="7920"/>
          </a:xfrm>
          <a:custGeom>
            <a:avLst/>
            <a:gdLst/>
            <a:ahLst/>
            <a:rect l="l" t="t" r="r" b="b"/>
            <a:pathLst>
              <a:path w="422" h="25">
                <a:moveTo>
                  <a:pt x="7293" y="3597"/>
                </a:moveTo>
                <a:cubicBezTo>
                  <a:pt x="7358" y="3645"/>
                  <a:pt x="7459" y="3621"/>
                  <a:pt x="7541" y="3621"/>
                </a:cubicBezTo>
                <a:cubicBezTo>
                  <a:pt x="7599" y="3621"/>
                  <a:pt x="7656" y="3621"/>
                  <a:pt x="7714" y="36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55960" y="1268280"/>
            <a:ext cx="133200" cy="125640"/>
          </a:xfrm>
          <a:custGeom>
            <a:avLst/>
            <a:gdLst/>
            <a:ahLst/>
            <a:rect l="l" t="t" r="r" b="b"/>
            <a:pathLst>
              <a:path w="373" h="349">
                <a:moveTo>
                  <a:pt x="8458" y="3547"/>
                </a:moveTo>
                <a:cubicBezTo>
                  <a:pt x="8442" y="3496"/>
                  <a:pt x="8359" y="3523"/>
                  <a:pt x="8310" y="3547"/>
                </a:cubicBezTo>
                <a:cubicBezTo>
                  <a:pt x="8277" y="3564"/>
                  <a:pt x="8121" y="3733"/>
                  <a:pt x="8260" y="3746"/>
                </a:cubicBezTo>
                <a:cubicBezTo>
                  <a:pt x="8346" y="3754"/>
                  <a:pt x="8453" y="3639"/>
                  <a:pt x="8483" y="3572"/>
                </a:cubicBezTo>
                <a:cubicBezTo>
                  <a:pt x="8483" y="3564"/>
                  <a:pt x="8483" y="3555"/>
                  <a:pt x="8483" y="3547"/>
                </a:cubicBezTo>
                <a:cubicBezTo>
                  <a:pt x="8499" y="3627"/>
                  <a:pt x="8528" y="3716"/>
                  <a:pt x="8558" y="3795"/>
                </a:cubicBezTo>
                <a:cubicBezTo>
                  <a:pt x="8579" y="3848"/>
                  <a:pt x="8603" y="3854"/>
                  <a:pt x="8558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41840" y="1143000"/>
            <a:ext cx="142920" cy="19080"/>
          </a:xfrm>
          <a:custGeom>
            <a:avLst/>
            <a:gdLst/>
            <a:ahLst/>
            <a:rect l="l" t="t" r="r" b="b"/>
            <a:pathLst>
              <a:path w="398" h="51">
                <a:moveTo>
                  <a:pt x="10393" y="3225"/>
                </a:moveTo>
                <a:cubicBezTo>
                  <a:pt x="10486" y="3225"/>
                  <a:pt x="10573" y="3203"/>
                  <a:pt x="10666" y="3200"/>
                </a:cubicBezTo>
                <a:cubicBezTo>
                  <a:pt x="10734" y="3200"/>
                  <a:pt x="10753" y="3203"/>
                  <a:pt x="10790" y="31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7040" y="1027080"/>
            <a:ext cx="312840" cy="223920"/>
          </a:xfrm>
          <a:custGeom>
            <a:avLst/>
            <a:gdLst/>
            <a:ahLst/>
            <a:rect l="l" t="t" r="r" b="b"/>
            <a:pathLst>
              <a:path w="869" h="621">
                <a:moveTo>
                  <a:pt x="11212" y="2877"/>
                </a:moveTo>
                <a:cubicBezTo>
                  <a:pt x="11239" y="3027"/>
                  <a:pt x="11292" y="3176"/>
                  <a:pt x="11336" y="3324"/>
                </a:cubicBezTo>
                <a:cubicBezTo>
                  <a:pt x="11357" y="3408"/>
                  <a:pt x="11359" y="3427"/>
                  <a:pt x="11385" y="3473"/>
                </a:cubicBezTo>
              </a:path>
              <a:path w="869" h="621">
                <a:moveTo>
                  <a:pt x="11832" y="2853"/>
                </a:moveTo>
                <a:cubicBezTo>
                  <a:pt x="11770" y="2871"/>
                  <a:pt x="11625" y="2916"/>
                  <a:pt x="11584" y="2977"/>
                </a:cubicBezTo>
                <a:cubicBezTo>
                  <a:pt x="11557" y="3017"/>
                  <a:pt x="11593" y="3114"/>
                  <a:pt x="11609" y="3150"/>
                </a:cubicBezTo>
                <a:cubicBezTo>
                  <a:pt x="11686" y="3150"/>
                  <a:pt x="11752" y="3127"/>
                  <a:pt x="11832" y="3125"/>
                </a:cubicBezTo>
                <a:cubicBezTo>
                  <a:pt x="11907" y="3123"/>
                  <a:pt x="12121" y="3156"/>
                  <a:pt x="12080" y="3299"/>
                </a:cubicBezTo>
                <a:cubicBezTo>
                  <a:pt x="12046" y="3417"/>
                  <a:pt x="11742" y="3428"/>
                  <a:pt x="11658" y="3423"/>
                </a:cubicBezTo>
                <a:cubicBezTo>
                  <a:pt x="11642" y="3415"/>
                  <a:pt x="11625" y="3406"/>
                  <a:pt x="11609" y="339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1000" y="982800"/>
            <a:ext cx="447840" cy="241200"/>
          </a:xfrm>
          <a:custGeom>
            <a:avLst/>
            <a:gdLst/>
            <a:ahLst/>
            <a:rect l="l" t="t" r="r" b="b"/>
            <a:pathLst>
              <a:path w="1241" h="670">
                <a:moveTo>
                  <a:pt x="12477" y="3051"/>
                </a:moveTo>
                <a:cubicBezTo>
                  <a:pt x="12629" y="3051"/>
                  <a:pt x="12776" y="3058"/>
                  <a:pt x="12923" y="3026"/>
                </a:cubicBezTo>
              </a:path>
              <a:path w="1241" h="670">
                <a:moveTo>
                  <a:pt x="13543" y="2778"/>
                </a:moveTo>
                <a:cubicBezTo>
                  <a:pt x="13442" y="2757"/>
                  <a:pt x="13399" y="2692"/>
                  <a:pt x="13295" y="2778"/>
                </a:cubicBezTo>
                <a:cubicBezTo>
                  <a:pt x="13210" y="2848"/>
                  <a:pt x="13201" y="2954"/>
                  <a:pt x="13171" y="3051"/>
                </a:cubicBezTo>
                <a:cubicBezTo>
                  <a:pt x="13293" y="3112"/>
                  <a:pt x="13333" y="3077"/>
                  <a:pt x="13419" y="2977"/>
                </a:cubicBezTo>
                <a:cubicBezTo>
                  <a:pt x="13464" y="2925"/>
                  <a:pt x="13543" y="2842"/>
                  <a:pt x="13568" y="2778"/>
                </a:cubicBezTo>
                <a:cubicBezTo>
                  <a:pt x="13610" y="2904"/>
                  <a:pt x="13655" y="3039"/>
                  <a:pt x="13692" y="3175"/>
                </a:cubicBezTo>
                <a:cubicBezTo>
                  <a:pt x="13699" y="3199"/>
                  <a:pt x="13758" y="3409"/>
                  <a:pt x="13692" y="3398"/>
                </a:cubicBezTo>
                <a:cubicBezTo>
                  <a:pt x="13667" y="3390"/>
                  <a:pt x="13643" y="3381"/>
                  <a:pt x="13618" y="337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67120" y="1330200"/>
            <a:ext cx="1276560" cy="223920"/>
          </a:xfrm>
          <a:custGeom>
            <a:avLst/>
            <a:gdLst/>
            <a:ahLst/>
            <a:rect l="l" t="t" r="r" b="b"/>
            <a:pathLst>
              <a:path w="3549" h="621">
                <a:moveTo>
                  <a:pt x="10740" y="4043"/>
                </a:moveTo>
                <a:cubicBezTo>
                  <a:pt x="10847" y="4043"/>
                  <a:pt x="10936" y="4059"/>
                  <a:pt x="11038" y="4043"/>
                </a:cubicBezTo>
              </a:path>
              <a:path w="3549" h="621">
                <a:moveTo>
                  <a:pt x="11361" y="3919"/>
                </a:moveTo>
                <a:cubicBezTo>
                  <a:pt x="11418" y="4006"/>
                  <a:pt x="11468" y="4119"/>
                  <a:pt x="11509" y="4217"/>
                </a:cubicBezTo>
                <a:cubicBezTo>
                  <a:pt x="11532" y="4284"/>
                  <a:pt x="11533" y="4305"/>
                  <a:pt x="11584" y="4316"/>
                </a:cubicBezTo>
              </a:path>
              <a:path w="3549" h="621">
                <a:moveTo>
                  <a:pt x="12105" y="3746"/>
                </a:moveTo>
                <a:cubicBezTo>
                  <a:pt x="12043" y="3766"/>
                  <a:pt x="11909" y="3827"/>
                  <a:pt x="11857" y="3870"/>
                </a:cubicBezTo>
                <a:cubicBezTo>
                  <a:pt x="11830" y="3893"/>
                  <a:pt x="11816" y="3968"/>
                  <a:pt x="11857" y="3994"/>
                </a:cubicBezTo>
                <a:cubicBezTo>
                  <a:pt x="11924" y="4037"/>
                  <a:pt x="11974" y="4000"/>
                  <a:pt x="12055" y="3994"/>
                </a:cubicBezTo>
                <a:cubicBezTo>
                  <a:pt x="12179" y="3985"/>
                  <a:pt x="12353" y="3998"/>
                  <a:pt x="12353" y="4167"/>
                </a:cubicBezTo>
                <a:cubicBezTo>
                  <a:pt x="12353" y="4344"/>
                  <a:pt x="12106" y="4298"/>
                  <a:pt x="12005" y="4266"/>
                </a:cubicBezTo>
                <a:cubicBezTo>
                  <a:pt x="11972" y="4250"/>
                  <a:pt x="11939" y="4233"/>
                  <a:pt x="11906" y="4217"/>
                </a:cubicBezTo>
              </a:path>
              <a:path w="3549" h="621">
                <a:moveTo>
                  <a:pt x="12725" y="3696"/>
                </a:moveTo>
                <a:cubicBezTo>
                  <a:pt x="12750" y="3823"/>
                  <a:pt x="12836" y="3920"/>
                  <a:pt x="12874" y="4043"/>
                </a:cubicBezTo>
                <a:cubicBezTo>
                  <a:pt x="12874" y="4085"/>
                  <a:pt x="12882" y="4101"/>
                  <a:pt x="12849" y="4093"/>
                </a:cubicBezTo>
              </a:path>
              <a:path w="3549" h="621">
                <a:moveTo>
                  <a:pt x="12601" y="3994"/>
                </a:moveTo>
                <a:cubicBezTo>
                  <a:pt x="12725" y="4020"/>
                  <a:pt x="12845" y="4018"/>
                  <a:pt x="12973" y="4018"/>
                </a:cubicBezTo>
                <a:cubicBezTo>
                  <a:pt x="13031" y="4018"/>
                  <a:pt x="13055" y="4002"/>
                  <a:pt x="13047" y="4043"/>
                </a:cubicBezTo>
              </a:path>
              <a:path w="3549" h="621">
                <a:moveTo>
                  <a:pt x="13419" y="3994"/>
                </a:moveTo>
                <a:cubicBezTo>
                  <a:pt x="13502" y="3994"/>
                  <a:pt x="13584" y="3994"/>
                  <a:pt x="13667" y="3994"/>
                </a:cubicBezTo>
              </a:path>
              <a:path w="3549" h="621">
                <a:moveTo>
                  <a:pt x="14089" y="3845"/>
                </a:moveTo>
                <a:cubicBezTo>
                  <a:pt x="14160" y="3821"/>
                  <a:pt x="14064" y="3795"/>
                  <a:pt x="14015" y="3820"/>
                </a:cubicBezTo>
                <a:cubicBezTo>
                  <a:pt x="13910" y="3875"/>
                  <a:pt x="13839" y="3935"/>
                  <a:pt x="13866" y="4043"/>
                </a:cubicBezTo>
                <a:cubicBezTo>
                  <a:pt x="13955" y="4043"/>
                  <a:pt x="13997" y="4029"/>
                  <a:pt x="14064" y="3969"/>
                </a:cubicBezTo>
                <a:cubicBezTo>
                  <a:pt x="14106" y="3927"/>
                  <a:pt x="14114" y="3919"/>
                  <a:pt x="14139" y="3894"/>
                </a:cubicBezTo>
                <a:cubicBezTo>
                  <a:pt x="14168" y="3984"/>
                  <a:pt x="14229" y="4072"/>
                  <a:pt x="14263" y="4167"/>
                </a:cubicBezTo>
                <a:cubicBezTo>
                  <a:pt x="14282" y="4225"/>
                  <a:pt x="14291" y="4231"/>
                  <a:pt x="14288" y="426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22960" y="1401840"/>
            <a:ext cx="133200" cy="54000"/>
          </a:xfrm>
          <a:custGeom>
            <a:avLst/>
            <a:gdLst/>
            <a:ahLst/>
            <a:rect l="l" t="t" r="r" b="b"/>
            <a:pathLst>
              <a:path w="373" h="150">
                <a:moveTo>
                  <a:pt x="14784" y="3894"/>
                </a:moveTo>
                <a:cubicBezTo>
                  <a:pt x="14900" y="3894"/>
                  <a:pt x="15015" y="3894"/>
                  <a:pt x="15131" y="3894"/>
                </a:cubicBezTo>
              </a:path>
              <a:path w="373" h="150">
                <a:moveTo>
                  <a:pt x="14784" y="4043"/>
                </a:moveTo>
                <a:cubicBezTo>
                  <a:pt x="14914" y="4036"/>
                  <a:pt x="15028" y="4019"/>
                  <a:pt x="15156" y="3994"/>
                </a:cubicBezTo>
              </a:path>
              <a:path w="373" h="150">
                <a:moveTo>
                  <a:pt x="15156" y="3994"/>
                </a:moveTo>
                <a:lnTo>
                  <a:pt x="15156" y="3994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99080" y="1339920"/>
            <a:ext cx="554040" cy="223920"/>
          </a:xfrm>
          <a:custGeom>
            <a:avLst/>
            <a:gdLst/>
            <a:ahLst/>
            <a:rect l="l" t="t" r="r" b="b"/>
            <a:pathLst>
              <a:path w="1538" h="621">
                <a:moveTo>
                  <a:pt x="15553" y="3870"/>
                </a:moveTo>
                <a:cubicBezTo>
                  <a:pt x="15649" y="3870"/>
                  <a:pt x="15734" y="3855"/>
                  <a:pt x="15825" y="3845"/>
                </a:cubicBezTo>
                <a:cubicBezTo>
                  <a:pt x="15850" y="3845"/>
                  <a:pt x="15875" y="3845"/>
                  <a:pt x="15900" y="3845"/>
                </a:cubicBezTo>
              </a:path>
              <a:path w="1538" h="621">
                <a:moveTo>
                  <a:pt x="16123" y="3746"/>
                </a:moveTo>
                <a:cubicBezTo>
                  <a:pt x="16291" y="3797"/>
                  <a:pt x="16370" y="3843"/>
                  <a:pt x="16446" y="4018"/>
                </a:cubicBezTo>
                <a:cubicBezTo>
                  <a:pt x="16526" y="4204"/>
                  <a:pt x="16339" y="4232"/>
                  <a:pt x="16197" y="4217"/>
                </a:cubicBezTo>
                <a:cubicBezTo>
                  <a:pt x="16164" y="4209"/>
                  <a:pt x="16131" y="4200"/>
                  <a:pt x="16098" y="4192"/>
                </a:cubicBezTo>
                <a:cubicBezTo>
                  <a:pt x="16131" y="4078"/>
                  <a:pt x="16233" y="4093"/>
                  <a:pt x="16346" y="4118"/>
                </a:cubicBezTo>
                <a:cubicBezTo>
                  <a:pt x="16421" y="4142"/>
                  <a:pt x="16446" y="4150"/>
                  <a:pt x="16495" y="4167"/>
                </a:cubicBezTo>
              </a:path>
              <a:path w="1538" h="621">
                <a:moveTo>
                  <a:pt x="16669" y="3770"/>
                </a:moveTo>
                <a:cubicBezTo>
                  <a:pt x="16677" y="3871"/>
                  <a:pt x="16678" y="4002"/>
                  <a:pt x="16793" y="4043"/>
                </a:cubicBezTo>
                <a:cubicBezTo>
                  <a:pt x="16879" y="4043"/>
                  <a:pt x="16915" y="4038"/>
                  <a:pt x="16966" y="3994"/>
                </a:cubicBezTo>
              </a:path>
              <a:path w="1538" h="621">
                <a:moveTo>
                  <a:pt x="17041" y="3721"/>
                </a:moveTo>
                <a:cubicBezTo>
                  <a:pt x="17047" y="3900"/>
                  <a:pt x="17103" y="4119"/>
                  <a:pt x="17090" y="4291"/>
                </a:cubicBezTo>
                <a:cubicBezTo>
                  <a:pt x="17070" y="4332"/>
                  <a:pt x="17073" y="4349"/>
                  <a:pt x="17041" y="43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3680" y="1616040"/>
            <a:ext cx="393480" cy="258840"/>
          </a:xfrm>
          <a:custGeom>
            <a:avLst/>
            <a:gdLst/>
            <a:ahLst/>
            <a:rect l="l" t="t" r="r" b="b"/>
            <a:pathLst>
              <a:path w="1093" h="720">
                <a:moveTo>
                  <a:pt x="4663" y="4490"/>
                </a:moveTo>
                <a:cubicBezTo>
                  <a:pt x="4620" y="4504"/>
                  <a:pt x="4573" y="4718"/>
                  <a:pt x="4564" y="4762"/>
                </a:cubicBezTo>
                <a:cubicBezTo>
                  <a:pt x="4546" y="4847"/>
                  <a:pt x="4475" y="5148"/>
                  <a:pt x="4614" y="5184"/>
                </a:cubicBezTo>
                <a:cubicBezTo>
                  <a:pt x="4796" y="5231"/>
                  <a:pt x="4902" y="5091"/>
                  <a:pt x="4986" y="4961"/>
                </a:cubicBezTo>
                <a:cubicBezTo>
                  <a:pt x="5008" y="4917"/>
                  <a:pt x="5021" y="4906"/>
                  <a:pt x="4986" y="4887"/>
                </a:cubicBezTo>
                <a:cubicBezTo>
                  <a:pt x="4841" y="4903"/>
                  <a:pt x="4818" y="4976"/>
                  <a:pt x="4762" y="5110"/>
                </a:cubicBezTo>
                <a:cubicBezTo>
                  <a:pt x="4742" y="5170"/>
                  <a:pt x="4724" y="5185"/>
                  <a:pt x="4762" y="5209"/>
                </a:cubicBezTo>
              </a:path>
              <a:path w="1093" h="720">
                <a:moveTo>
                  <a:pt x="5556" y="4812"/>
                </a:moveTo>
                <a:cubicBezTo>
                  <a:pt x="5506" y="4762"/>
                  <a:pt x="5455" y="4711"/>
                  <a:pt x="5383" y="4762"/>
                </a:cubicBezTo>
                <a:cubicBezTo>
                  <a:pt x="5317" y="4809"/>
                  <a:pt x="5151" y="4988"/>
                  <a:pt x="5209" y="5085"/>
                </a:cubicBezTo>
                <a:cubicBezTo>
                  <a:pt x="5226" y="5093"/>
                  <a:pt x="5242" y="5102"/>
                  <a:pt x="5259" y="5110"/>
                </a:cubicBezTo>
                <a:cubicBezTo>
                  <a:pt x="5432" y="5052"/>
                  <a:pt x="5505" y="4983"/>
                  <a:pt x="5531" y="4787"/>
                </a:cubicBezTo>
                <a:cubicBezTo>
                  <a:pt x="5531" y="4785"/>
                  <a:pt x="5507" y="4516"/>
                  <a:pt x="5507" y="4589"/>
                </a:cubicBezTo>
                <a:cubicBezTo>
                  <a:pt x="5532" y="4725"/>
                  <a:pt x="5596" y="4853"/>
                  <a:pt x="5631" y="4986"/>
                </a:cubicBezTo>
                <a:cubicBezTo>
                  <a:pt x="5631" y="5002"/>
                  <a:pt x="5631" y="5019"/>
                  <a:pt x="5631" y="50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5000" y="1527120"/>
            <a:ext cx="760320" cy="231840"/>
          </a:xfrm>
          <a:custGeom>
            <a:avLst/>
            <a:gdLst/>
            <a:ahLst/>
            <a:rect l="l" t="t" r="r" b="b"/>
            <a:pathLst>
              <a:path w="2109" h="646">
                <a:moveTo>
                  <a:pt x="6127" y="4638"/>
                </a:moveTo>
                <a:cubicBezTo>
                  <a:pt x="6221" y="4638"/>
                  <a:pt x="6306" y="4599"/>
                  <a:pt x="6400" y="4589"/>
                </a:cubicBezTo>
                <a:cubicBezTo>
                  <a:pt x="6478" y="4589"/>
                  <a:pt x="6496" y="4604"/>
                  <a:pt x="6524" y="4564"/>
                </a:cubicBezTo>
              </a:path>
              <a:path w="2109" h="646">
                <a:moveTo>
                  <a:pt x="6226" y="4787"/>
                </a:moveTo>
                <a:cubicBezTo>
                  <a:pt x="6402" y="4729"/>
                  <a:pt x="6554" y="4668"/>
                  <a:pt x="6722" y="4589"/>
                </a:cubicBezTo>
              </a:path>
              <a:path w="2109" h="646">
                <a:moveTo>
                  <a:pt x="7094" y="4688"/>
                </a:moveTo>
                <a:cubicBezTo>
                  <a:pt x="7149" y="4697"/>
                  <a:pt x="7210" y="4728"/>
                  <a:pt x="7268" y="4713"/>
                </a:cubicBezTo>
                <a:cubicBezTo>
                  <a:pt x="7293" y="4705"/>
                  <a:pt x="7317" y="4696"/>
                  <a:pt x="7342" y="4688"/>
                </a:cubicBezTo>
              </a:path>
              <a:path w="2109" h="646">
                <a:moveTo>
                  <a:pt x="7541" y="4465"/>
                </a:moveTo>
                <a:cubicBezTo>
                  <a:pt x="7615" y="4435"/>
                  <a:pt x="7701" y="4505"/>
                  <a:pt x="7739" y="4589"/>
                </a:cubicBezTo>
                <a:cubicBezTo>
                  <a:pt x="7799" y="4721"/>
                  <a:pt x="7708" y="4843"/>
                  <a:pt x="7590" y="4887"/>
                </a:cubicBezTo>
                <a:cubicBezTo>
                  <a:pt x="7562" y="4887"/>
                  <a:pt x="7551" y="4885"/>
                  <a:pt x="7541" y="4862"/>
                </a:cubicBezTo>
                <a:cubicBezTo>
                  <a:pt x="7558" y="4802"/>
                  <a:pt x="7626" y="4729"/>
                  <a:pt x="7714" y="4762"/>
                </a:cubicBezTo>
                <a:cubicBezTo>
                  <a:pt x="7778" y="4804"/>
                  <a:pt x="7789" y="4821"/>
                  <a:pt x="7838" y="4812"/>
                </a:cubicBezTo>
              </a:path>
              <a:path w="2109" h="646">
                <a:moveTo>
                  <a:pt x="7913" y="4390"/>
                </a:moveTo>
                <a:cubicBezTo>
                  <a:pt x="7943" y="4479"/>
                  <a:pt x="7953" y="4570"/>
                  <a:pt x="8062" y="4589"/>
                </a:cubicBezTo>
                <a:cubicBezTo>
                  <a:pt x="8141" y="4589"/>
                  <a:pt x="8169" y="4585"/>
                  <a:pt x="8186" y="4514"/>
                </a:cubicBezTo>
              </a:path>
              <a:path w="2109" h="646">
                <a:moveTo>
                  <a:pt x="8161" y="4242"/>
                </a:moveTo>
                <a:cubicBezTo>
                  <a:pt x="8170" y="4411"/>
                  <a:pt x="8241" y="4596"/>
                  <a:pt x="8235" y="4762"/>
                </a:cubicBezTo>
                <a:cubicBezTo>
                  <a:pt x="8227" y="4779"/>
                  <a:pt x="8218" y="4795"/>
                  <a:pt x="8210" y="48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8120" y="1893960"/>
            <a:ext cx="411120" cy="160200"/>
          </a:xfrm>
          <a:custGeom>
            <a:avLst/>
            <a:gdLst/>
            <a:ahLst/>
            <a:rect l="l" t="t" r="r" b="b"/>
            <a:pathLst>
              <a:path w="1142" h="447">
                <a:moveTo>
                  <a:pt x="4465" y="5308"/>
                </a:moveTo>
                <a:cubicBezTo>
                  <a:pt x="4620" y="5344"/>
                  <a:pt x="4775" y="5333"/>
                  <a:pt x="4936" y="5333"/>
                </a:cubicBezTo>
                <a:cubicBezTo>
                  <a:pt x="5128" y="5333"/>
                  <a:pt x="5371" y="5337"/>
                  <a:pt x="5556" y="5283"/>
                </a:cubicBezTo>
                <a:cubicBezTo>
                  <a:pt x="5581" y="5259"/>
                  <a:pt x="5589" y="5251"/>
                  <a:pt x="5606" y="5283"/>
                </a:cubicBezTo>
              </a:path>
              <a:path w="1142" h="447">
                <a:moveTo>
                  <a:pt x="5011" y="5432"/>
                </a:moveTo>
                <a:cubicBezTo>
                  <a:pt x="4996" y="5507"/>
                  <a:pt x="4981" y="5559"/>
                  <a:pt x="5035" y="5631"/>
                </a:cubicBezTo>
                <a:cubicBezTo>
                  <a:pt x="5115" y="5739"/>
                  <a:pt x="5238" y="5659"/>
                  <a:pt x="5308" y="5581"/>
                </a:cubicBezTo>
                <a:cubicBezTo>
                  <a:pt x="5330" y="5537"/>
                  <a:pt x="5333" y="5526"/>
                  <a:pt x="5358" y="5507"/>
                </a:cubicBezTo>
                <a:cubicBezTo>
                  <a:pt x="5277" y="5534"/>
                  <a:pt x="5208" y="5578"/>
                  <a:pt x="5234" y="5680"/>
                </a:cubicBezTo>
                <a:cubicBezTo>
                  <a:pt x="5269" y="5715"/>
                  <a:pt x="5291" y="5719"/>
                  <a:pt x="5333" y="568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89120" y="1608120"/>
            <a:ext cx="1285920" cy="374760"/>
          </a:xfrm>
          <a:custGeom>
            <a:avLst/>
            <a:gdLst/>
            <a:ahLst/>
            <a:rect l="l" t="t" r="r" b="b"/>
            <a:pathLst>
              <a:path w="3573" h="1043">
                <a:moveTo>
                  <a:pt x="7193" y="5035"/>
                </a:moveTo>
                <a:cubicBezTo>
                  <a:pt x="7268" y="4992"/>
                  <a:pt x="7352" y="5021"/>
                  <a:pt x="7441" y="5011"/>
                </a:cubicBezTo>
                <a:cubicBezTo>
                  <a:pt x="7665" y="4986"/>
                  <a:pt x="7884" y="4986"/>
                  <a:pt x="8111" y="4986"/>
                </a:cubicBezTo>
                <a:cubicBezTo>
                  <a:pt x="8215" y="4986"/>
                  <a:pt x="8228" y="4977"/>
                  <a:pt x="8310" y="4961"/>
                </a:cubicBezTo>
              </a:path>
              <a:path w="3573" h="1043">
                <a:moveTo>
                  <a:pt x="7689" y="5159"/>
                </a:moveTo>
                <a:cubicBezTo>
                  <a:pt x="7689" y="5237"/>
                  <a:pt x="7668" y="5305"/>
                  <a:pt x="7665" y="5383"/>
                </a:cubicBezTo>
                <a:cubicBezTo>
                  <a:pt x="7663" y="5429"/>
                  <a:pt x="7702" y="5509"/>
                  <a:pt x="7764" y="5507"/>
                </a:cubicBezTo>
                <a:cubicBezTo>
                  <a:pt x="7866" y="5503"/>
                  <a:pt x="7974" y="5456"/>
                  <a:pt x="8012" y="5358"/>
                </a:cubicBezTo>
                <a:cubicBezTo>
                  <a:pt x="8031" y="5309"/>
                  <a:pt x="7956" y="5254"/>
                  <a:pt x="7913" y="5259"/>
                </a:cubicBezTo>
                <a:cubicBezTo>
                  <a:pt x="7846" y="5267"/>
                  <a:pt x="7803" y="5377"/>
                  <a:pt x="7813" y="5432"/>
                </a:cubicBezTo>
                <a:cubicBezTo>
                  <a:pt x="7848" y="5432"/>
                  <a:pt x="7866" y="5437"/>
                  <a:pt x="7888" y="5457"/>
                </a:cubicBezTo>
              </a:path>
              <a:path w="3573" h="1043">
                <a:moveTo>
                  <a:pt x="8632" y="5110"/>
                </a:moveTo>
                <a:cubicBezTo>
                  <a:pt x="8706" y="5098"/>
                  <a:pt x="8779" y="5071"/>
                  <a:pt x="8855" y="5060"/>
                </a:cubicBezTo>
              </a:path>
              <a:path w="3573" h="1043">
                <a:moveTo>
                  <a:pt x="8632" y="5234"/>
                </a:moveTo>
                <a:cubicBezTo>
                  <a:pt x="8720" y="5234"/>
                  <a:pt x="8799" y="5221"/>
                  <a:pt x="8880" y="5209"/>
                </a:cubicBezTo>
                <a:cubicBezTo>
                  <a:pt x="8897" y="5209"/>
                  <a:pt x="8913" y="5209"/>
                  <a:pt x="8930" y="5209"/>
                </a:cubicBezTo>
              </a:path>
              <a:path w="3573" h="1043">
                <a:moveTo>
                  <a:pt x="9376" y="5085"/>
                </a:moveTo>
                <a:cubicBezTo>
                  <a:pt x="9476" y="5085"/>
                  <a:pt x="9583" y="5032"/>
                  <a:pt x="9674" y="5035"/>
                </a:cubicBezTo>
                <a:cubicBezTo>
                  <a:pt x="9699" y="5043"/>
                  <a:pt x="9723" y="5052"/>
                  <a:pt x="9748" y="5060"/>
                </a:cubicBezTo>
              </a:path>
              <a:path w="3573" h="1043">
                <a:moveTo>
                  <a:pt x="9823" y="4837"/>
                </a:moveTo>
                <a:cubicBezTo>
                  <a:pt x="9823" y="4898"/>
                  <a:pt x="9843" y="4950"/>
                  <a:pt x="9847" y="5011"/>
                </a:cubicBezTo>
                <a:cubicBezTo>
                  <a:pt x="9847" y="5019"/>
                  <a:pt x="9847" y="5027"/>
                  <a:pt x="9847" y="5035"/>
                </a:cubicBezTo>
                <a:cubicBezTo>
                  <a:pt x="9973" y="5035"/>
                  <a:pt x="10056" y="5045"/>
                  <a:pt x="10170" y="4986"/>
                </a:cubicBezTo>
                <a:cubicBezTo>
                  <a:pt x="10195" y="4969"/>
                  <a:pt x="10219" y="4953"/>
                  <a:pt x="10244" y="4936"/>
                </a:cubicBezTo>
              </a:path>
              <a:path w="3573" h="1043">
                <a:moveTo>
                  <a:pt x="10145" y="4564"/>
                </a:moveTo>
                <a:cubicBezTo>
                  <a:pt x="10174" y="4746"/>
                  <a:pt x="10175" y="4928"/>
                  <a:pt x="10220" y="5110"/>
                </a:cubicBezTo>
                <a:cubicBezTo>
                  <a:pt x="10241" y="5175"/>
                  <a:pt x="10249" y="5191"/>
                  <a:pt x="10244" y="5234"/>
                </a:cubicBezTo>
              </a:path>
              <a:path w="3573" h="1043">
                <a:moveTo>
                  <a:pt x="9103" y="5407"/>
                </a:moveTo>
                <a:cubicBezTo>
                  <a:pt x="9228" y="5463"/>
                  <a:pt x="9337" y="5479"/>
                  <a:pt x="9475" y="5482"/>
                </a:cubicBezTo>
                <a:cubicBezTo>
                  <a:pt x="9709" y="5486"/>
                  <a:pt x="9939" y="5442"/>
                  <a:pt x="10170" y="5407"/>
                </a:cubicBezTo>
                <a:cubicBezTo>
                  <a:pt x="10350" y="5380"/>
                  <a:pt x="10523" y="5325"/>
                  <a:pt x="10666" y="5209"/>
                </a:cubicBezTo>
                <a:cubicBezTo>
                  <a:pt x="10782" y="5115"/>
                  <a:pt x="10777" y="5020"/>
                  <a:pt x="10740" y="4887"/>
                </a:cubicBezTo>
                <a:cubicBezTo>
                  <a:pt x="10699" y="4740"/>
                  <a:pt x="10571" y="4639"/>
                  <a:pt x="10443" y="4564"/>
                </a:cubicBezTo>
                <a:cubicBezTo>
                  <a:pt x="10253" y="4453"/>
                  <a:pt x="10085" y="4465"/>
                  <a:pt x="9872" y="4465"/>
                </a:cubicBezTo>
                <a:cubicBezTo>
                  <a:pt x="9672" y="4465"/>
                  <a:pt x="9540" y="4530"/>
                  <a:pt x="9376" y="4638"/>
                </a:cubicBezTo>
                <a:cubicBezTo>
                  <a:pt x="9247" y="4723"/>
                  <a:pt x="9169" y="4881"/>
                  <a:pt x="9153" y="5035"/>
                </a:cubicBezTo>
                <a:cubicBezTo>
                  <a:pt x="9134" y="5219"/>
                  <a:pt x="9217" y="5342"/>
                  <a:pt x="9376" y="5432"/>
                </a:cubicBezTo>
                <a:cubicBezTo>
                  <a:pt x="9458" y="5459"/>
                  <a:pt x="9491" y="5466"/>
                  <a:pt x="9550" y="54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920" y="2625840"/>
            <a:ext cx="285840" cy="125280"/>
          </a:xfrm>
          <a:custGeom>
            <a:avLst/>
            <a:gdLst/>
            <a:ahLst/>
            <a:rect l="l" t="t" r="r" b="b"/>
            <a:pathLst>
              <a:path w="795" h="348">
                <a:moveTo>
                  <a:pt x="6970" y="7516"/>
                </a:moveTo>
                <a:cubicBezTo>
                  <a:pt x="7060" y="7516"/>
                  <a:pt x="7131" y="7517"/>
                  <a:pt x="7218" y="7491"/>
                </a:cubicBezTo>
                <a:cubicBezTo>
                  <a:pt x="7243" y="7483"/>
                  <a:pt x="7268" y="7474"/>
                  <a:pt x="7293" y="7466"/>
                </a:cubicBezTo>
              </a:path>
              <a:path w="795" h="348">
                <a:moveTo>
                  <a:pt x="7417" y="7342"/>
                </a:moveTo>
                <a:cubicBezTo>
                  <a:pt x="7496" y="7342"/>
                  <a:pt x="7564" y="7306"/>
                  <a:pt x="7640" y="7293"/>
                </a:cubicBezTo>
                <a:cubicBezTo>
                  <a:pt x="7690" y="7284"/>
                  <a:pt x="7724" y="7285"/>
                  <a:pt x="7739" y="7317"/>
                </a:cubicBezTo>
                <a:cubicBezTo>
                  <a:pt x="7776" y="7397"/>
                  <a:pt x="7739" y="7520"/>
                  <a:pt x="7739" y="7615"/>
                </a:cubicBezTo>
                <a:cubicBezTo>
                  <a:pt x="7739" y="7623"/>
                  <a:pt x="7739" y="7632"/>
                  <a:pt x="7739" y="76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46640" y="2347920"/>
            <a:ext cx="849240" cy="206280"/>
          </a:xfrm>
          <a:custGeom>
            <a:avLst/>
            <a:gdLst/>
            <a:ahLst/>
            <a:rect l="l" t="t" r="r" b="b"/>
            <a:pathLst>
              <a:path w="2357" h="571">
                <a:moveTo>
                  <a:pt x="9575" y="7020"/>
                </a:moveTo>
                <a:cubicBezTo>
                  <a:pt x="9621" y="6973"/>
                  <a:pt x="9696" y="7014"/>
                  <a:pt x="9773" y="6995"/>
                </a:cubicBezTo>
                <a:cubicBezTo>
                  <a:pt x="9836" y="6964"/>
                  <a:pt x="9867" y="6955"/>
                  <a:pt x="9922" y="6970"/>
                </a:cubicBezTo>
              </a:path>
              <a:path w="2357" h="571">
                <a:moveTo>
                  <a:pt x="10021" y="6747"/>
                </a:moveTo>
                <a:cubicBezTo>
                  <a:pt x="10183" y="6737"/>
                  <a:pt x="10311" y="6672"/>
                  <a:pt x="10468" y="6648"/>
                </a:cubicBezTo>
                <a:cubicBezTo>
                  <a:pt x="10562" y="6634"/>
                  <a:pt x="10582" y="6649"/>
                  <a:pt x="10592" y="6747"/>
                </a:cubicBezTo>
                <a:cubicBezTo>
                  <a:pt x="10603" y="6860"/>
                  <a:pt x="10577" y="6962"/>
                  <a:pt x="10567" y="7069"/>
                </a:cubicBezTo>
                <a:cubicBezTo>
                  <a:pt x="10567" y="7077"/>
                  <a:pt x="10567" y="7086"/>
                  <a:pt x="10567" y="7094"/>
                </a:cubicBezTo>
              </a:path>
              <a:path w="2357" h="571">
                <a:moveTo>
                  <a:pt x="10988" y="6772"/>
                </a:moveTo>
                <a:cubicBezTo>
                  <a:pt x="11076" y="6772"/>
                  <a:pt x="11153" y="6758"/>
                  <a:pt x="11237" y="6747"/>
                </a:cubicBezTo>
                <a:cubicBezTo>
                  <a:pt x="11253" y="6747"/>
                  <a:pt x="11270" y="6747"/>
                  <a:pt x="11286" y="6747"/>
                </a:cubicBezTo>
              </a:path>
              <a:path w="2357" h="571">
                <a:moveTo>
                  <a:pt x="11435" y="6573"/>
                </a:moveTo>
                <a:cubicBezTo>
                  <a:pt x="11533" y="6573"/>
                  <a:pt x="11638" y="6563"/>
                  <a:pt x="11733" y="6548"/>
                </a:cubicBezTo>
                <a:cubicBezTo>
                  <a:pt x="11808" y="6536"/>
                  <a:pt x="11856" y="6524"/>
                  <a:pt x="11931" y="6524"/>
                </a:cubicBezTo>
                <a:cubicBezTo>
                  <a:pt x="11931" y="6634"/>
                  <a:pt x="11937" y="6738"/>
                  <a:pt x="11906" y="6846"/>
                </a:cubicBezTo>
                <a:cubicBezTo>
                  <a:pt x="11888" y="6910"/>
                  <a:pt x="11873" y="7029"/>
                  <a:pt x="11807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31960" y="2687760"/>
            <a:ext cx="287280" cy="142920"/>
          </a:xfrm>
          <a:custGeom>
            <a:avLst/>
            <a:gdLst/>
            <a:ahLst/>
            <a:rect l="l" t="t" r="r" b="b"/>
            <a:pathLst>
              <a:path w="795" h="398">
                <a:moveTo>
                  <a:pt x="4812" y="7789"/>
                </a:moveTo>
                <a:cubicBezTo>
                  <a:pt x="4883" y="7789"/>
                  <a:pt x="4942" y="7768"/>
                  <a:pt x="5011" y="7764"/>
                </a:cubicBezTo>
                <a:cubicBezTo>
                  <a:pt x="5055" y="7764"/>
                  <a:pt x="5069" y="7767"/>
                  <a:pt x="5085" y="7739"/>
                </a:cubicBezTo>
              </a:path>
              <a:path w="795" h="398">
                <a:moveTo>
                  <a:pt x="5283" y="7516"/>
                </a:moveTo>
                <a:cubicBezTo>
                  <a:pt x="5351" y="7502"/>
                  <a:pt x="5409" y="7471"/>
                  <a:pt x="5482" y="7466"/>
                </a:cubicBezTo>
                <a:cubicBezTo>
                  <a:pt x="5550" y="7461"/>
                  <a:pt x="5566" y="7454"/>
                  <a:pt x="5581" y="7541"/>
                </a:cubicBezTo>
                <a:cubicBezTo>
                  <a:pt x="5600" y="7652"/>
                  <a:pt x="5570" y="7756"/>
                  <a:pt x="5606" y="786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63920" y="2625840"/>
            <a:ext cx="1866960" cy="268200"/>
          </a:xfrm>
          <a:custGeom>
            <a:avLst/>
            <a:gdLst/>
            <a:ahLst/>
            <a:rect l="l" t="t" r="r" b="b"/>
            <a:pathLst>
              <a:path w="5185" h="745">
                <a:moveTo>
                  <a:pt x="9624" y="7789"/>
                </a:moveTo>
                <a:cubicBezTo>
                  <a:pt x="9737" y="7789"/>
                  <a:pt x="9837" y="7750"/>
                  <a:pt x="9947" y="7739"/>
                </a:cubicBezTo>
                <a:cubicBezTo>
                  <a:pt x="9988" y="7739"/>
                  <a:pt x="10030" y="7739"/>
                  <a:pt x="10071" y="7739"/>
                </a:cubicBezTo>
              </a:path>
              <a:path w="5185" h="745">
                <a:moveTo>
                  <a:pt x="10269" y="7565"/>
                </a:moveTo>
                <a:cubicBezTo>
                  <a:pt x="10358" y="7515"/>
                  <a:pt x="10465" y="7508"/>
                  <a:pt x="10567" y="7491"/>
                </a:cubicBezTo>
                <a:cubicBezTo>
                  <a:pt x="10592" y="7491"/>
                  <a:pt x="10600" y="7491"/>
                  <a:pt x="10616" y="7491"/>
                </a:cubicBezTo>
                <a:cubicBezTo>
                  <a:pt x="10630" y="7619"/>
                  <a:pt x="10643" y="7704"/>
                  <a:pt x="10616" y="7838"/>
                </a:cubicBezTo>
                <a:cubicBezTo>
                  <a:pt x="10598" y="7930"/>
                  <a:pt x="10579" y="7960"/>
                  <a:pt x="10616" y="8037"/>
                </a:cubicBezTo>
              </a:path>
              <a:path w="5185" h="745">
                <a:moveTo>
                  <a:pt x="11112" y="7541"/>
                </a:moveTo>
                <a:cubicBezTo>
                  <a:pt x="11144" y="7667"/>
                  <a:pt x="11201" y="7767"/>
                  <a:pt x="11237" y="7888"/>
                </a:cubicBezTo>
                <a:cubicBezTo>
                  <a:pt x="11237" y="7896"/>
                  <a:pt x="11237" y="7905"/>
                  <a:pt x="11237" y="7913"/>
                </a:cubicBezTo>
              </a:path>
              <a:path w="5185" h="745">
                <a:moveTo>
                  <a:pt x="10939" y="7813"/>
                </a:moveTo>
                <a:cubicBezTo>
                  <a:pt x="11074" y="7813"/>
                  <a:pt x="11202" y="7793"/>
                  <a:pt x="11336" y="7789"/>
                </a:cubicBezTo>
                <a:cubicBezTo>
                  <a:pt x="11410" y="7789"/>
                  <a:pt x="11435" y="7789"/>
                  <a:pt x="11485" y="7789"/>
                </a:cubicBezTo>
              </a:path>
              <a:path w="5185" h="745">
                <a:moveTo>
                  <a:pt x="11733" y="7689"/>
                </a:moveTo>
                <a:cubicBezTo>
                  <a:pt x="11849" y="7689"/>
                  <a:pt x="11964" y="7689"/>
                  <a:pt x="12080" y="7689"/>
                </a:cubicBezTo>
              </a:path>
              <a:path w="5185" h="745">
                <a:moveTo>
                  <a:pt x="12154" y="7516"/>
                </a:moveTo>
                <a:cubicBezTo>
                  <a:pt x="12244" y="7516"/>
                  <a:pt x="12342" y="7518"/>
                  <a:pt x="12427" y="7491"/>
                </a:cubicBezTo>
                <a:cubicBezTo>
                  <a:pt x="12444" y="7483"/>
                  <a:pt x="12460" y="7474"/>
                  <a:pt x="12477" y="7466"/>
                </a:cubicBezTo>
                <a:cubicBezTo>
                  <a:pt x="12549" y="7593"/>
                  <a:pt x="12529" y="7719"/>
                  <a:pt x="12502" y="7863"/>
                </a:cubicBezTo>
                <a:cubicBezTo>
                  <a:pt x="12486" y="7949"/>
                  <a:pt x="12426" y="8046"/>
                  <a:pt x="12526" y="8012"/>
                </a:cubicBezTo>
              </a:path>
              <a:path w="5185" h="745">
                <a:moveTo>
                  <a:pt x="12725" y="7714"/>
                </a:moveTo>
                <a:cubicBezTo>
                  <a:pt x="12849" y="7714"/>
                  <a:pt x="12980" y="7713"/>
                  <a:pt x="13097" y="7665"/>
                </a:cubicBezTo>
                <a:cubicBezTo>
                  <a:pt x="13105" y="7657"/>
                  <a:pt x="13114" y="7648"/>
                  <a:pt x="13122" y="7640"/>
                </a:cubicBezTo>
              </a:path>
              <a:path w="5185" h="745">
                <a:moveTo>
                  <a:pt x="12750" y="7888"/>
                </a:moveTo>
                <a:cubicBezTo>
                  <a:pt x="12932" y="7910"/>
                  <a:pt x="13068" y="7868"/>
                  <a:pt x="13246" y="7813"/>
                </a:cubicBezTo>
              </a:path>
              <a:path w="5185" h="745">
                <a:moveTo>
                  <a:pt x="13395" y="7739"/>
                </a:moveTo>
                <a:cubicBezTo>
                  <a:pt x="13492" y="7739"/>
                  <a:pt x="13573" y="7720"/>
                  <a:pt x="13667" y="7714"/>
                </a:cubicBezTo>
                <a:cubicBezTo>
                  <a:pt x="13695" y="7714"/>
                  <a:pt x="13706" y="7712"/>
                  <a:pt x="13717" y="7689"/>
                </a:cubicBezTo>
              </a:path>
              <a:path w="5185" h="745">
                <a:moveTo>
                  <a:pt x="13990" y="7417"/>
                </a:moveTo>
                <a:cubicBezTo>
                  <a:pt x="14029" y="7572"/>
                  <a:pt x="14063" y="7736"/>
                  <a:pt x="14114" y="7888"/>
                </a:cubicBezTo>
                <a:cubicBezTo>
                  <a:pt x="14122" y="7905"/>
                  <a:pt x="14131" y="7921"/>
                  <a:pt x="14139" y="7938"/>
                </a:cubicBezTo>
              </a:path>
              <a:path w="5185" h="745">
                <a:moveTo>
                  <a:pt x="14337" y="7491"/>
                </a:moveTo>
                <a:cubicBezTo>
                  <a:pt x="14352" y="7603"/>
                  <a:pt x="14369" y="7708"/>
                  <a:pt x="14486" y="7764"/>
                </a:cubicBezTo>
                <a:cubicBezTo>
                  <a:pt x="14648" y="7842"/>
                  <a:pt x="14730" y="7673"/>
                  <a:pt x="14808" y="7565"/>
                </a:cubicBezTo>
              </a:path>
              <a:path w="5185" h="745">
                <a:moveTo>
                  <a:pt x="14709" y="7293"/>
                </a:moveTo>
                <a:cubicBezTo>
                  <a:pt x="14709" y="7488"/>
                  <a:pt x="14742" y="7670"/>
                  <a:pt x="14759" y="7863"/>
                </a:cubicBezTo>
                <a:cubicBezTo>
                  <a:pt x="14771" y="8000"/>
                  <a:pt x="14789" y="7999"/>
                  <a:pt x="14684" y="79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09800" y="3170160"/>
            <a:ext cx="133200" cy="179640"/>
          </a:xfrm>
          <a:custGeom>
            <a:avLst/>
            <a:gdLst/>
            <a:ahLst/>
            <a:rect l="l" t="t" r="r" b="b"/>
            <a:pathLst>
              <a:path w="373" h="497">
                <a:moveTo>
                  <a:pt x="2803" y="8930"/>
                </a:moveTo>
                <a:cubicBezTo>
                  <a:pt x="2809" y="8976"/>
                  <a:pt x="2811" y="9077"/>
                  <a:pt x="2853" y="9103"/>
                </a:cubicBezTo>
                <a:cubicBezTo>
                  <a:pt x="2937" y="9155"/>
                  <a:pt x="3070" y="9039"/>
                  <a:pt x="3125" y="9004"/>
                </a:cubicBezTo>
              </a:path>
              <a:path w="373" h="497">
                <a:moveTo>
                  <a:pt x="3076" y="8806"/>
                </a:moveTo>
                <a:cubicBezTo>
                  <a:pt x="3115" y="8953"/>
                  <a:pt x="3118" y="9107"/>
                  <a:pt x="3150" y="9252"/>
                </a:cubicBezTo>
                <a:cubicBezTo>
                  <a:pt x="3158" y="9269"/>
                  <a:pt x="3167" y="9285"/>
                  <a:pt x="3175" y="93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044880"/>
            <a:ext cx="615960" cy="366480"/>
          </a:xfrm>
          <a:custGeom>
            <a:avLst/>
            <a:gdLst/>
            <a:ahLst/>
            <a:rect l="l" t="t" r="r" b="b"/>
            <a:pathLst>
              <a:path w="1712" h="1018">
                <a:moveTo>
                  <a:pt x="4043" y="8533"/>
                </a:moveTo>
                <a:cubicBezTo>
                  <a:pt x="4018" y="8546"/>
                  <a:pt x="4059" y="8616"/>
                  <a:pt x="4068" y="8682"/>
                </a:cubicBezTo>
                <a:cubicBezTo>
                  <a:pt x="4072" y="8715"/>
                  <a:pt x="4068" y="8764"/>
                  <a:pt x="4068" y="8731"/>
                </a:cubicBezTo>
                <a:cubicBezTo>
                  <a:pt x="4068" y="8643"/>
                  <a:pt x="4056" y="8537"/>
                  <a:pt x="4167" y="8508"/>
                </a:cubicBezTo>
                <a:cubicBezTo>
                  <a:pt x="4279" y="8479"/>
                  <a:pt x="4382" y="8614"/>
                  <a:pt x="4415" y="8706"/>
                </a:cubicBezTo>
                <a:cubicBezTo>
                  <a:pt x="4415" y="8723"/>
                  <a:pt x="4415" y="8739"/>
                  <a:pt x="4415" y="8756"/>
                </a:cubicBezTo>
                <a:cubicBezTo>
                  <a:pt x="4368" y="8693"/>
                  <a:pt x="4352" y="8613"/>
                  <a:pt x="4390" y="8533"/>
                </a:cubicBezTo>
                <a:cubicBezTo>
                  <a:pt x="4457" y="8393"/>
                  <a:pt x="4585" y="8496"/>
                  <a:pt x="4638" y="8582"/>
                </a:cubicBezTo>
                <a:cubicBezTo>
                  <a:pt x="4694" y="8673"/>
                  <a:pt x="4671" y="8773"/>
                  <a:pt x="4614" y="8830"/>
                </a:cubicBezTo>
              </a:path>
              <a:path w="1712" h="1018">
                <a:moveTo>
                  <a:pt x="3919" y="9029"/>
                </a:moveTo>
                <a:cubicBezTo>
                  <a:pt x="4089" y="9008"/>
                  <a:pt x="4246" y="8930"/>
                  <a:pt x="4415" y="8905"/>
                </a:cubicBezTo>
                <a:cubicBezTo>
                  <a:pt x="4524" y="8905"/>
                  <a:pt x="4551" y="8910"/>
                  <a:pt x="4614" y="8880"/>
                </a:cubicBezTo>
              </a:path>
              <a:path w="1712" h="1018">
                <a:moveTo>
                  <a:pt x="4167" y="9203"/>
                </a:moveTo>
                <a:cubicBezTo>
                  <a:pt x="4145" y="9238"/>
                  <a:pt x="4125" y="9317"/>
                  <a:pt x="4167" y="9351"/>
                </a:cubicBezTo>
                <a:cubicBezTo>
                  <a:pt x="4260" y="9427"/>
                  <a:pt x="4410" y="9324"/>
                  <a:pt x="4490" y="9277"/>
                </a:cubicBezTo>
                <a:cubicBezTo>
                  <a:pt x="4515" y="9260"/>
                  <a:pt x="4539" y="9244"/>
                  <a:pt x="4564" y="9227"/>
                </a:cubicBezTo>
              </a:path>
              <a:path w="1712" h="1018">
                <a:moveTo>
                  <a:pt x="4440" y="9128"/>
                </a:moveTo>
                <a:cubicBezTo>
                  <a:pt x="4472" y="9223"/>
                  <a:pt x="4520" y="9330"/>
                  <a:pt x="4539" y="9426"/>
                </a:cubicBezTo>
                <a:cubicBezTo>
                  <a:pt x="4539" y="9442"/>
                  <a:pt x="4539" y="9459"/>
                  <a:pt x="4539" y="9475"/>
                </a:cubicBezTo>
              </a:path>
              <a:path w="1712" h="1018">
                <a:moveTo>
                  <a:pt x="4986" y="9004"/>
                </a:moveTo>
                <a:cubicBezTo>
                  <a:pt x="5049" y="9004"/>
                  <a:pt x="5094" y="8982"/>
                  <a:pt x="5159" y="8979"/>
                </a:cubicBezTo>
                <a:cubicBezTo>
                  <a:pt x="5201" y="8979"/>
                  <a:pt x="5209" y="8979"/>
                  <a:pt x="5234" y="8979"/>
                </a:cubicBezTo>
              </a:path>
              <a:path w="1712" h="1018">
                <a:moveTo>
                  <a:pt x="4961" y="9178"/>
                </a:moveTo>
                <a:cubicBezTo>
                  <a:pt x="5078" y="9148"/>
                  <a:pt x="5193" y="9117"/>
                  <a:pt x="5308" y="9079"/>
                </a:cubicBezTo>
              </a:path>
              <a:path w="1712" h="1018">
                <a:moveTo>
                  <a:pt x="3621" y="9004"/>
                </a:moveTo>
                <a:cubicBezTo>
                  <a:pt x="3678" y="9047"/>
                  <a:pt x="3704" y="9079"/>
                  <a:pt x="3746" y="9153"/>
                </a:cubicBezTo>
                <a:cubicBezTo>
                  <a:pt x="3767" y="9190"/>
                  <a:pt x="3786" y="9215"/>
                  <a:pt x="3795" y="9252"/>
                </a:cubicBezTo>
              </a:path>
              <a:path w="1712" h="1018">
                <a:moveTo>
                  <a:pt x="3746" y="9029"/>
                </a:moveTo>
                <a:cubicBezTo>
                  <a:pt x="3708" y="9086"/>
                  <a:pt x="3649" y="9166"/>
                  <a:pt x="3621" y="9227"/>
                </a:cubicBezTo>
                <a:cubicBezTo>
                  <a:pt x="3621" y="9255"/>
                  <a:pt x="3619" y="9266"/>
                  <a:pt x="3597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036960"/>
            <a:ext cx="760320" cy="222120"/>
          </a:xfrm>
          <a:custGeom>
            <a:avLst/>
            <a:gdLst/>
            <a:ahLst/>
            <a:rect l="l" t="t" r="r" b="b"/>
            <a:pathLst>
              <a:path w="2110" h="621">
                <a:moveTo>
                  <a:pt x="5680" y="8930"/>
                </a:moveTo>
                <a:cubicBezTo>
                  <a:pt x="5740" y="8920"/>
                  <a:pt x="5795" y="8886"/>
                  <a:pt x="5854" y="8880"/>
                </a:cubicBezTo>
                <a:cubicBezTo>
                  <a:pt x="5862" y="8880"/>
                  <a:pt x="5871" y="8880"/>
                  <a:pt x="5879" y="8880"/>
                </a:cubicBezTo>
              </a:path>
              <a:path w="2110" h="621">
                <a:moveTo>
                  <a:pt x="6077" y="8632"/>
                </a:moveTo>
                <a:cubicBezTo>
                  <a:pt x="6116" y="8757"/>
                  <a:pt x="6124" y="8881"/>
                  <a:pt x="6152" y="9004"/>
                </a:cubicBezTo>
                <a:cubicBezTo>
                  <a:pt x="6160" y="9021"/>
                  <a:pt x="6168" y="9037"/>
                  <a:pt x="6176" y="9054"/>
                </a:cubicBezTo>
              </a:path>
              <a:path w="2110" h="621">
                <a:moveTo>
                  <a:pt x="6325" y="8731"/>
                </a:moveTo>
                <a:cubicBezTo>
                  <a:pt x="6381" y="8800"/>
                  <a:pt x="6414" y="8858"/>
                  <a:pt x="6524" y="8855"/>
                </a:cubicBezTo>
                <a:cubicBezTo>
                  <a:pt x="6616" y="8852"/>
                  <a:pt x="6711" y="8789"/>
                  <a:pt x="6796" y="8756"/>
                </a:cubicBezTo>
              </a:path>
              <a:path w="2110" h="621">
                <a:moveTo>
                  <a:pt x="6672" y="8483"/>
                </a:moveTo>
                <a:cubicBezTo>
                  <a:pt x="6683" y="8633"/>
                  <a:pt x="6706" y="8781"/>
                  <a:pt x="6722" y="8930"/>
                </a:cubicBezTo>
                <a:cubicBezTo>
                  <a:pt x="6722" y="8971"/>
                  <a:pt x="6730" y="8987"/>
                  <a:pt x="6697" y="8979"/>
                </a:cubicBezTo>
              </a:path>
              <a:path w="2110" h="621">
                <a:moveTo>
                  <a:pt x="6970" y="8756"/>
                </a:moveTo>
                <a:cubicBezTo>
                  <a:pt x="7031" y="8786"/>
                  <a:pt x="7148" y="8865"/>
                  <a:pt x="7193" y="8930"/>
                </a:cubicBezTo>
                <a:cubicBezTo>
                  <a:pt x="7193" y="8938"/>
                  <a:pt x="7193" y="8946"/>
                  <a:pt x="7193" y="8954"/>
                </a:cubicBezTo>
              </a:path>
              <a:path w="2110" h="621">
                <a:moveTo>
                  <a:pt x="7193" y="8731"/>
                </a:moveTo>
                <a:cubicBezTo>
                  <a:pt x="7132" y="8831"/>
                  <a:pt x="7082" y="8913"/>
                  <a:pt x="7069" y="9029"/>
                </a:cubicBezTo>
              </a:path>
              <a:path w="2110" h="621">
                <a:moveTo>
                  <a:pt x="7466" y="8533"/>
                </a:moveTo>
                <a:cubicBezTo>
                  <a:pt x="7472" y="8590"/>
                  <a:pt x="7470" y="8722"/>
                  <a:pt x="7516" y="8756"/>
                </a:cubicBezTo>
                <a:cubicBezTo>
                  <a:pt x="7602" y="8820"/>
                  <a:pt x="7736" y="8697"/>
                  <a:pt x="7789" y="8657"/>
                </a:cubicBezTo>
              </a:path>
              <a:path w="2110" h="621">
                <a:moveTo>
                  <a:pt x="7739" y="8434"/>
                </a:moveTo>
                <a:cubicBezTo>
                  <a:pt x="7739" y="8602"/>
                  <a:pt x="7757" y="8763"/>
                  <a:pt x="7764" y="8930"/>
                </a:cubicBezTo>
                <a:cubicBezTo>
                  <a:pt x="7764" y="8938"/>
                  <a:pt x="7764" y="8946"/>
                  <a:pt x="7764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2000" y="3259080"/>
            <a:ext cx="1787400" cy="465120"/>
          </a:xfrm>
          <a:custGeom>
            <a:avLst/>
            <a:gdLst/>
            <a:ahLst/>
            <a:rect l="l" t="t" r="r" b="b"/>
            <a:pathLst>
              <a:path w="4962" h="1291">
                <a:moveTo>
                  <a:pt x="2952" y="9079"/>
                </a:moveTo>
                <a:cubicBezTo>
                  <a:pt x="2992" y="9063"/>
                  <a:pt x="3036" y="9075"/>
                  <a:pt x="3125" y="9103"/>
                </a:cubicBezTo>
                <a:cubicBezTo>
                  <a:pt x="3356" y="9177"/>
                  <a:pt x="3589" y="9224"/>
                  <a:pt x="3820" y="9302"/>
                </a:cubicBezTo>
                <a:cubicBezTo>
                  <a:pt x="4053" y="9381"/>
                  <a:pt x="4311" y="9390"/>
                  <a:pt x="4539" y="9475"/>
                </a:cubicBezTo>
                <a:cubicBezTo>
                  <a:pt x="4597" y="9497"/>
                  <a:pt x="4655" y="9530"/>
                  <a:pt x="4688" y="9550"/>
                </a:cubicBezTo>
              </a:path>
              <a:path w="4962" h="1291">
                <a:moveTo>
                  <a:pt x="4614" y="9723"/>
                </a:moveTo>
                <a:cubicBezTo>
                  <a:pt x="4626" y="9832"/>
                  <a:pt x="4659" y="9934"/>
                  <a:pt x="4663" y="10046"/>
                </a:cubicBezTo>
                <a:cubicBezTo>
                  <a:pt x="4663" y="10071"/>
                  <a:pt x="4663" y="10095"/>
                  <a:pt x="4663" y="10120"/>
                </a:cubicBezTo>
                <a:cubicBezTo>
                  <a:pt x="4663" y="10010"/>
                  <a:pt x="4673" y="9902"/>
                  <a:pt x="4713" y="9798"/>
                </a:cubicBezTo>
                <a:cubicBezTo>
                  <a:pt x="4764" y="9667"/>
                  <a:pt x="4826" y="9638"/>
                  <a:pt x="4936" y="9748"/>
                </a:cubicBezTo>
                <a:cubicBezTo>
                  <a:pt x="4986" y="9823"/>
                  <a:pt x="5002" y="9847"/>
                  <a:pt x="5035" y="9897"/>
                </a:cubicBezTo>
                <a:cubicBezTo>
                  <a:pt x="5035" y="9905"/>
                  <a:pt x="5035" y="9914"/>
                  <a:pt x="5035" y="9922"/>
                </a:cubicBezTo>
                <a:cubicBezTo>
                  <a:pt x="5008" y="10005"/>
                  <a:pt x="4973" y="9865"/>
                  <a:pt x="4986" y="9823"/>
                </a:cubicBezTo>
                <a:cubicBezTo>
                  <a:pt x="5010" y="9747"/>
                  <a:pt x="5077" y="9692"/>
                  <a:pt x="5135" y="9649"/>
                </a:cubicBezTo>
                <a:cubicBezTo>
                  <a:pt x="5247" y="9733"/>
                  <a:pt x="5254" y="9807"/>
                  <a:pt x="5259" y="9947"/>
                </a:cubicBezTo>
                <a:cubicBezTo>
                  <a:pt x="5259" y="10008"/>
                  <a:pt x="5268" y="10024"/>
                  <a:pt x="5234" y="10046"/>
                </a:cubicBezTo>
              </a:path>
              <a:path w="4962" h="1291">
                <a:moveTo>
                  <a:pt x="5581" y="9748"/>
                </a:moveTo>
                <a:cubicBezTo>
                  <a:pt x="5668" y="9748"/>
                  <a:pt x="5743" y="9730"/>
                  <a:pt x="5829" y="9723"/>
                </a:cubicBezTo>
              </a:path>
              <a:path w="4962" h="1291">
                <a:moveTo>
                  <a:pt x="5631" y="9847"/>
                </a:moveTo>
                <a:cubicBezTo>
                  <a:pt x="5736" y="9847"/>
                  <a:pt x="5778" y="9838"/>
                  <a:pt x="5879" y="9798"/>
                </a:cubicBezTo>
              </a:path>
              <a:path w="4962" h="1291">
                <a:moveTo>
                  <a:pt x="7069" y="9550"/>
                </a:moveTo>
                <a:cubicBezTo>
                  <a:pt x="7056" y="9644"/>
                  <a:pt x="7013" y="9779"/>
                  <a:pt x="7020" y="9872"/>
                </a:cubicBezTo>
                <a:cubicBezTo>
                  <a:pt x="7040" y="9913"/>
                  <a:pt x="7049" y="9919"/>
                  <a:pt x="7045" y="9947"/>
                </a:cubicBezTo>
                <a:cubicBezTo>
                  <a:pt x="7176" y="9989"/>
                  <a:pt x="7241" y="9946"/>
                  <a:pt x="7367" y="9897"/>
                </a:cubicBezTo>
                <a:cubicBezTo>
                  <a:pt x="7478" y="9853"/>
                  <a:pt x="7508" y="9835"/>
                  <a:pt x="7466" y="9723"/>
                </a:cubicBezTo>
                <a:cubicBezTo>
                  <a:pt x="7365" y="9713"/>
                  <a:pt x="7275" y="9766"/>
                  <a:pt x="7218" y="9872"/>
                </a:cubicBezTo>
                <a:cubicBezTo>
                  <a:pt x="7196" y="9937"/>
                  <a:pt x="7188" y="9952"/>
                  <a:pt x="7193" y="9996"/>
                </a:cubicBezTo>
              </a:path>
              <a:path w="4962" h="1291">
                <a:moveTo>
                  <a:pt x="6796" y="9624"/>
                </a:moveTo>
                <a:cubicBezTo>
                  <a:pt x="6737" y="9648"/>
                  <a:pt x="6720" y="9674"/>
                  <a:pt x="6648" y="9674"/>
                </a:cubicBezTo>
                <a:cubicBezTo>
                  <a:pt x="6588" y="9674"/>
                  <a:pt x="6579" y="9794"/>
                  <a:pt x="6573" y="9847"/>
                </a:cubicBezTo>
                <a:cubicBezTo>
                  <a:pt x="6573" y="9872"/>
                  <a:pt x="6573" y="9880"/>
                  <a:pt x="6573" y="9897"/>
                </a:cubicBezTo>
                <a:cubicBezTo>
                  <a:pt x="6660" y="9880"/>
                  <a:pt x="6723" y="9831"/>
                  <a:pt x="6821" y="9847"/>
                </a:cubicBezTo>
                <a:cubicBezTo>
                  <a:pt x="6938" y="9866"/>
                  <a:pt x="6901" y="10013"/>
                  <a:pt x="6846" y="10071"/>
                </a:cubicBezTo>
                <a:cubicBezTo>
                  <a:pt x="6785" y="10134"/>
                  <a:pt x="6581" y="10190"/>
                  <a:pt x="6499" y="10145"/>
                </a:cubicBezTo>
                <a:cubicBezTo>
                  <a:pt x="6491" y="10129"/>
                  <a:pt x="6482" y="10112"/>
                  <a:pt x="6474" y="10096"/>
                </a:cubicBezTo>
              </a:path>
              <a:path w="4962" h="1291">
                <a:moveTo>
                  <a:pt x="6077" y="9798"/>
                </a:moveTo>
                <a:cubicBezTo>
                  <a:pt x="6154" y="9789"/>
                  <a:pt x="6224" y="9761"/>
                  <a:pt x="6300" y="9748"/>
                </a:cubicBezTo>
              </a:path>
              <a:path w="4962" h="1291">
                <a:moveTo>
                  <a:pt x="4638" y="10344"/>
                </a:moveTo>
                <a:cubicBezTo>
                  <a:pt x="5028" y="10344"/>
                  <a:pt x="5416" y="10338"/>
                  <a:pt x="5804" y="10319"/>
                </a:cubicBezTo>
                <a:cubicBezTo>
                  <a:pt x="6069" y="10306"/>
                  <a:pt x="6333" y="10275"/>
                  <a:pt x="6598" y="10244"/>
                </a:cubicBezTo>
                <a:cubicBezTo>
                  <a:pt x="6921" y="10207"/>
                  <a:pt x="7175" y="10135"/>
                  <a:pt x="7466" y="9996"/>
                </a:cubicBezTo>
                <a:cubicBezTo>
                  <a:pt x="7571" y="9946"/>
                  <a:pt x="7809" y="9863"/>
                  <a:pt x="7888" y="9773"/>
                </a:cubicBezTo>
                <a:cubicBezTo>
                  <a:pt x="7934" y="9721"/>
                  <a:pt x="7906" y="9630"/>
                  <a:pt x="7888" y="9575"/>
                </a:cubicBezTo>
                <a:cubicBezTo>
                  <a:pt x="7862" y="9498"/>
                  <a:pt x="7796" y="9432"/>
                  <a:pt x="7714" y="9401"/>
                </a:cubicBezTo>
                <a:cubicBezTo>
                  <a:pt x="7624" y="9367"/>
                  <a:pt x="7489" y="9376"/>
                  <a:pt x="7392" y="9376"/>
                </a:cubicBezTo>
                <a:cubicBezTo>
                  <a:pt x="7182" y="9376"/>
                  <a:pt x="6978" y="9384"/>
                  <a:pt x="6772" y="9401"/>
                </a:cubicBezTo>
                <a:cubicBezTo>
                  <a:pt x="6632" y="9413"/>
                  <a:pt x="6489" y="9403"/>
                  <a:pt x="6350" y="9426"/>
                </a:cubicBezTo>
                <a:cubicBezTo>
                  <a:pt x="6217" y="9448"/>
                  <a:pt x="6087" y="9471"/>
                  <a:pt x="5953" y="9475"/>
                </a:cubicBezTo>
                <a:cubicBezTo>
                  <a:pt x="5854" y="9478"/>
                  <a:pt x="5775" y="9454"/>
                  <a:pt x="5680" y="9451"/>
                </a:cubicBezTo>
                <a:cubicBezTo>
                  <a:pt x="5510" y="9445"/>
                  <a:pt x="5296" y="9414"/>
                  <a:pt x="5135" y="9426"/>
                </a:cubicBezTo>
                <a:cubicBezTo>
                  <a:pt x="5043" y="9433"/>
                  <a:pt x="4931" y="9439"/>
                  <a:pt x="4837" y="9451"/>
                </a:cubicBezTo>
                <a:cubicBezTo>
                  <a:pt x="4719" y="9466"/>
                  <a:pt x="4644" y="9489"/>
                  <a:pt x="4539" y="9550"/>
                </a:cubicBezTo>
                <a:cubicBezTo>
                  <a:pt x="4441" y="9607"/>
                  <a:pt x="4364" y="9651"/>
                  <a:pt x="4341" y="9773"/>
                </a:cubicBezTo>
                <a:cubicBezTo>
                  <a:pt x="4324" y="9866"/>
                  <a:pt x="4332" y="10041"/>
                  <a:pt x="4390" y="10120"/>
                </a:cubicBezTo>
                <a:cubicBezTo>
                  <a:pt x="4472" y="10233"/>
                  <a:pt x="4527" y="10220"/>
                  <a:pt x="4663" y="1022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9080" y="4152960"/>
            <a:ext cx="581040" cy="196920"/>
          </a:xfrm>
          <a:custGeom>
            <a:avLst/>
            <a:gdLst/>
            <a:ahLst/>
            <a:rect l="l" t="t" r="r" b="b"/>
            <a:pathLst>
              <a:path w="1613" h="547">
                <a:moveTo>
                  <a:pt x="2580" y="11931"/>
                </a:moveTo>
                <a:cubicBezTo>
                  <a:pt x="2566" y="11971"/>
                  <a:pt x="2672" y="11947"/>
                  <a:pt x="2753" y="11931"/>
                </a:cubicBezTo>
                <a:cubicBezTo>
                  <a:pt x="2820" y="11909"/>
                  <a:pt x="2838" y="11904"/>
                  <a:pt x="2877" y="11881"/>
                </a:cubicBezTo>
              </a:path>
              <a:path w="1613" h="547">
                <a:moveTo>
                  <a:pt x="3274" y="11683"/>
                </a:moveTo>
                <a:cubicBezTo>
                  <a:pt x="3359" y="11683"/>
                  <a:pt x="3538" y="11669"/>
                  <a:pt x="3572" y="11782"/>
                </a:cubicBezTo>
                <a:cubicBezTo>
                  <a:pt x="3618" y="11933"/>
                  <a:pt x="3481" y="12050"/>
                  <a:pt x="3349" y="12080"/>
                </a:cubicBezTo>
                <a:cubicBezTo>
                  <a:pt x="3332" y="12080"/>
                  <a:pt x="3316" y="12080"/>
                  <a:pt x="3299" y="12080"/>
                </a:cubicBezTo>
                <a:cubicBezTo>
                  <a:pt x="3311" y="11981"/>
                  <a:pt x="3356" y="11915"/>
                  <a:pt x="3473" y="11931"/>
                </a:cubicBezTo>
                <a:cubicBezTo>
                  <a:pt x="3529" y="11960"/>
                  <a:pt x="3553" y="11971"/>
                  <a:pt x="3597" y="11981"/>
                </a:cubicBezTo>
              </a:path>
              <a:path w="1613" h="547">
                <a:moveTo>
                  <a:pt x="3944" y="11534"/>
                </a:moveTo>
                <a:cubicBezTo>
                  <a:pt x="3849" y="11605"/>
                  <a:pt x="3832" y="11661"/>
                  <a:pt x="3820" y="11782"/>
                </a:cubicBezTo>
                <a:cubicBezTo>
                  <a:pt x="3940" y="11769"/>
                  <a:pt x="4008" y="11721"/>
                  <a:pt x="4068" y="11609"/>
                </a:cubicBezTo>
                <a:cubicBezTo>
                  <a:pt x="4068" y="11601"/>
                  <a:pt x="4068" y="11592"/>
                  <a:pt x="4068" y="11584"/>
                </a:cubicBezTo>
                <a:cubicBezTo>
                  <a:pt x="4119" y="11706"/>
                  <a:pt x="4148" y="11798"/>
                  <a:pt x="4167" y="11931"/>
                </a:cubicBezTo>
                <a:cubicBezTo>
                  <a:pt x="4167" y="11939"/>
                  <a:pt x="4167" y="11948"/>
                  <a:pt x="4167" y="119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87680" y="4367160"/>
            <a:ext cx="1223640" cy="463680"/>
          </a:xfrm>
          <a:custGeom>
            <a:avLst/>
            <a:gdLst/>
            <a:ahLst/>
            <a:rect l="l" t="t" r="r" b="b"/>
            <a:pathLst>
              <a:path w="3399" h="1291">
                <a:moveTo>
                  <a:pt x="4688" y="12328"/>
                </a:moveTo>
                <a:cubicBezTo>
                  <a:pt x="4768" y="12328"/>
                  <a:pt x="4831" y="12319"/>
                  <a:pt x="4911" y="12303"/>
                </a:cubicBezTo>
              </a:path>
              <a:path w="3399" h="1291">
                <a:moveTo>
                  <a:pt x="5085" y="12229"/>
                </a:moveTo>
                <a:cubicBezTo>
                  <a:pt x="5191" y="12229"/>
                  <a:pt x="5304" y="12252"/>
                  <a:pt x="5283" y="12402"/>
                </a:cubicBezTo>
                <a:cubicBezTo>
                  <a:pt x="5262" y="12550"/>
                  <a:pt x="5093" y="12639"/>
                  <a:pt x="4961" y="12626"/>
                </a:cubicBezTo>
                <a:cubicBezTo>
                  <a:pt x="4936" y="12618"/>
                  <a:pt x="4912" y="12609"/>
                  <a:pt x="4887" y="12601"/>
                </a:cubicBezTo>
                <a:cubicBezTo>
                  <a:pt x="4926" y="12502"/>
                  <a:pt x="5026" y="12464"/>
                  <a:pt x="5135" y="12477"/>
                </a:cubicBezTo>
                <a:cubicBezTo>
                  <a:pt x="5197" y="12484"/>
                  <a:pt x="5197" y="12539"/>
                  <a:pt x="5234" y="12551"/>
                </a:cubicBezTo>
              </a:path>
              <a:path w="3399" h="1291">
                <a:moveTo>
                  <a:pt x="5407" y="12353"/>
                </a:moveTo>
                <a:cubicBezTo>
                  <a:pt x="5511" y="12422"/>
                  <a:pt x="5587" y="12519"/>
                  <a:pt x="5680" y="12601"/>
                </a:cubicBezTo>
                <a:cubicBezTo>
                  <a:pt x="5688" y="12609"/>
                  <a:pt x="5697" y="12618"/>
                  <a:pt x="5705" y="12626"/>
                </a:cubicBezTo>
              </a:path>
              <a:path w="3399" h="1291">
                <a:moveTo>
                  <a:pt x="5556" y="12378"/>
                </a:moveTo>
                <a:cubicBezTo>
                  <a:pt x="5512" y="12479"/>
                  <a:pt x="5494" y="12577"/>
                  <a:pt x="5457" y="12675"/>
                </a:cubicBezTo>
              </a:path>
              <a:path w="3399" h="1291">
                <a:moveTo>
                  <a:pt x="5978" y="12477"/>
                </a:moveTo>
                <a:cubicBezTo>
                  <a:pt x="6088" y="12486"/>
                  <a:pt x="6187" y="12502"/>
                  <a:pt x="6300" y="12502"/>
                </a:cubicBezTo>
                <a:cubicBezTo>
                  <a:pt x="6317" y="12502"/>
                  <a:pt x="6333" y="12502"/>
                  <a:pt x="6350" y="12502"/>
                </a:cubicBezTo>
              </a:path>
              <a:path w="3399" h="1291">
                <a:moveTo>
                  <a:pt x="6003" y="12601"/>
                </a:moveTo>
                <a:cubicBezTo>
                  <a:pt x="6121" y="12592"/>
                  <a:pt x="6236" y="12578"/>
                  <a:pt x="6350" y="12551"/>
                </a:cubicBezTo>
              </a:path>
              <a:path w="3399" h="1291">
                <a:moveTo>
                  <a:pt x="6970" y="12254"/>
                </a:moveTo>
                <a:cubicBezTo>
                  <a:pt x="7047" y="12239"/>
                  <a:pt x="7110" y="12229"/>
                  <a:pt x="7193" y="12229"/>
                </a:cubicBezTo>
              </a:path>
              <a:path w="3399" h="1291">
                <a:moveTo>
                  <a:pt x="7392" y="12129"/>
                </a:moveTo>
                <a:cubicBezTo>
                  <a:pt x="7412" y="12228"/>
                  <a:pt x="7417" y="12321"/>
                  <a:pt x="7417" y="12427"/>
                </a:cubicBezTo>
                <a:cubicBezTo>
                  <a:pt x="7417" y="12485"/>
                  <a:pt x="7417" y="12493"/>
                  <a:pt x="7417" y="12526"/>
                </a:cubicBezTo>
              </a:path>
              <a:path w="3399" h="1291">
                <a:moveTo>
                  <a:pt x="7640" y="12129"/>
                </a:moveTo>
                <a:cubicBezTo>
                  <a:pt x="7655" y="12219"/>
                  <a:pt x="7650" y="12312"/>
                  <a:pt x="7665" y="12402"/>
                </a:cubicBezTo>
                <a:cubicBezTo>
                  <a:pt x="7682" y="12505"/>
                  <a:pt x="7781" y="12581"/>
                  <a:pt x="7888" y="12551"/>
                </a:cubicBezTo>
                <a:cubicBezTo>
                  <a:pt x="8001" y="12520"/>
                  <a:pt x="8068" y="12464"/>
                  <a:pt x="8086" y="12353"/>
                </a:cubicBezTo>
                <a:cubicBezTo>
                  <a:pt x="7952" y="12365"/>
                  <a:pt x="7978" y="12405"/>
                  <a:pt x="7888" y="12477"/>
                </a:cubicBezTo>
                <a:cubicBezTo>
                  <a:pt x="7880" y="12477"/>
                  <a:pt x="7871" y="12477"/>
                  <a:pt x="7863" y="12477"/>
                </a:cubicBezTo>
              </a:path>
              <a:path w="3399" h="1291">
                <a:moveTo>
                  <a:pt x="4787" y="12898"/>
                </a:moveTo>
                <a:cubicBezTo>
                  <a:pt x="4954" y="12817"/>
                  <a:pt x="5101" y="12866"/>
                  <a:pt x="5283" y="12874"/>
                </a:cubicBezTo>
                <a:cubicBezTo>
                  <a:pt x="5440" y="12881"/>
                  <a:pt x="5598" y="12874"/>
                  <a:pt x="5755" y="12874"/>
                </a:cubicBezTo>
              </a:path>
              <a:path w="3399" h="1291">
                <a:moveTo>
                  <a:pt x="4986" y="13271"/>
                </a:moveTo>
                <a:cubicBezTo>
                  <a:pt x="5047" y="13248"/>
                  <a:pt x="5101" y="13226"/>
                  <a:pt x="5159" y="13196"/>
                </a:cubicBezTo>
              </a:path>
              <a:path w="3399" h="1291">
                <a:moveTo>
                  <a:pt x="5358" y="13122"/>
                </a:moveTo>
                <a:cubicBezTo>
                  <a:pt x="5516" y="13101"/>
                  <a:pt x="5578" y="13110"/>
                  <a:pt x="5482" y="13271"/>
                </a:cubicBezTo>
                <a:cubicBezTo>
                  <a:pt x="5447" y="13330"/>
                  <a:pt x="5406" y="13372"/>
                  <a:pt x="5358" y="13419"/>
                </a:cubicBezTo>
                <a:cubicBezTo>
                  <a:pt x="5461" y="13419"/>
                  <a:pt x="5560" y="13399"/>
                  <a:pt x="5655" y="13370"/>
                </a:cubicBezTo>
                <a:cubicBezTo>
                  <a:pt x="5705" y="13355"/>
                  <a:pt x="5719" y="13352"/>
                  <a:pt x="5730" y="13320"/>
                </a:cubicBezTo>
              </a:path>
              <a:path w="3399" h="1291">
                <a:moveTo>
                  <a:pt x="6796" y="12898"/>
                </a:moveTo>
                <a:cubicBezTo>
                  <a:pt x="6970" y="12879"/>
                  <a:pt x="7143" y="12826"/>
                  <a:pt x="7317" y="12799"/>
                </a:cubicBezTo>
                <a:cubicBezTo>
                  <a:pt x="7517" y="12768"/>
                  <a:pt x="7837" y="12711"/>
                  <a:pt x="8037" y="12750"/>
                </a:cubicBezTo>
                <a:cubicBezTo>
                  <a:pt x="8037" y="12758"/>
                  <a:pt x="8037" y="12766"/>
                  <a:pt x="8037" y="12774"/>
                </a:cubicBezTo>
              </a:path>
              <a:path w="3399" h="1291">
                <a:moveTo>
                  <a:pt x="6995" y="13196"/>
                </a:moveTo>
                <a:cubicBezTo>
                  <a:pt x="7075" y="13196"/>
                  <a:pt x="7142" y="13157"/>
                  <a:pt x="7218" y="13146"/>
                </a:cubicBezTo>
                <a:cubicBezTo>
                  <a:pt x="7243" y="13146"/>
                  <a:pt x="7268" y="13146"/>
                  <a:pt x="7293" y="13146"/>
                </a:cubicBezTo>
              </a:path>
              <a:path w="3399" h="1291">
                <a:moveTo>
                  <a:pt x="7441" y="13072"/>
                </a:moveTo>
                <a:cubicBezTo>
                  <a:pt x="7507" y="13072"/>
                  <a:pt x="7574" y="13072"/>
                  <a:pt x="7640" y="13072"/>
                </a:cubicBezTo>
                <a:cubicBezTo>
                  <a:pt x="7595" y="13151"/>
                  <a:pt x="7531" y="13205"/>
                  <a:pt x="7466" y="13271"/>
                </a:cubicBezTo>
                <a:cubicBezTo>
                  <a:pt x="7420" y="13317"/>
                  <a:pt x="7406" y="13329"/>
                  <a:pt x="7392" y="13370"/>
                </a:cubicBezTo>
                <a:cubicBezTo>
                  <a:pt x="7485" y="13370"/>
                  <a:pt x="7576" y="13345"/>
                  <a:pt x="7665" y="13320"/>
                </a:cubicBezTo>
                <a:cubicBezTo>
                  <a:pt x="7722" y="13301"/>
                  <a:pt x="7729" y="13292"/>
                  <a:pt x="7764" y="1329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4089240"/>
            <a:ext cx="544320" cy="169920"/>
          </a:xfrm>
          <a:custGeom>
            <a:avLst/>
            <a:gdLst/>
            <a:ahLst/>
            <a:rect l="l" t="t" r="r" b="b"/>
            <a:pathLst>
              <a:path w="1514" h="472">
                <a:moveTo>
                  <a:pt x="7541" y="11633"/>
                </a:moveTo>
                <a:cubicBezTo>
                  <a:pt x="7645" y="11633"/>
                  <a:pt x="7736" y="11635"/>
                  <a:pt x="7838" y="11609"/>
                </a:cubicBezTo>
                <a:cubicBezTo>
                  <a:pt x="7863" y="11601"/>
                  <a:pt x="7888" y="11592"/>
                  <a:pt x="7913" y="11584"/>
                </a:cubicBezTo>
              </a:path>
              <a:path w="1514" h="472">
                <a:moveTo>
                  <a:pt x="8210" y="11485"/>
                </a:moveTo>
                <a:cubicBezTo>
                  <a:pt x="8323" y="11468"/>
                  <a:pt x="8470" y="11448"/>
                  <a:pt x="8508" y="11584"/>
                </a:cubicBezTo>
                <a:cubicBezTo>
                  <a:pt x="8556" y="11756"/>
                  <a:pt x="8312" y="11777"/>
                  <a:pt x="8210" y="11782"/>
                </a:cubicBezTo>
                <a:cubicBezTo>
                  <a:pt x="8177" y="11782"/>
                  <a:pt x="8144" y="11782"/>
                  <a:pt x="8111" y="11782"/>
                </a:cubicBezTo>
                <a:cubicBezTo>
                  <a:pt x="8087" y="11664"/>
                  <a:pt x="8304" y="11671"/>
                  <a:pt x="8409" y="11683"/>
                </a:cubicBezTo>
                <a:cubicBezTo>
                  <a:pt x="8476" y="11706"/>
                  <a:pt x="8497" y="11707"/>
                  <a:pt x="8508" y="11757"/>
                </a:cubicBezTo>
              </a:path>
              <a:path w="1514" h="472">
                <a:moveTo>
                  <a:pt x="8905" y="11361"/>
                </a:moveTo>
                <a:cubicBezTo>
                  <a:pt x="8798" y="11413"/>
                  <a:pt x="8752" y="11440"/>
                  <a:pt x="8731" y="11559"/>
                </a:cubicBezTo>
                <a:cubicBezTo>
                  <a:pt x="8731" y="11567"/>
                  <a:pt x="8731" y="11576"/>
                  <a:pt x="8731" y="11584"/>
                </a:cubicBezTo>
                <a:cubicBezTo>
                  <a:pt x="8841" y="11572"/>
                  <a:pt x="8877" y="11537"/>
                  <a:pt x="8954" y="11460"/>
                </a:cubicBezTo>
                <a:cubicBezTo>
                  <a:pt x="8962" y="11452"/>
                  <a:pt x="8971" y="11443"/>
                  <a:pt x="8979" y="11435"/>
                </a:cubicBezTo>
                <a:cubicBezTo>
                  <a:pt x="8994" y="11543"/>
                  <a:pt x="9058" y="11675"/>
                  <a:pt x="9054" y="11782"/>
                </a:cubicBezTo>
                <a:cubicBezTo>
                  <a:pt x="9029" y="11832"/>
                  <a:pt x="9021" y="11849"/>
                  <a:pt x="8979" y="1180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13200" y="3411360"/>
            <a:ext cx="312840" cy="196920"/>
          </a:xfrm>
          <a:custGeom>
            <a:avLst/>
            <a:gdLst/>
            <a:ahLst/>
            <a:rect l="l" t="t" r="r" b="b"/>
            <a:pathLst>
              <a:path w="869" h="547">
                <a:moveTo>
                  <a:pt x="13494" y="9525"/>
                </a:moveTo>
                <a:cubicBezTo>
                  <a:pt x="13578" y="9504"/>
                  <a:pt x="13674" y="9485"/>
                  <a:pt x="13692" y="9624"/>
                </a:cubicBezTo>
                <a:cubicBezTo>
                  <a:pt x="13715" y="9804"/>
                  <a:pt x="13577" y="9932"/>
                  <a:pt x="13419" y="9971"/>
                </a:cubicBezTo>
                <a:cubicBezTo>
                  <a:pt x="13403" y="9971"/>
                  <a:pt x="13386" y="9971"/>
                  <a:pt x="13370" y="9971"/>
                </a:cubicBezTo>
                <a:cubicBezTo>
                  <a:pt x="13382" y="9899"/>
                  <a:pt x="13415" y="9802"/>
                  <a:pt x="13519" y="9847"/>
                </a:cubicBezTo>
                <a:cubicBezTo>
                  <a:pt x="13573" y="9870"/>
                  <a:pt x="13608" y="9932"/>
                  <a:pt x="13667" y="9947"/>
                </a:cubicBezTo>
              </a:path>
              <a:path w="869" h="547">
                <a:moveTo>
                  <a:pt x="14064" y="9475"/>
                </a:moveTo>
                <a:cubicBezTo>
                  <a:pt x="13978" y="9497"/>
                  <a:pt x="13898" y="9563"/>
                  <a:pt x="13915" y="9674"/>
                </a:cubicBezTo>
                <a:cubicBezTo>
                  <a:pt x="13930" y="9776"/>
                  <a:pt x="14026" y="9708"/>
                  <a:pt x="14064" y="9674"/>
                </a:cubicBezTo>
                <a:cubicBezTo>
                  <a:pt x="14110" y="9628"/>
                  <a:pt x="14122" y="9613"/>
                  <a:pt x="14163" y="9599"/>
                </a:cubicBezTo>
                <a:cubicBezTo>
                  <a:pt x="14194" y="9723"/>
                  <a:pt x="14234" y="9816"/>
                  <a:pt x="14238" y="9947"/>
                </a:cubicBezTo>
                <a:cubicBezTo>
                  <a:pt x="14238" y="9972"/>
                  <a:pt x="14238" y="9996"/>
                  <a:pt x="14238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49880" y="3438360"/>
            <a:ext cx="376200" cy="187560"/>
          </a:xfrm>
          <a:custGeom>
            <a:avLst/>
            <a:gdLst/>
            <a:ahLst/>
            <a:rect l="l" t="t" r="r" b="b"/>
            <a:pathLst>
              <a:path w="1043" h="522">
                <a:moveTo>
                  <a:pt x="14585" y="9823"/>
                </a:moveTo>
                <a:cubicBezTo>
                  <a:pt x="14651" y="9823"/>
                  <a:pt x="14668" y="9823"/>
                  <a:pt x="14709" y="9823"/>
                </a:cubicBezTo>
              </a:path>
              <a:path w="1043" h="522">
                <a:moveTo>
                  <a:pt x="14932" y="9550"/>
                </a:moveTo>
                <a:cubicBezTo>
                  <a:pt x="14978" y="9675"/>
                  <a:pt x="15004" y="9796"/>
                  <a:pt x="15032" y="9922"/>
                </a:cubicBezTo>
                <a:cubicBezTo>
                  <a:pt x="15040" y="9947"/>
                  <a:pt x="15048" y="9971"/>
                  <a:pt x="15056" y="9996"/>
                </a:cubicBezTo>
              </a:path>
              <a:path w="1043" h="522">
                <a:moveTo>
                  <a:pt x="15280" y="9624"/>
                </a:moveTo>
                <a:cubicBezTo>
                  <a:pt x="15381" y="9590"/>
                  <a:pt x="15449" y="9598"/>
                  <a:pt x="15553" y="9624"/>
                </a:cubicBezTo>
                <a:cubicBezTo>
                  <a:pt x="15521" y="9721"/>
                  <a:pt x="15466" y="9749"/>
                  <a:pt x="15379" y="9798"/>
                </a:cubicBezTo>
                <a:cubicBezTo>
                  <a:pt x="15458" y="9778"/>
                  <a:pt x="15497" y="9747"/>
                  <a:pt x="15577" y="9823"/>
                </a:cubicBezTo>
                <a:cubicBezTo>
                  <a:pt x="15644" y="9887"/>
                  <a:pt x="15660" y="10002"/>
                  <a:pt x="15577" y="10046"/>
                </a:cubicBezTo>
                <a:cubicBezTo>
                  <a:pt x="15488" y="10093"/>
                  <a:pt x="15477" y="10080"/>
                  <a:pt x="15429" y="100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86280" y="3473280"/>
            <a:ext cx="608040" cy="206640"/>
          </a:xfrm>
          <a:custGeom>
            <a:avLst/>
            <a:gdLst/>
            <a:ahLst/>
            <a:rect l="l" t="t" r="r" b="b"/>
            <a:pathLst>
              <a:path w="1688" h="572">
                <a:moveTo>
                  <a:pt x="16073" y="9823"/>
                </a:moveTo>
                <a:cubicBezTo>
                  <a:pt x="16172" y="9823"/>
                  <a:pt x="16272" y="9823"/>
                  <a:pt x="16371" y="9823"/>
                </a:cubicBezTo>
              </a:path>
              <a:path w="1688" h="572">
                <a:moveTo>
                  <a:pt x="16123" y="9996"/>
                </a:moveTo>
                <a:cubicBezTo>
                  <a:pt x="16207" y="9996"/>
                  <a:pt x="16241" y="9994"/>
                  <a:pt x="16297" y="9971"/>
                </a:cubicBezTo>
              </a:path>
              <a:path w="1688" h="572">
                <a:moveTo>
                  <a:pt x="16297" y="9971"/>
                </a:moveTo>
                <a:lnTo>
                  <a:pt x="16297" y="9971"/>
                </a:lnTo>
              </a:path>
              <a:path w="1688" h="572">
                <a:moveTo>
                  <a:pt x="17016" y="9649"/>
                </a:moveTo>
                <a:cubicBezTo>
                  <a:pt x="17030" y="9807"/>
                  <a:pt x="17061" y="9960"/>
                  <a:pt x="17066" y="10120"/>
                </a:cubicBezTo>
                <a:cubicBezTo>
                  <a:pt x="17066" y="10128"/>
                  <a:pt x="17066" y="10276"/>
                  <a:pt x="17066" y="10145"/>
                </a:cubicBezTo>
              </a:path>
              <a:path w="1688" h="572">
                <a:moveTo>
                  <a:pt x="17338" y="9649"/>
                </a:moveTo>
                <a:cubicBezTo>
                  <a:pt x="17375" y="9760"/>
                  <a:pt x="17385" y="9876"/>
                  <a:pt x="17388" y="9996"/>
                </a:cubicBezTo>
                <a:cubicBezTo>
                  <a:pt x="17390" y="10076"/>
                  <a:pt x="17429" y="10251"/>
                  <a:pt x="17562" y="10220"/>
                </a:cubicBezTo>
                <a:cubicBezTo>
                  <a:pt x="17609" y="10209"/>
                  <a:pt x="17760" y="10069"/>
                  <a:pt x="17760" y="10021"/>
                </a:cubicBezTo>
                <a:cubicBezTo>
                  <a:pt x="17752" y="10013"/>
                  <a:pt x="17743" y="10004"/>
                  <a:pt x="17735" y="9996"/>
                </a:cubicBezTo>
                <a:cubicBezTo>
                  <a:pt x="17622" y="10021"/>
                  <a:pt x="17553" y="10054"/>
                  <a:pt x="17537" y="10170"/>
                </a:cubicBezTo>
                <a:cubicBezTo>
                  <a:pt x="17537" y="10187"/>
                  <a:pt x="17537" y="10203"/>
                  <a:pt x="17537" y="10220"/>
                </a:cubicBezTo>
              </a:path>
              <a:path w="1688" h="572">
                <a:moveTo>
                  <a:pt x="16570" y="9748"/>
                </a:moveTo>
                <a:cubicBezTo>
                  <a:pt x="16578" y="9740"/>
                  <a:pt x="16586" y="9731"/>
                  <a:pt x="16594" y="9723"/>
                </a:cubicBezTo>
                <a:cubicBezTo>
                  <a:pt x="16649" y="9756"/>
                  <a:pt x="16698" y="9748"/>
                  <a:pt x="16768" y="9748"/>
                </a:cubicBezTo>
                <a:cubicBezTo>
                  <a:pt x="16776" y="9748"/>
                  <a:pt x="16785" y="9748"/>
                  <a:pt x="16793" y="974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768840"/>
            <a:ext cx="830160" cy="214200"/>
          </a:xfrm>
          <a:custGeom>
            <a:avLst/>
            <a:gdLst/>
            <a:ahLst/>
            <a:rect l="l" t="t" r="r" b="b"/>
            <a:pathLst>
              <a:path w="2308" h="596">
                <a:moveTo>
                  <a:pt x="12129" y="10542"/>
                </a:moveTo>
                <a:cubicBezTo>
                  <a:pt x="12129" y="10658"/>
                  <a:pt x="12168" y="10774"/>
                  <a:pt x="12154" y="10889"/>
                </a:cubicBezTo>
                <a:cubicBezTo>
                  <a:pt x="12146" y="10914"/>
                  <a:pt x="12137" y="10939"/>
                  <a:pt x="12129" y="10964"/>
                </a:cubicBezTo>
              </a:path>
              <a:path w="2308" h="596">
                <a:moveTo>
                  <a:pt x="12477" y="10592"/>
                </a:moveTo>
                <a:cubicBezTo>
                  <a:pt x="12477" y="10607"/>
                  <a:pt x="12514" y="10557"/>
                  <a:pt x="12601" y="10542"/>
                </a:cubicBezTo>
                <a:cubicBezTo>
                  <a:pt x="12617" y="10542"/>
                  <a:pt x="12634" y="10542"/>
                  <a:pt x="12650" y="10542"/>
                </a:cubicBezTo>
                <a:cubicBezTo>
                  <a:pt x="12680" y="10663"/>
                  <a:pt x="12619" y="10676"/>
                  <a:pt x="12526" y="10740"/>
                </a:cubicBezTo>
                <a:cubicBezTo>
                  <a:pt x="12466" y="10782"/>
                  <a:pt x="12583" y="10735"/>
                  <a:pt x="12626" y="10740"/>
                </a:cubicBezTo>
                <a:cubicBezTo>
                  <a:pt x="12780" y="10759"/>
                  <a:pt x="12835" y="10871"/>
                  <a:pt x="12700" y="10964"/>
                </a:cubicBezTo>
                <a:cubicBezTo>
                  <a:pt x="12590" y="11040"/>
                  <a:pt x="12520" y="10993"/>
                  <a:pt x="12402" y="10964"/>
                </a:cubicBezTo>
              </a:path>
              <a:path w="2308" h="596">
                <a:moveTo>
                  <a:pt x="13022" y="10765"/>
                </a:moveTo>
                <a:cubicBezTo>
                  <a:pt x="13122" y="10798"/>
                  <a:pt x="13146" y="10807"/>
                  <a:pt x="13246" y="10790"/>
                </a:cubicBezTo>
              </a:path>
              <a:path w="2308" h="596">
                <a:moveTo>
                  <a:pt x="13543" y="10567"/>
                </a:moveTo>
                <a:cubicBezTo>
                  <a:pt x="13625" y="10605"/>
                  <a:pt x="13842" y="10721"/>
                  <a:pt x="13767" y="10864"/>
                </a:cubicBezTo>
                <a:cubicBezTo>
                  <a:pt x="13702" y="10987"/>
                  <a:pt x="13521" y="10963"/>
                  <a:pt x="13419" y="10939"/>
                </a:cubicBezTo>
                <a:cubicBezTo>
                  <a:pt x="13464" y="10827"/>
                  <a:pt x="13581" y="10825"/>
                  <a:pt x="13692" y="10864"/>
                </a:cubicBezTo>
                <a:cubicBezTo>
                  <a:pt x="13744" y="10882"/>
                  <a:pt x="13781" y="10907"/>
                  <a:pt x="13791" y="10939"/>
                </a:cubicBezTo>
              </a:path>
              <a:path w="2308" h="596">
                <a:moveTo>
                  <a:pt x="14238" y="10542"/>
                </a:moveTo>
                <a:cubicBezTo>
                  <a:pt x="14192" y="10561"/>
                  <a:pt x="13993" y="10626"/>
                  <a:pt x="14039" y="10716"/>
                </a:cubicBezTo>
                <a:cubicBezTo>
                  <a:pt x="14100" y="10837"/>
                  <a:pt x="14241" y="10730"/>
                  <a:pt x="14312" y="10691"/>
                </a:cubicBezTo>
                <a:cubicBezTo>
                  <a:pt x="14353" y="10671"/>
                  <a:pt x="14369" y="10673"/>
                  <a:pt x="14362" y="10641"/>
                </a:cubicBezTo>
                <a:cubicBezTo>
                  <a:pt x="14390" y="10754"/>
                  <a:pt x="14431" y="10845"/>
                  <a:pt x="14436" y="10964"/>
                </a:cubicBezTo>
                <a:cubicBezTo>
                  <a:pt x="14440" y="11052"/>
                  <a:pt x="14463" y="11051"/>
                  <a:pt x="14387" y="11038"/>
                </a:cubicBezTo>
              </a:path>
              <a:path w="2308" h="596">
                <a:moveTo>
                  <a:pt x="13146" y="10716"/>
                </a:moveTo>
                <a:lnTo>
                  <a:pt x="13171" y="10716"/>
                </a:lnTo>
                <a:lnTo>
                  <a:pt x="13171" y="10740"/>
                </a:lnTo>
                <a:lnTo>
                  <a:pt x="13171" y="10790"/>
                </a:lnTo>
                <a:lnTo>
                  <a:pt x="13146" y="10914"/>
                </a:lnTo>
                <a:lnTo>
                  <a:pt x="13146" y="10988"/>
                </a:lnTo>
                <a:lnTo>
                  <a:pt x="13146" y="11063"/>
                </a:lnTo>
                <a:lnTo>
                  <a:pt x="13146" y="11038"/>
                </a:lnTo>
              </a:path>
              <a:path w="2308" h="596">
                <a:moveTo>
                  <a:pt x="13221" y="10468"/>
                </a:moveTo>
                <a:cubicBezTo>
                  <a:pt x="13287" y="10468"/>
                  <a:pt x="13353" y="10468"/>
                  <a:pt x="13419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51160" y="4384800"/>
            <a:ext cx="901800" cy="411120"/>
          </a:xfrm>
          <a:custGeom>
            <a:avLst/>
            <a:gdLst/>
            <a:ahLst/>
            <a:rect l="l" t="t" r="r" b="b"/>
            <a:pathLst>
              <a:path w="2506" h="1142">
                <a:moveTo>
                  <a:pt x="9327" y="12675"/>
                </a:moveTo>
                <a:cubicBezTo>
                  <a:pt x="9417" y="12712"/>
                  <a:pt x="9486" y="12818"/>
                  <a:pt x="9575" y="12874"/>
                </a:cubicBezTo>
                <a:cubicBezTo>
                  <a:pt x="9622" y="12903"/>
                  <a:pt x="9736" y="12972"/>
                  <a:pt x="9748" y="12948"/>
                </a:cubicBezTo>
              </a:path>
              <a:path w="2506" h="1142">
                <a:moveTo>
                  <a:pt x="9748" y="12601"/>
                </a:moveTo>
                <a:cubicBezTo>
                  <a:pt x="9663" y="12687"/>
                  <a:pt x="9603" y="12847"/>
                  <a:pt x="9550" y="12973"/>
                </a:cubicBezTo>
                <a:cubicBezTo>
                  <a:pt x="9549" y="12976"/>
                  <a:pt x="9453" y="13192"/>
                  <a:pt x="9525" y="13047"/>
                </a:cubicBezTo>
              </a:path>
              <a:path w="2506" h="1142">
                <a:moveTo>
                  <a:pt x="9922" y="12675"/>
                </a:moveTo>
                <a:cubicBezTo>
                  <a:pt x="10047" y="12662"/>
                  <a:pt x="10166" y="12650"/>
                  <a:pt x="10294" y="12650"/>
                </a:cubicBezTo>
                <a:cubicBezTo>
                  <a:pt x="10319" y="12650"/>
                  <a:pt x="10343" y="12650"/>
                  <a:pt x="10368" y="12650"/>
                </a:cubicBezTo>
              </a:path>
              <a:path w="2506" h="1142">
                <a:moveTo>
                  <a:pt x="9971" y="12874"/>
                </a:moveTo>
                <a:cubicBezTo>
                  <a:pt x="10130" y="12865"/>
                  <a:pt x="10283" y="12849"/>
                  <a:pt x="10443" y="12849"/>
                </a:cubicBezTo>
              </a:path>
              <a:path w="2506" h="1142">
                <a:moveTo>
                  <a:pt x="11063" y="12378"/>
                </a:moveTo>
                <a:cubicBezTo>
                  <a:pt x="10950" y="12413"/>
                  <a:pt x="10858" y="12431"/>
                  <a:pt x="10790" y="12526"/>
                </a:cubicBezTo>
                <a:cubicBezTo>
                  <a:pt x="10829" y="12644"/>
                  <a:pt x="10931" y="12699"/>
                  <a:pt x="11038" y="12774"/>
                </a:cubicBezTo>
                <a:cubicBezTo>
                  <a:pt x="11103" y="12818"/>
                  <a:pt x="11122" y="12824"/>
                  <a:pt x="11137" y="12874"/>
                </a:cubicBezTo>
                <a:cubicBezTo>
                  <a:pt x="11015" y="12959"/>
                  <a:pt x="10942" y="12968"/>
                  <a:pt x="10815" y="12898"/>
                </a:cubicBezTo>
                <a:cubicBezTo>
                  <a:pt x="10899" y="12760"/>
                  <a:pt x="10994" y="12659"/>
                  <a:pt x="11112" y="12551"/>
                </a:cubicBezTo>
                <a:cubicBezTo>
                  <a:pt x="11171" y="12498"/>
                  <a:pt x="11119" y="12496"/>
                  <a:pt x="11063" y="12452"/>
                </a:cubicBezTo>
              </a:path>
              <a:path w="2506" h="1142">
                <a:moveTo>
                  <a:pt x="9103" y="12402"/>
                </a:moveTo>
                <a:cubicBezTo>
                  <a:pt x="9077" y="12544"/>
                  <a:pt x="9090" y="12695"/>
                  <a:pt x="9079" y="12849"/>
                </a:cubicBezTo>
                <a:cubicBezTo>
                  <a:pt x="9069" y="12993"/>
                  <a:pt x="9037" y="13128"/>
                  <a:pt x="9029" y="13271"/>
                </a:cubicBezTo>
                <a:cubicBezTo>
                  <a:pt x="9109" y="13310"/>
                  <a:pt x="9141" y="13329"/>
                  <a:pt x="9252" y="13320"/>
                </a:cubicBezTo>
                <a:cubicBezTo>
                  <a:pt x="9586" y="13294"/>
                  <a:pt x="9907" y="13271"/>
                  <a:pt x="10244" y="13271"/>
                </a:cubicBezTo>
                <a:cubicBezTo>
                  <a:pt x="10542" y="13271"/>
                  <a:pt x="10800" y="13235"/>
                  <a:pt x="11088" y="13196"/>
                </a:cubicBezTo>
                <a:cubicBezTo>
                  <a:pt x="11131" y="13190"/>
                  <a:pt x="11346" y="13202"/>
                  <a:pt x="11385" y="13171"/>
                </a:cubicBezTo>
                <a:cubicBezTo>
                  <a:pt x="11418" y="13145"/>
                  <a:pt x="11425" y="13063"/>
                  <a:pt x="11435" y="12998"/>
                </a:cubicBezTo>
                <a:cubicBezTo>
                  <a:pt x="11476" y="12745"/>
                  <a:pt x="11525" y="12484"/>
                  <a:pt x="11534" y="12229"/>
                </a:cubicBezTo>
                <a:cubicBezTo>
                  <a:pt x="11534" y="12204"/>
                  <a:pt x="11534" y="12196"/>
                  <a:pt x="11534" y="12179"/>
                </a:cubicBezTo>
                <a:cubicBezTo>
                  <a:pt x="11376" y="12179"/>
                  <a:pt x="11219" y="12186"/>
                  <a:pt x="11063" y="12204"/>
                </a:cubicBezTo>
                <a:cubicBezTo>
                  <a:pt x="10865" y="12227"/>
                  <a:pt x="10666" y="12233"/>
                  <a:pt x="10468" y="12254"/>
                </a:cubicBezTo>
                <a:cubicBezTo>
                  <a:pt x="10287" y="12274"/>
                  <a:pt x="10102" y="12279"/>
                  <a:pt x="9922" y="12303"/>
                </a:cubicBezTo>
                <a:cubicBezTo>
                  <a:pt x="9757" y="12325"/>
                  <a:pt x="9591" y="12361"/>
                  <a:pt x="9426" y="12378"/>
                </a:cubicBezTo>
                <a:cubicBezTo>
                  <a:pt x="9311" y="12390"/>
                  <a:pt x="9158" y="12379"/>
                  <a:pt x="9079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24040" y="5392800"/>
            <a:ext cx="330120" cy="144360"/>
          </a:xfrm>
          <a:custGeom>
            <a:avLst/>
            <a:gdLst/>
            <a:ahLst/>
            <a:rect l="l" t="t" r="r" b="b"/>
            <a:pathLst>
              <a:path w="919" h="398">
                <a:moveTo>
                  <a:pt x="4837" y="15056"/>
                </a:moveTo>
                <a:cubicBezTo>
                  <a:pt x="4854" y="15144"/>
                  <a:pt x="4862" y="15214"/>
                  <a:pt x="4862" y="15304"/>
                </a:cubicBezTo>
              </a:path>
              <a:path w="919" h="398">
                <a:moveTo>
                  <a:pt x="4787" y="15230"/>
                </a:moveTo>
                <a:cubicBezTo>
                  <a:pt x="4882" y="15206"/>
                  <a:pt x="4943" y="15193"/>
                  <a:pt x="5035" y="15156"/>
                </a:cubicBezTo>
              </a:path>
              <a:path w="919" h="398">
                <a:moveTo>
                  <a:pt x="5234" y="15032"/>
                </a:moveTo>
                <a:cubicBezTo>
                  <a:pt x="5243" y="15141"/>
                  <a:pt x="5259" y="15241"/>
                  <a:pt x="5259" y="15354"/>
                </a:cubicBezTo>
              </a:path>
              <a:path w="919" h="398">
                <a:moveTo>
                  <a:pt x="5457" y="15056"/>
                </a:moveTo>
                <a:cubicBezTo>
                  <a:pt x="5467" y="15095"/>
                  <a:pt x="5512" y="15166"/>
                  <a:pt x="5556" y="15180"/>
                </a:cubicBezTo>
                <a:cubicBezTo>
                  <a:pt x="5578" y="15187"/>
                  <a:pt x="5629" y="15180"/>
                  <a:pt x="5655" y="15180"/>
                </a:cubicBezTo>
              </a:path>
              <a:path w="919" h="398">
                <a:moveTo>
                  <a:pt x="5705" y="14982"/>
                </a:moveTo>
                <a:cubicBezTo>
                  <a:pt x="5692" y="15107"/>
                  <a:pt x="5680" y="15226"/>
                  <a:pt x="5680" y="15354"/>
                </a:cubicBezTo>
                <a:cubicBezTo>
                  <a:pt x="5680" y="15362"/>
                  <a:pt x="5680" y="15371"/>
                  <a:pt x="5680" y="153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920" y="5392800"/>
            <a:ext cx="179280" cy="117360"/>
          </a:xfrm>
          <a:custGeom>
            <a:avLst/>
            <a:gdLst/>
            <a:ahLst/>
            <a:rect l="l" t="t" r="r" b="b"/>
            <a:pathLst>
              <a:path w="498" h="323">
                <a:moveTo>
                  <a:pt x="6772" y="15056"/>
                </a:moveTo>
                <a:cubicBezTo>
                  <a:pt x="6772" y="14990"/>
                  <a:pt x="6772" y="15139"/>
                  <a:pt x="6772" y="15205"/>
                </a:cubicBezTo>
                <a:cubicBezTo>
                  <a:pt x="6772" y="15230"/>
                  <a:pt x="6772" y="15255"/>
                  <a:pt x="6772" y="15280"/>
                </a:cubicBezTo>
              </a:path>
              <a:path w="498" h="323">
                <a:moveTo>
                  <a:pt x="6672" y="15131"/>
                </a:moveTo>
                <a:cubicBezTo>
                  <a:pt x="6778" y="15131"/>
                  <a:pt x="6864" y="15124"/>
                  <a:pt x="6970" y="15106"/>
                </a:cubicBezTo>
              </a:path>
              <a:path w="498" h="323">
                <a:moveTo>
                  <a:pt x="7144" y="14982"/>
                </a:moveTo>
                <a:cubicBezTo>
                  <a:pt x="7154" y="15083"/>
                  <a:pt x="7169" y="15177"/>
                  <a:pt x="7169" y="15280"/>
                </a:cubicBezTo>
                <a:cubicBezTo>
                  <a:pt x="7169" y="15288"/>
                  <a:pt x="7169" y="15296"/>
                  <a:pt x="7169" y="153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0760" y="5375160"/>
            <a:ext cx="117360" cy="206640"/>
          </a:xfrm>
          <a:custGeom>
            <a:avLst/>
            <a:gdLst/>
            <a:ahLst/>
            <a:rect l="l" t="t" r="r" b="b"/>
            <a:pathLst>
              <a:path w="323" h="572">
                <a:moveTo>
                  <a:pt x="7392" y="15007"/>
                </a:moveTo>
                <a:cubicBezTo>
                  <a:pt x="7397" y="15055"/>
                  <a:pt x="7406" y="15159"/>
                  <a:pt x="7491" y="15156"/>
                </a:cubicBezTo>
                <a:cubicBezTo>
                  <a:pt x="7586" y="15132"/>
                  <a:pt x="7616" y="15126"/>
                  <a:pt x="7665" y="15081"/>
                </a:cubicBezTo>
              </a:path>
              <a:path w="323" h="572">
                <a:moveTo>
                  <a:pt x="7714" y="14932"/>
                </a:moveTo>
                <a:cubicBezTo>
                  <a:pt x="7693" y="15124"/>
                  <a:pt x="7689" y="15309"/>
                  <a:pt x="7689" y="1550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8320" y="5473800"/>
            <a:ext cx="5938920" cy="1278000"/>
          </a:xfrm>
          <a:custGeom>
            <a:avLst/>
            <a:gdLst/>
            <a:ahLst/>
            <a:rect l="l" t="t" r="r" b="b"/>
            <a:pathLst>
              <a:path w="16496" h="3548">
                <a:moveTo>
                  <a:pt x="5581" y="16346"/>
                </a:moveTo>
                <a:cubicBezTo>
                  <a:pt x="5615" y="16267"/>
                  <a:pt x="5721" y="16228"/>
                  <a:pt x="5829" y="16247"/>
                </a:cubicBezTo>
                <a:cubicBezTo>
                  <a:pt x="5972" y="16272"/>
                  <a:pt x="5819" y="16427"/>
                  <a:pt x="5779" y="16470"/>
                </a:cubicBezTo>
                <a:cubicBezTo>
                  <a:pt x="5771" y="16478"/>
                  <a:pt x="5763" y="16487"/>
                  <a:pt x="5755" y="16495"/>
                </a:cubicBezTo>
                <a:cubicBezTo>
                  <a:pt x="5898" y="16495"/>
                  <a:pt x="5928" y="16488"/>
                  <a:pt x="6003" y="16594"/>
                </a:cubicBezTo>
                <a:cubicBezTo>
                  <a:pt x="5943" y="16702"/>
                  <a:pt x="5871" y="16793"/>
                  <a:pt x="5730" y="16793"/>
                </a:cubicBezTo>
                <a:cubicBezTo>
                  <a:pt x="5663" y="16771"/>
                  <a:pt x="5645" y="16766"/>
                  <a:pt x="5606" y="16743"/>
                </a:cubicBezTo>
              </a:path>
              <a:path w="16496" h="3548">
                <a:moveTo>
                  <a:pt x="5482" y="16966"/>
                </a:moveTo>
                <a:cubicBezTo>
                  <a:pt x="5712" y="16943"/>
                  <a:pt x="5924" y="16936"/>
                  <a:pt x="6152" y="16966"/>
                </a:cubicBezTo>
              </a:path>
              <a:path w="16496" h="3548">
                <a:moveTo>
                  <a:pt x="6028" y="17090"/>
                </a:moveTo>
                <a:cubicBezTo>
                  <a:pt x="5908" y="17150"/>
                  <a:pt x="5813" y="17217"/>
                  <a:pt x="5705" y="17289"/>
                </a:cubicBezTo>
                <a:cubicBezTo>
                  <a:pt x="5804" y="17345"/>
                  <a:pt x="5932" y="17329"/>
                  <a:pt x="6003" y="17438"/>
                </a:cubicBezTo>
                <a:cubicBezTo>
                  <a:pt x="6050" y="17510"/>
                  <a:pt x="5879" y="17594"/>
                  <a:pt x="5829" y="17562"/>
                </a:cubicBezTo>
                <a:cubicBezTo>
                  <a:pt x="5821" y="17545"/>
                  <a:pt x="5812" y="17529"/>
                  <a:pt x="5804" y="17512"/>
                </a:cubicBezTo>
                <a:cubicBezTo>
                  <a:pt x="5861" y="17360"/>
                  <a:pt x="5953" y="17269"/>
                  <a:pt x="6052" y="17140"/>
                </a:cubicBezTo>
              </a:path>
              <a:path w="16496" h="3548">
                <a:moveTo>
                  <a:pt x="6350" y="16917"/>
                </a:moveTo>
                <a:cubicBezTo>
                  <a:pt x="6320" y="17016"/>
                  <a:pt x="6317" y="17092"/>
                  <a:pt x="6350" y="17190"/>
                </a:cubicBezTo>
                <a:cubicBezTo>
                  <a:pt x="6464" y="17190"/>
                  <a:pt x="6509" y="17192"/>
                  <a:pt x="6573" y="17090"/>
                </a:cubicBezTo>
                <a:cubicBezTo>
                  <a:pt x="6597" y="17052"/>
                  <a:pt x="6637" y="16986"/>
                  <a:pt x="6648" y="16942"/>
                </a:cubicBezTo>
                <a:cubicBezTo>
                  <a:pt x="6648" y="17030"/>
                  <a:pt x="6621" y="17114"/>
                  <a:pt x="6722" y="17165"/>
                </a:cubicBezTo>
                <a:cubicBezTo>
                  <a:pt x="6849" y="17229"/>
                  <a:pt x="6974" y="17093"/>
                  <a:pt x="6995" y="16991"/>
                </a:cubicBezTo>
                <a:cubicBezTo>
                  <a:pt x="7018" y="16880"/>
                  <a:pt x="6944" y="16783"/>
                  <a:pt x="6846" y="16768"/>
                </a:cubicBezTo>
                <a:cubicBezTo>
                  <a:pt x="6838" y="16768"/>
                  <a:pt x="6829" y="16768"/>
                  <a:pt x="6821" y="16768"/>
                </a:cubicBezTo>
              </a:path>
              <a:path w="16496" h="3548">
                <a:moveTo>
                  <a:pt x="7193" y="16793"/>
                </a:moveTo>
                <a:cubicBezTo>
                  <a:pt x="7224" y="16746"/>
                  <a:pt x="7343" y="16747"/>
                  <a:pt x="7417" y="16743"/>
                </a:cubicBezTo>
                <a:cubicBezTo>
                  <a:pt x="7441" y="16743"/>
                  <a:pt x="7449" y="16743"/>
                  <a:pt x="7441" y="16768"/>
                </a:cubicBezTo>
              </a:path>
              <a:path w="16496" h="3548">
                <a:moveTo>
                  <a:pt x="7317" y="16942"/>
                </a:moveTo>
                <a:cubicBezTo>
                  <a:pt x="7407" y="16932"/>
                  <a:pt x="7456" y="16907"/>
                  <a:pt x="7541" y="16867"/>
                </a:cubicBezTo>
              </a:path>
              <a:path w="16496" h="3548">
                <a:moveTo>
                  <a:pt x="7938" y="16545"/>
                </a:moveTo>
                <a:cubicBezTo>
                  <a:pt x="7938" y="16490"/>
                  <a:pt x="7984" y="16482"/>
                  <a:pt x="8037" y="16495"/>
                </a:cubicBezTo>
                <a:cubicBezTo>
                  <a:pt x="8225" y="16541"/>
                  <a:pt x="8175" y="16791"/>
                  <a:pt x="8086" y="16892"/>
                </a:cubicBezTo>
                <a:cubicBezTo>
                  <a:pt x="8011" y="16977"/>
                  <a:pt x="7950" y="17001"/>
                  <a:pt x="7863" y="16991"/>
                </a:cubicBezTo>
                <a:cubicBezTo>
                  <a:pt x="7844" y="16895"/>
                  <a:pt x="7825" y="16879"/>
                  <a:pt x="7938" y="16842"/>
                </a:cubicBezTo>
                <a:cubicBezTo>
                  <a:pt x="8061" y="16802"/>
                  <a:pt x="8161" y="16855"/>
                  <a:pt x="8235" y="16942"/>
                </a:cubicBezTo>
              </a:path>
              <a:path w="16496" h="3548">
                <a:moveTo>
                  <a:pt x="8458" y="16446"/>
                </a:moveTo>
                <a:cubicBezTo>
                  <a:pt x="8458" y="16509"/>
                  <a:pt x="8437" y="16593"/>
                  <a:pt x="8483" y="16644"/>
                </a:cubicBezTo>
                <a:cubicBezTo>
                  <a:pt x="8527" y="16693"/>
                  <a:pt x="8679" y="16677"/>
                  <a:pt x="8731" y="16644"/>
                </a:cubicBezTo>
                <a:cubicBezTo>
                  <a:pt x="8756" y="16619"/>
                  <a:pt x="8781" y="16595"/>
                  <a:pt x="8806" y="16570"/>
                </a:cubicBezTo>
              </a:path>
              <a:path w="16496" h="3548">
                <a:moveTo>
                  <a:pt x="8731" y="16321"/>
                </a:moveTo>
                <a:cubicBezTo>
                  <a:pt x="8731" y="16483"/>
                  <a:pt x="8722" y="16634"/>
                  <a:pt x="8706" y="16793"/>
                </a:cubicBezTo>
                <a:cubicBezTo>
                  <a:pt x="8706" y="16809"/>
                  <a:pt x="8706" y="16826"/>
                  <a:pt x="8706" y="16842"/>
                </a:cubicBezTo>
              </a:path>
              <a:path w="16496" h="3548">
                <a:moveTo>
                  <a:pt x="4911" y="17810"/>
                </a:moveTo>
                <a:cubicBezTo>
                  <a:pt x="5040" y="17810"/>
                  <a:pt x="5155" y="17806"/>
                  <a:pt x="5283" y="17785"/>
                </a:cubicBezTo>
                <a:cubicBezTo>
                  <a:pt x="5500" y="17749"/>
                  <a:pt x="5733" y="17726"/>
                  <a:pt x="5953" y="17711"/>
                </a:cubicBezTo>
                <a:cubicBezTo>
                  <a:pt x="6144" y="17698"/>
                  <a:pt x="6336" y="17698"/>
                  <a:pt x="6524" y="17661"/>
                </a:cubicBezTo>
                <a:cubicBezTo>
                  <a:pt x="6646" y="17637"/>
                  <a:pt x="6745" y="17611"/>
                  <a:pt x="6871" y="17611"/>
                </a:cubicBezTo>
                <a:cubicBezTo>
                  <a:pt x="6896" y="17611"/>
                  <a:pt x="6904" y="17611"/>
                  <a:pt x="6921" y="17611"/>
                </a:cubicBezTo>
              </a:path>
              <a:path w="16496" h="3548">
                <a:moveTo>
                  <a:pt x="5680" y="17884"/>
                </a:moveTo>
                <a:cubicBezTo>
                  <a:pt x="5733" y="17844"/>
                  <a:pt x="5837" y="17846"/>
                  <a:pt x="5904" y="17859"/>
                </a:cubicBezTo>
                <a:cubicBezTo>
                  <a:pt x="5983" y="17875"/>
                  <a:pt x="5992" y="17899"/>
                  <a:pt x="5953" y="17959"/>
                </a:cubicBezTo>
                <a:cubicBezTo>
                  <a:pt x="5937" y="17984"/>
                  <a:pt x="5920" y="18008"/>
                  <a:pt x="5904" y="18033"/>
                </a:cubicBezTo>
                <a:cubicBezTo>
                  <a:pt x="5896" y="18033"/>
                  <a:pt x="5887" y="18033"/>
                  <a:pt x="5879" y="18033"/>
                </a:cubicBezTo>
                <a:cubicBezTo>
                  <a:pt x="5925" y="18033"/>
                  <a:pt x="6004" y="18007"/>
                  <a:pt x="6028" y="18058"/>
                </a:cubicBezTo>
                <a:cubicBezTo>
                  <a:pt x="6069" y="18146"/>
                  <a:pt x="5920" y="18243"/>
                  <a:pt x="5854" y="18256"/>
                </a:cubicBezTo>
                <a:cubicBezTo>
                  <a:pt x="5788" y="18256"/>
                  <a:pt x="5771" y="18256"/>
                  <a:pt x="5730" y="18256"/>
                </a:cubicBezTo>
              </a:path>
              <a:path w="16496" h="3548">
                <a:moveTo>
                  <a:pt x="5705" y="18430"/>
                </a:moveTo>
                <a:cubicBezTo>
                  <a:pt x="5808" y="18412"/>
                  <a:pt x="5898" y="18405"/>
                  <a:pt x="6003" y="18405"/>
                </a:cubicBezTo>
              </a:path>
              <a:path w="16496" h="3548">
                <a:moveTo>
                  <a:pt x="6052" y="18430"/>
                </a:moveTo>
                <a:cubicBezTo>
                  <a:pt x="5967" y="18482"/>
                  <a:pt x="5851" y="18526"/>
                  <a:pt x="5804" y="18604"/>
                </a:cubicBezTo>
                <a:cubicBezTo>
                  <a:pt x="5858" y="18595"/>
                  <a:pt x="5952" y="18567"/>
                  <a:pt x="6003" y="18604"/>
                </a:cubicBezTo>
                <a:cubicBezTo>
                  <a:pt x="6081" y="18661"/>
                  <a:pt x="5910" y="18725"/>
                  <a:pt x="5904" y="18728"/>
                </a:cubicBezTo>
                <a:cubicBezTo>
                  <a:pt x="5896" y="18736"/>
                  <a:pt x="5887" y="18744"/>
                  <a:pt x="5879" y="18752"/>
                </a:cubicBezTo>
                <a:cubicBezTo>
                  <a:pt x="5879" y="18634"/>
                  <a:pt x="5912" y="18638"/>
                  <a:pt x="5978" y="18554"/>
                </a:cubicBezTo>
                <a:cubicBezTo>
                  <a:pt x="6000" y="18525"/>
                  <a:pt x="6020" y="18486"/>
                  <a:pt x="6028" y="18455"/>
                </a:cubicBezTo>
              </a:path>
              <a:path w="16496" h="3548">
                <a:moveTo>
                  <a:pt x="5581" y="16694"/>
                </a:moveTo>
                <a:cubicBezTo>
                  <a:pt x="5586" y="16657"/>
                  <a:pt x="5601" y="16622"/>
                  <a:pt x="5606" y="16594"/>
                </a:cubicBezTo>
                <a:cubicBezTo>
                  <a:pt x="5616" y="16534"/>
                  <a:pt x="5608" y="16506"/>
                  <a:pt x="5631" y="16446"/>
                </a:cubicBezTo>
                <a:cubicBezTo>
                  <a:pt x="5678" y="16618"/>
                  <a:pt x="5714" y="16791"/>
                  <a:pt x="5755" y="16966"/>
                </a:cubicBezTo>
                <a:cubicBezTo>
                  <a:pt x="5851" y="17378"/>
                  <a:pt x="5874" y="17784"/>
                  <a:pt x="5879" y="18207"/>
                </a:cubicBezTo>
                <a:cubicBezTo>
                  <a:pt x="5881" y="18391"/>
                  <a:pt x="5894" y="18530"/>
                  <a:pt x="5928" y="18703"/>
                </a:cubicBezTo>
                <a:cubicBezTo>
                  <a:pt x="5928" y="18744"/>
                  <a:pt x="5920" y="18760"/>
                  <a:pt x="5953" y="18752"/>
                </a:cubicBezTo>
              </a:path>
              <a:path w="16496" h="3548">
                <a:moveTo>
                  <a:pt x="7764" y="17264"/>
                </a:moveTo>
                <a:cubicBezTo>
                  <a:pt x="7926" y="17264"/>
                  <a:pt x="8101" y="17238"/>
                  <a:pt x="8260" y="17214"/>
                </a:cubicBezTo>
                <a:cubicBezTo>
                  <a:pt x="8495" y="17178"/>
                  <a:pt x="9091" y="16946"/>
                  <a:pt x="8954" y="17140"/>
                </a:cubicBezTo>
                <a:cubicBezTo>
                  <a:pt x="8929" y="17148"/>
                  <a:pt x="8905" y="17157"/>
                  <a:pt x="8880" y="17165"/>
                </a:cubicBezTo>
              </a:path>
              <a:path w="16496" h="3548">
                <a:moveTo>
                  <a:pt x="8012" y="17611"/>
                </a:moveTo>
                <a:cubicBezTo>
                  <a:pt x="8083" y="17611"/>
                  <a:pt x="8171" y="17582"/>
                  <a:pt x="8235" y="17587"/>
                </a:cubicBezTo>
                <a:cubicBezTo>
                  <a:pt x="8364" y="17597"/>
                  <a:pt x="8218" y="17728"/>
                  <a:pt x="8186" y="17760"/>
                </a:cubicBezTo>
                <a:cubicBezTo>
                  <a:pt x="8232" y="17760"/>
                  <a:pt x="8359" y="17734"/>
                  <a:pt x="8384" y="17785"/>
                </a:cubicBezTo>
                <a:cubicBezTo>
                  <a:pt x="8453" y="17922"/>
                  <a:pt x="8169" y="17947"/>
                  <a:pt x="8111" y="17959"/>
                </a:cubicBezTo>
                <a:cubicBezTo>
                  <a:pt x="8027" y="17979"/>
                  <a:pt x="8001" y="18001"/>
                  <a:pt x="7987" y="17934"/>
                </a:cubicBezTo>
              </a:path>
              <a:path w="16496" h="3548">
                <a:moveTo>
                  <a:pt x="7764" y="18231"/>
                </a:moveTo>
                <a:cubicBezTo>
                  <a:pt x="7977" y="18192"/>
                  <a:pt x="8220" y="18130"/>
                  <a:pt x="8434" y="18182"/>
                </a:cubicBezTo>
                <a:cubicBezTo>
                  <a:pt x="8450" y="18190"/>
                  <a:pt x="8467" y="18199"/>
                  <a:pt x="8483" y="18207"/>
                </a:cubicBezTo>
              </a:path>
              <a:path w="16496" h="3548">
                <a:moveTo>
                  <a:pt x="7987" y="18405"/>
                </a:moveTo>
                <a:cubicBezTo>
                  <a:pt x="7946" y="18447"/>
                  <a:pt x="7938" y="18455"/>
                  <a:pt x="7913" y="18479"/>
                </a:cubicBezTo>
                <a:cubicBezTo>
                  <a:pt x="8014" y="18489"/>
                  <a:pt x="8189" y="18472"/>
                  <a:pt x="8260" y="18554"/>
                </a:cubicBezTo>
                <a:cubicBezTo>
                  <a:pt x="8326" y="18631"/>
                  <a:pt x="8145" y="18674"/>
                  <a:pt x="8111" y="18678"/>
                </a:cubicBezTo>
                <a:cubicBezTo>
                  <a:pt x="8135" y="18537"/>
                  <a:pt x="8216" y="18457"/>
                  <a:pt x="8310" y="18355"/>
                </a:cubicBezTo>
                <a:cubicBezTo>
                  <a:pt x="8350" y="18312"/>
                  <a:pt x="8396" y="18299"/>
                  <a:pt x="8359" y="18281"/>
                </a:cubicBezTo>
              </a:path>
              <a:path w="16496" h="3548">
                <a:moveTo>
                  <a:pt x="9401" y="17214"/>
                </a:moveTo>
                <a:cubicBezTo>
                  <a:pt x="9526" y="17186"/>
                  <a:pt x="9623" y="17186"/>
                  <a:pt x="9748" y="17214"/>
                </a:cubicBezTo>
              </a:path>
              <a:path w="16496" h="3548">
                <a:moveTo>
                  <a:pt x="9451" y="17438"/>
                </a:moveTo>
                <a:cubicBezTo>
                  <a:pt x="9592" y="17410"/>
                  <a:pt x="9730" y="17385"/>
                  <a:pt x="9872" y="17363"/>
                </a:cubicBezTo>
              </a:path>
              <a:path w="16496" h="3548">
                <a:moveTo>
                  <a:pt x="10765" y="16793"/>
                </a:moveTo>
                <a:cubicBezTo>
                  <a:pt x="10784" y="16849"/>
                  <a:pt x="10882" y="16774"/>
                  <a:pt x="10939" y="16768"/>
                </a:cubicBezTo>
                <a:cubicBezTo>
                  <a:pt x="10980" y="16768"/>
                  <a:pt x="11022" y="16768"/>
                  <a:pt x="11063" y="16768"/>
                </a:cubicBezTo>
                <a:cubicBezTo>
                  <a:pt x="11129" y="17007"/>
                  <a:pt x="11056" y="17161"/>
                  <a:pt x="10840" y="17314"/>
                </a:cubicBezTo>
                <a:cubicBezTo>
                  <a:pt x="10718" y="17374"/>
                  <a:pt x="10699" y="17399"/>
                  <a:pt x="10616" y="17388"/>
                </a:cubicBezTo>
                <a:cubicBezTo>
                  <a:pt x="10656" y="17228"/>
                  <a:pt x="10781" y="17144"/>
                  <a:pt x="10964" y="17140"/>
                </a:cubicBezTo>
                <a:cubicBezTo>
                  <a:pt x="11055" y="17138"/>
                  <a:pt x="11083" y="17185"/>
                  <a:pt x="11137" y="17239"/>
                </a:cubicBezTo>
              </a:path>
              <a:path w="16496" h="3548">
                <a:moveTo>
                  <a:pt x="11385" y="16768"/>
                </a:moveTo>
                <a:cubicBezTo>
                  <a:pt x="11385" y="16845"/>
                  <a:pt x="11359" y="17010"/>
                  <a:pt x="11435" y="17066"/>
                </a:cubicBezTo>
                <a:cubicBezTo>
                  <a:pt x="11563" y="17160"/>
                  <a:pt x="11659" y="17046"/>
                  <a:pt x="11733" y="16966"/>
                </a:cubicBezTo>
              </a:path>
              <a:path w="16496" h="3548">
                <a:moveTo>
                  <a:pt x="11708" y="16718"/>
                </a:moveTo>
                <a:cubicBezTo>
                  <a:pt x="11677" y="16922"/>
                  <a:pt x="11658" y="17131"/>
                  <a:pt x="11633" y="17338"/>
                </a:cubicBezTo>
                <a:cubicBezTo>
                  <a:pt x="11633" y="17388"/>
                  <a:pt x="11633" y="17405"/>
                  <a:pt x="11683" y="17388"/>
                </a:cubicBezTo>
              </a:path>
              <a:path w="16496" h="3548">
                <a:moveTo>
                  <a:pt x="12229" y="16917"/>
                </a:moveTo>
                <a:cubicBezTo>
                  <a:pt x="12249" y="16998"/>
                  <a:pt x="12346" y="17099"/>
                  <a:pt x="12402" y="17165"/>
                </a:cubicBezTo>
                <a:cubicBezTo>
                  <a:pt x="12419" y="17181"/>
                  <a:pt x="12435" y="17198"/>
                  <a:pt x="12452" y="17214"/>
                </a:cubicBezTo>
              </a:path>
              <a:path w="16496" h="3548">
                <a:moveTo>
                  <a:pt x="12452" y="16818"/>
                </a:moveTo>
                <a:cubicBezTo>
                  <a:pt x="12359" y="16993"/>
                  <a:pt x="12238" y="17173"/>
                  <a:pt x="12179" y="17363"/>
                </a:cubicBezTo>
                <a:cubicBezTo>
                  <a:pt x="12179" y="17408"/>
                  <a:pt x="12176" y="17428"/>
                  <a:pt x="12204" y="17388"/>
                </a:cubicBezTo>
              </a:path>
              <a:path w="16496" h="3548">
                <a:moveTo>
                  <a:pt x="13221" y="16173"/>
                </a:moveTo>
                <a:cubicBezTo>
                  <a:pt x="13111" y="16147"/>
                  <a:pt x="13046" y="16133"/>
                  <a:pt x="12948" y="16197"/>
                </a:cubicBezTo>
                <a:cubicBezTo>
                  <a:pt x="12983" y="16354"/>
                  <a:pt x="13139" y="16441"/>
                  <a:pt x="13196" y="16594"/>
                </a:cubicBezTo>
                <a:cubicBezTo>
                  <a:pt x="13244" y="16723"/>
                  <a:pt x="13105" y="16873"/>
                  <a:pt x="12973" y="16842"/>
                </a:cubicBezTo>
                <a:cubicBezTo>
                  <a:pt x="12965" y="16826"/>
                  <a:pt x="12956" y="16809"/>
                  <a:pt x="12948" y="16793"/>
                </a:cubicBezTo>
                <a:cubicBezTo>
                  <a:pt x="12991" y="16610"/>
                  <a:pt x="13114" y="16470"/>
                  <a:pt x="13246" y="16321"/>
                </a:cubicBezTo>
                <a:cubicBezTo>
                  <a:pt x="13307" y="16260"/>
                  <a:pt x="13332" y="16253"/>
                  <a:pt x="13320" y="16197"/>
                </a:cubicBezTo>
              </a:path>
              <a:path w="16496" h="3548">
                <a:moveTo>
                  <a:pt x="12626" y="17165"/>
                </a:moveTo>
                <a:cubicBezTo>
                  <a:pt x="12822" y="17121"/>
                  <a:pt x="13019" y="17041"/>
                  <a:pt x="13221" y="17016"/>
                </a:cubicBezTo>
                <a:cubicBezTo>
                  <a:pt x="13388" y="16995"/>
                  <a:pt x="13420" y="16979"/>
                  <a:pt x="13419" y="17090"/>
                </a:cubicBezTo>
              </a:path>
              <a:path w="16496" h="3548">
                <a:moveTo>
                  <a:pt x="12849" y="17462"/>
                </a:moveTo>
                <a:cubicBezTo>
                  <a:pt x="12958" y="17462"/>
                  <a:pt x="13066" y="17449"/>
                  <a:pt x="13171" y="17487"/>
                </a:cubicBezTo>
                <a:cubicBezTo>
                  <a:pt x="13194" y="17510"/>
                  <a:pt x="13202" y="17514"/>
                  <a:pt x="13196" y="17537"/>
                </a:cubicBezTo>
                <a:cubicBezTo>
                  <a:pt x="13132" y="17588"/>
                  <a:pt x="13072" y="17624"/>
                  <a:pt x="12998" y="17661"/>
                </a:cubicBezTo>
                <a:cubicBezTo>
                  <a:pt x="13063" y="17678"/>
                  <a:pt x="13193" y="17739"/>
                  <a:pt x="13246" y="17785"/>
                </a:cubicBezTo>
                <a:cubicBezTo>
                  <a:pt x="13262" y="17810"/>
                  <a:pt x="13279" y="17834"/>
                  <a:pt x="13295" y="17859"/>
                </a:cubicBezTo>
                <a:cubicBezTo>
                  <a:pt x="13174" y="17957"/>
                  <a:pt x="13039" y="18014"/>
                  <a:pt x="12874" y="17983"/>
                </a:cubicBezTo>
                <a:cubicBezTo>
                  <a:pt x="12833" y="17967"/>
                  <a:pt x="12791" y="17950"/>
                  <a:pt x="12750" y="17934"/>
                </a:cubicBezTo>
              </a:path>
              <a:path w="16496" h="3548">
                <a:moveTo>
                  <a:pt x="10641" y="17686"/>
                </a:moveTo>
                <a:cubicBezTo>
                  <a:pt x="10821" y="17631"/>
                  <a:pt x="11000" y="17608"/>
                  <a:pt x="11187" y="17587"/>
                </a:cubicBezTo>
                <a:cubicBezTo>
                  <a:pt x="11352" y="17569"/>
                  <a:pt x="11758" y="17524"/>
                  <a:pt x="11757" y="17587"/>
                </a:cubicBezTo>
              </a:path>
              <a:path w="16496" h="3548">
                <a:moveTo>
                  <a:pt x="11237" y="17884"/>
                </a:moveTo>
                <a:cubicBezTo>
                  <a:pt x="11237" y="18021"/>
                  <a:pt x="11208" y="18146"/>
                  <a:pt x="11187" y="18281"/>
                </a:cubicBezTo>
                <a:cubicBezTo>
                  <a:pt x="11187" y="18316"/>
                  <a:pt x="11196" y="18320"/>
                  <a:pt x="11237" y="18281"/>
                </a:cubicBezTo>
              </a:path>
              <a:path w="16496" h="3548">
                <a:moveTo>
                  <a:pt x="10666" y="16867"/>
                </a:moveTo>
                <a:cubicBezTo>
                  <a:pt x="10943" y="16895"/>
                  <a:pt x="11195" y="17003"/>
                  <a:pt x="11460" y="17090"/>
                </a:cubicBezTo>
                <a:cubicBezTo>
                  <a:pt x="11545" y="17118"/>
                  <a:pt x="11902" y="17169"/>
                  <a:pt x="11782" y="17289"/>
                </a:cubicBezTo>
              </a:path>
              <a:path w="16496" h="3548">
                <a:moveTo>
                  <a:pt x="12576" y="17537"/>
                </a:moveTo>
                <a:cubicBezTo>
                  <a:pt x="12796" y="17505"/>
                  <a:pt x="12963" y="17605"/>
                  <a:pt x="13171" y="17686"/>
                </a:cubicBezTo>
                <a:cubicBezTo>
                  <a:pt x="13334" y="17750"/>
                  <a:pt x="13501" y="17808"/>
                  <a:pt x="13643" y="17909"/>
                </a:cubicBezTo>
              </a:path>
              <a:path w="16496" h="3548">
                <a:moveTo>
                  <a:pt x="13791" y="18058"/>
                </a:moveTo>
                <a:cubicBezTo>
                  <a:pt x="13829" y="18184"/>
                  <a:pt x="13816" y="18320"/>
                  <a:pt x="13816" y="18455"/>
                </a:cubicBezTo>
                <a:cubicBezTo>
                  <a:pt x="13816" y="18488"/>
                  <a:pt x="13816" y="18521"/>
                  <a:pt x="13816" y="18554"/>
                </a:cubicBezTo>
              </a:path>
              <a:path w="16496" h="3548">
                <a:moveTo>
                  <a:pt x="11385" y="15900"/>
                </a:moveTo>
                <a:cubicBezTo>
                  <a:pt x="11300" y="15933"/>
                  <a:pt x="11122" y="15967"/>
                  <a:pt x="11162" y="16098"/>
                </a:cubicBezTo>
                <a:cubicBezTo>
                  <a:pt x="11219" y="16283"/>
                  <a:pt x="11448" y="16325"/>
                  <a:pt x="11460" y="16545"/>
                </a:cubicBezTo>
                <a:cubicBezTo>
                  <a:pt x="11463" y="16602"/>
                  <a:pt x="11421" y="16651"/>
                  <a:pt x="11385" y="16669"/>
                </a:cubicBezTo>
                <a:cubicBezTo>
                  <a:pt x="11398" y="16483"/>
                  <a:pt x="11454" y="16342"/>
                  <a:pt x="11534" y="16173"/>
                </a:cubicBezTo>
                <a:cubicBezTo>
                  <a:pt x="11542" y="16156"/>
                  <a:pt x="11551" y="16140"/>
                  <a:pt x="11559" y="16123"/>
                </a:cubicBezTo>
              </a:path>
              <a:path w="16496" h="3548">
                <a:moveTo>
                  <a:pt x="13742" y="16892"/>
                </a:moveTo>
                <a:cubicBezTo>
                  <a:pt x="13838" y="16870"/>
                  <a:pt x="13915" y="16867"/>
                  <a:pt x="14015" y="16867"/>
                </a:cubicBezTo>
              </a:path>
              <a:path w="16496" h="3548">
                <a:moveTo>
                  <a:pt x="13866" y="17115"/>
                </a:moveTo>
                <a:cubicBezTo>
                  <a:pt x="14063" y="17031"/>
                  <a:pt x="14146" y="16996"/>
                  <a:pt x="14288" y="16942"/>
                </a:cubicBezTo>
              </a:path>
              <a:path w="16496" h="3548">
                <a:moveTo>
                  <a:pt x="15503" y="16024"/>
                </a:moveTo>
                <a:cubicBezTo>
                  <a:pt x="15420" y="16208"/>
                  <a:pt x="15252" y="16443"/>
                  <a:pt x="15230" y="16644"/>
                </a:cubicBezTo>
                <a:cubicBezTo>
                  <a:pt x="15210" y="16828"/>
                  <a:pt x="15417" y="16813"/>
                  <a:pt x="15528" y="16768"/>
                </a:cubicBezTo>
                <a:cubicBezTo>
                  <a:pt x="15641" y="16701"/>
                  <a:pt x="15673" y="16685"/>
                  <a:pt x="15726" y="16619"/>
                </a:cubicBezTo>
                <a:cubicBezTo>
                  <a:pt x="15681" y="16485"/>
                  <a:pt x="15508" y="16691"/>
                  <a:pt x="15453" y="16768"/>
                </a:cubicBezTo>
                <a:cubicBezTo>
                  <a:pt x="15431" y="16835"/>
                  <a:pt x="15420" y="16853"/>
                  <a:pt x="15453" y="16892"/>
                </a:cubicBezTo>
              </a:path>
              <a:path w="16496" h="3548">
                <a:moveTo>
                  <a:pt x="15949" y="16297"/>
                </a:moveTo>
                <a:cubicBezTo>
                  <a:pt x="15937" y="16399"/>
                  <a:pt x="15909" y="16493"/>
                  <a:pt x="15900" y="16594"/>
                </a:cubicBezTo>
                <a:cubicBezTo>
                  <a:pt x="16058" y="16594"/>
                  <a:pt x="16120" y="16535"/>
                  <a:pt x="16247" y="16446"/>
                </a:cubicBezTo>
              </a:path>
              <a:path w="16496" h="3548">
                <a:moveTo>
                  <a:pt x="16321" y="16148"/>
                </a:moveTo>
                <a:cubicBezTo>
                  <a:pt x="16292" y="16300"/>
                  <a:pt x="16262" y="16466"/>
                  <a:pt x="16222" y="16619"/>
                </a:cubicBezTo>
                <a:cubicBezTo>
                  <a:pt x="16187" y="16753"/>
                  <a:pt x="16135" y="16883"/>
                  <a:pt x="16098" y="17016"/>
                </a:cubicBezTo>
              </a:path>
              <a:path w="16496" h="3548">
                <a:moveTo>
                  <a:pt x="14908" y="17363"/>
                </a:moveTo>
                <a:cubicBezTo>
                  <a:pt x="15247" y="17332"/>
                  <a:pt x="15583" y="17239"/>
                  <a:pt x="15925" y="17214"/>
                </a:cubicBezTo>
                <a:cubicBezTo>
                  <a:pt x="16085" y="17202"/>
                  <a:pt x="16260" y="17190"/>
                  <a:pt x="16371" y="17264"/>
                </a:cubicBezTo>
              </a:path>
              <a:path w="16496" h="3548">
                <a:moveTo>
                  <a:pt x="15726" y="17611"/>
                </a:moveTo>
                <a:cubicBezTo>
                  <a:pt x="15667" y="17768"/>
                  <a:pt x="15616" y="17928"/>
                  <a:pt x="15553" y="18083"/>
                </a:cubicBezTo>
              </a:path>
              <a:path w="16496" h="3548">
                <a:moveTo>
                  <a:pt x="16917" y="17190"/>
                </a:moveTo>
                <a:cubicBezTo>
                  <a:pt x="17008" y="17190"/>
                  <a:pt x="17032" y="17190"/>
                  <a:pt x="17090" y="17190"/>
                </a:cubicBezTo>
              </a:path>
              <a:path w="16496" h="3548">
                <a:moveTo>
                  <a:pt x="16768" y="17413"/>
                </a:moveTo>
                <a:cubicBezTo>
                  <a:pt x="16900" y="17386"/>
                  <a:pt x="16949" y="17377"/>
                  <a:pt x="17041" y="17363"/>
                </a:cubicBezTo>
              </a:path>
              <a:path w="16496" h="3548">
                <a:moveTo>
                  <a:pt x="17041" y="17363"/>
                </a:moveTo>
                <a:lnTo>
                  <a:pt x="17041" y="17363"/>
                </a:lnTo>
              </a:path>
              <a:path w="16496" h="3548">
                <a:moveTo>
                  <a:pt x="18107" y="16718"/>
                </a:moveTo>
                <a:cubicBezTo>
                  <a:pt x="18028" y="16880"/>
                  <a:pt x="17962" y="17068"/>
                  <a:pt x="17884" y="17239"/>
                </a:cubicBezTo>
                <a:cubicBezTo>
                  <a:pt x="17831" y="17355"/>
                  <a:pt x="17726" y="17552"/>
                  <a:pt x="17934" y="17587"/>
                </a:cubicBezTo>
                <a:cubicBezTo>
                  <a:pt x="18108" y="17616"/>
                  <a:pt x="18290" y="17505"/>
                  <a:pt x="18380" y="17363"/>
                </a:cubicBezTo>
                <a:cubicBezTo>
                  <a:pt x="18388" y="17338"/>
                  <a:pt x="18397" y="17314"/>
                  <a:pt x="18405" y="17289"/>
                </a:cubicBezTo>
                <a:cubicBezTo>
                  <a:pt x="18213" y="17275"/>
                  <a:pt x="18127" y="17360"/>
                  <a:pt x="18033" y="17537"/>
                </a:cubicBezTo>
                <a:cubicBezTo>
                  <a:pt x="18010" y="17604"/>
                  <a:pt x="17995" y="17625"/>
                  <a:pt x="18058" y="17636"/>
                </a:cubicBezTo>
              </a:path>
              <a:path w="16496" h="3548">
                <a:moveTo>
                  <a:pt x="18703" y="16966"/>
                </a:moveTo>
                <a:cubicBezTo>
                  <a:pt x="18674" y="17052"/>
                  <a:pt x="18647" y="17111"/>
                  <a:pt x="18604" y="17190"/>
                </a:cubicBezTo>
                <a:cubicBezTo>
                  <a:pt x="18683" y="17190"/>
                  <a:pt x="18723" y="17130"/>
                  <a:pt x="18802" y="17115"/>
                </a:cubicBezTo>
                <a:cubicBezTo>
                  <a:pt x="18900" y="17097"/>
                  <a:pt x="18962" y="17225"/>
                  <a:pt x="19050" y="17190"/>
                </a:cubicBezTo>
                <a:cubicBezTo>
                  <a:pt x="19198" y="17132"/>
                  <a:pt x="19149" y="16942"/>
                  <a:pt x="19149" y="16818"/>
                </a:cubicBezTo>
                <a:cubicBezTo>
                  <a:pt x="19149" y="16793"/>
                  <a:pt x="19149" y="16768"/>
                  <a:pt x="19149" y="16743"/>
                </a:cubicBezTo>
                <a:cubicBezTo>
                  <a:pt x="19122" y="16906"/>
                  <a:pt x="19044" y="17078"/>
                  <a:pt x="19000" y="17239"/>
                </a:cubicBezTo>
                <a:cubicBezTo>
                  <a:pt x="18967" y="17360"/>
                  <a:pt x="18937" y="17464"/>
                  <a:pt x="18926" y="17587"/>
                </a:cubicBezTo>
              </a:path>
              <a:path w="16496" h="3548">
                <a:moveTo>
                  <a:pt x="18752" y="15974"/>
                </a:moveTo>
                <a:cubicBezTo>
                  <a:pt x="18693" y="16046"/>
                  <a:pt x="18583" y="16149"/>
                  <a:pt x="18579" y="16247"/>
                </a:cubicBezTo>
                <a:cubicBezTo>
                  <a:pt x="18587" y="16264"/>
                  <a:pt x="18596" y="16280"/>
                  <a:pt x="18604" y="16297"/>
                </a:cubicBezTo>
                <a:cubicBezTo>
                  <a:pt x="18737" y="16282"/>
                  <a:pt x="18754" y="16232"/>
                  <a:pt x="18827" y="16123"/>
                </a:cubicBezTo>
                <a:cubicBezTo>
                  <a:pt x="18827" y="16070"/>
                  <a:pt x="18831" y="16223"/>
                  <a:pt x="18852" y="16247"/>
                </a:cubicBezTo>
                <a:cubicBezTo>
                  <a:pt x="18946" y="16352"/>
                  <a:pt x="19101" y="16292"/>
                  <a:pt x="19174" y="16197"/>
                </a:cubicBezTo>
                <a:cubicBezTo>
                  <a:pt x="19216" y="16143"/>
                  <a:pt x="19315" y="15901"/>
                  <a:pt x="19174" y="15875"/>
                </a:cubicBezTo>
                <a:cubicBezTo>
                  <a:pt x="19149" y="15883"/>
                  <a:pt x="19125" y="15892"/>
                  <a:pt x="19100" y="15900"/>
                </a:cubicBezTo>
              </a:path>
              <a:path w="16496" h="3548">
                <a:moveTo>
                  <a:pt x="19546" y="15999"/>
                </a:moveTo>
                <a:cubicBezTo>
                  <a:pt x="19612" y="15999"/>
                  <a:pt x="19644" y="15985"/>
                  <a:pt x="19670" y="16024"/>
                </a:cubicBezTo>
              </a:path>
              <a:path w="16496" h="3548">
                <a:moveTo>
                  <a:pt x="19397" y="16148"/>
                </a:moveTo>
                <a:cubicBezTo>
                  <a:pt x="19566" y="16167"/>
                  <a:pt x="19635" y="16149"/>
                  <a:pt x="19794" y="16073"/>
                </a:cubicBezTo>
              </a:path>
              <a:path w="16496" h="3548">
                <a:moveTo>
                  <a:pt x="20265" y="15751"/>
                </a:moveTo>
                <a:cubicBezTo>
                  <a:pt x="20197" y="15856"/>
                  <a:pt x="20123" y="15983"/>
                  <a:pt x="20067" y="16098"/>
                </a:cubicBezTo>
                <a:cubicBezTo>
                  <a:pt x="20045" y="16165"/>
                  <a:pt x="20033" y="16183"/>
                  <a:pt x="20067" y="16222"/>
                </a:cubicBezTo>
                <a:cubicBezTo>
                  <a:pt x="20225" y="16210"/>
                  <a:pt x="20318" y="16174"/>
                  <a:pt x="20439" y="16073"/>
                </a:cubicBezTo>
                <a:cubicBezTo>
                  <a:pt x="20447" y="16065"/>
                  <a:pt x="20456" y="16057"/>
                  <a:pt x="20464" y="16049"/>
                </a:cubicBezTo>
                <a:cubicBezTo>
                  <a:pt x="20422" y="16056"/>
                  <a:pt x="20164" y="16122"/>
                  <a:pt x="20241" y="16222"/>
                </a:cubicBezTo>
                <a:cubicBezTo>
                  <a:pt x="20257" y="16222"/>
                  <a:pt x="20274" y="16222"/>
                  <a:pt x="20290" y="16222"/>
                </a:cubicBezTo>
              </a:path>
              <a:path w="16496" h="3548">
                <a:moveTo>
                  <a:pt x="20712" y="15925"/>
                </a:moveTo>
                <a:cubicBezTo>
                  <a:pt x="20690" y="16013"/>
                  <a:pt x="20689" y="16039"/>
                  <a:pt x="20638" y="16073"/>
                </a:cubicBezTo>
                <a:cubicBezTo>
                  <a:pt x="20732" y="16058"/>
                  <a:pt x="20844" y="16047"/>
                  <a:pt x="20935" y="16024"/>
                </a:cubicBezTo>
                <a:cubicBezTo>
                  <a:pt x="20976" y="16004"/>
                  <a:pt x="20992" y="16006"/>
                  <a:pt x="20985" y="15974"/>
                </a:cubicBezTo>
              </a:path>
              <a:path w="16496" h="3548">
                <a:moveTo>
                  <a:pt x="21010" y="15801"/>
                </a:moveTo>
                <a:cubicBezTo>
                  <a:pt x="20974" y="15932"/>
                  <a:pt x="20908" y="16150"/>
                  <a:pt x="20836" y="16272"/>
                </a:cubicBezTo>
                <a:cubicBezTo>
                  <a:pt x="20778" y="16330"/>
                  <a:pt x="20770" y="16338"/>
                  <a:pt x="20737" y="16371"/>
                </a:cubicBezTo>
              </a:path>
              <a:path w="16496" h="3548">
                <a:moveTo>
                  <a:pt x="18207" y="15677"/>
                </a:moveTo>
                <a:cubicBezTo>
                  <a:pt x="18255" y="15628"/>
                  <a:pt x="18257" y="15625"/>
                  <a:pt x="18306" y="15577"/>
                </a:cubicBezTo>
                <a:cubicBezTo>
                  <a:pt x="18314" y="15569"/>
                  <a:pt x="18323" y="15561"/>
                  <a:pt x="18331" y="15553"/>
                </a:cubicBezTo>
                <a:cubicBezTo>
                  <a:pt x="18317" y="15728"/>
                  <a:pt x="18291" y="15939"/>
                  <a:pt x="18231" y="16123"/>
                </a:cubicBezTo>
                <a:cubicBezTo>
                  <a:pt x="18185" y="16264"/>
                  <a:pt x="18142" y="16351"/>
                  <a:pt x="18132" y="16495"/>
                </a:cubicBezTo>
                <a:cubicBezTo>
                  <a:pt x="18233" y="16526"/>
                  <a:pt x="18323" y="16532"/>
                  <a:pt x="18430" y="16545"/>
                </a:cubicBezTo>
                <a:cubicBezTo>
                  <a:pt x="18670" y="16575"/>
                  <a:pt x="18908" y="16570"/>
                  <a:pt x="19149" y="16594"/>
                </a:cubicBezTo>
                <a:cubicBezTo>
                  <a:pt x="19474" y="16626"/>
                  <a:pt x="19814" y="16640"/>
                  <a:pt x="20141" y="16619"/>
                </a:cubicBezTo>
                <a:cubicBezTo>
                  <a:pt x="20308" y="16609"/>
                  <a:pt x="20499" y="16605"/>
                  <a:pt x="20662" y="16570"/>
                </a:cubicBezTo>
                <a:cubicBezTo>
                  <a:pt x="20706" y="16561"/>
                  <a:pt x="20767" y="16557"/>
                  <a:pt x="20811" y="16545"/>
                </a:cubicBezTo>
                <a:cubicBezTo>
                  <a:pt x="20861" y="16531"/>
                  <a:pt x="20867" y="16543"/>
                  <a:pt x="20910" y="16495"/>
                </a:cubicBezTo>
                <a:cubicBezTo>
                  <a:pt x="21025" y="16368"/>
                  <a:pt x="21119" y="16170"/>
                  <a:pt x="21208" y="16024"/>
                </a:cubicBezTo>
                <a:cubicBezTo>
                  <a:pt x="21290" y="15889"/>
                  <a:pt x="21345" y="15740"/>
                  <a:pt x="21406" y="15602"/>
                </a:cubicBezTo>
                <a:cubicBezTo>
                  <a:pt x="21209" y="15568"/>
                  <a:pt x="21010" y="15554"/>
                  <a:pt x="20811" y="15528"/>
                </a:cubicBezTo>
                <a:cubicBezTo>
                  <a:pt x="20379" y="15471"/>
                  <a:pt x="19922" y="15464"/>
                  <a:pt x="19496" y="15379"/>
                </a:cubicBezTo>
                <a:cubicBezTo>
                  <a:pt x="19282" y="15336"/>
                  <a:pt x="19061" y="15276"/>
                  <a:pt x="18852" y="15230"/>
                </a:cubicBezTo>
                <a:cubicBezTo>
                  <a:pt x="18765" y="15211"/>
                  <a:pt x="18671" y="15215"/>
                  <a:pt x="18579" y="15230"/>
                </a:cubicBezTo>
                <a:cubicBezTo>
                  <a:pt x="18495" y="15243"/>
                  <a:pt x="18412" y="15277"/>
                  <a:pt x="18331" y="15304"/>
                </a:cubicBezTo>
                <a:cubicBezTo>
                  <a:pt x="18277" y="15322"/>
                  <a:pt x="18277" y="15342"/>
                  <a:pt x="18256" y="153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82800" y="1393920"/>
            <a:ext cx="2205000" cy="204840"/>
          </a:xfrm>
          <a:custGeom>
            <a:avLst/>
            <a:gdLst/>
            <a:ahLst/>
            <a:rect l="l" t="t" r="r" b="b"/>
            <a:pathLst>
              <a:path w="6127" h="571">
                <a:moveTo>
                  <a:pt x="2729" y="4440"/>
                </a:moveTo>
                <a:cubicBezTo>
                  <a:pt x="2808" y="4430"/>
                  <a:pt x="2871" y="4418"/>
                  <a:pt x="2952" y="4415"/>
                </a:cubicBezTo>
                <a:cubicBezTo>
                  <a:pt x="3539" y="4390"/>
                  <a:pt x="4127" y="4395"/>
                  <a:pt x="4713" y="4366"/>
                </a:cubicBezTo>
                <a:cubicBezTo>
                  <a:pt x="5064" y="4349"/>
                  <a:pt x="5406" y="4311"/>
                  <a:pt x="5755" y="4266"/>
                </a:cubicBezTo>
                <a:cubicBezTo>
                  <a:pt x="6004" y="4234"/>
                  <a:pt x="6250" y="4215"/>
                  <a:pt x="6499" y="4192"/>
                </a:cubicBezTo>
                <a:cubicBezTo>
                  <a:pt x="6697" y="4174"/>
                  <a:pt x="6898" y="4147"/>
                  <a:pt x="7094" y="4118"/>
                </a:cubicBezTo>
                <a:cubicBezTo>
                  <a:pt x="7275" y="4091"/>
                  <a:pt x="7461" y="4070"/>
                  <a:pt x="7640" y="4043"/>
                </a:cubicBezTo>
                <a:cubicBezTo>
                  <a:pt x="7746" y="4027"/>
                  <a:pt x="7860" y="3978"/>
                  <a:pt x="7962" y="3969"/>
                </a:cubicBezTo>
                <a:cubicBezTo>
                  <a:pt x="8057" y="3960"/>
                  <a:pt x="8117" y="3940"/>
                  <a:pt x="8210" y="3919"/>
                </a:cubicBezTo>
                <a:cubicBezTo>
                  <a:pt x="8317" y="3895"/>
                  <a:pt x="8424" y="3906"/>
                  <a:pt x="8533" y="3894"/>
                </a:cubicBezTo>
                <a:cubicBezTo>
                  <a:pt x="8633" y="3883"/>
                  <a:pt x="8727" y="3873"/>
                  <a:pt x="8830" y="3870"/>
                </a:cubicBezTo>
                <a:cubicBezTo>
                  <a:pt x="8838" y="3870"/>
                  <a:pt x="8847" y="3870"/>
                  <a:pt x="8855" y="38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4205160"/>
            <a:ext cx="2849400" cy="179640"/>
          </a:xfrm>
          <a:custGeom>
            <a:avLst/>
            <a:gdLst/>
            <a:ahLst/>
            <a:rect l="l" t="t" r="r" b="b"/>
            <a:pathLst>
              <a:path w="7914" h="497">
                <a:moveTo>
                  <a:pt x="2356" y="12154"/>
                </a:moveTo>
                <a:cubicBezTo>
                  <a:pt x="2450" y="12163"/>
                  <a:pt x="2531" y="12178"/>
                  <a:pt x="2629" y="12179"/>
                </a:cubicBezTo>
                <a:cubicBezTo>
                  <a:pt x="2799" y="12181"/>
                  <a:pt x="2986" y="12189"/>
                  <a:pt x="3150" y="12179"/>
                </a:cubicBezTo>
                <a:cubicBezTo>
                  <a:pt x="3341" y="12167"/>
                  <a:pt x="3528" y="12132"/>
                  <a:pt x="3721" y="12129"/>
                </a:cubicBezTo>
                <a:cubicBezTo>
                  <a:pt x="3895" y="12127"/>
                  <a:pt x="4070" y="12125"/>
                  <a:pt x="4242" y="12105"/>
                </a:cubicBezTo>
                <a:cubicBezTo>
                  <a:pt x="4425" y="12084"/>
                  <a:pt x="4605" y="12051"/>
                  <a:pt x="4787" y="12030"/>
                </a:cubicBezTo>
                <a:cubicBezTo>
                  <a:pt x="4949" y="12012"/>
                  <a:pt x="5120" y="11990"/>
                  <a:pt x="5283" y="11981"/>
                </a:cubicBezTo>
                <a:cubicBezTo>
                  <a:pt x="5425" y="11973"/>
                  <a:pt x="5564" y="11962"/>
                  <a:pt x="5705" y="11956"/>
                </a:cubicBezTo>
                <a:cubicBezTo>
                  <a:pt x="5930" y="11947"/>
                  <a:pt x="6151" y="11950"/>
                  <a:pt x="6375" y="11931"/>
                </a:cubicBezTo>
                <a:cubicBezTo>
                  <a:pt x="6564" y="11915"/>
                  <a:pt x="6757" y="11925"/>
                  <a:pt x="6945" y="11906"/>
                </a:cubicBezTo>
                <a:cubicBezTo>
                  <a:pt x="7111" y="11889"/>
                  <a:pt x="7274" y="11866"/>
                  <a:pt x="7441" y="11857"/>
                </a:cubicBezTo>
                <a:cubicBezTo>
                  <a:pt x="7649" y="11845"/>
                  <a:pt x="7855" y="11818"/>
                  <a:pt x="8062" y="11807"/>
                </a:cubicBezTo>
                <a:cubicBezTo>
                  <a:pt x="8293" y="11795"/>
                  <a:pt x="8525" y="11786"/>
                  <a:pt x="8756" y="11782"/>
                </a:cubicBezTo>
                <a:cubicBezTo>
                  <a:pt x="8980" y="11778"/>
                  <a:pt x="9204" y="11778"/>
                  <a:pt x="9426" y="11757"/>
                </a:cubicBezTo>
                <a:cubicBezTo>
                  <a:pt x="9666" y="11735"/>
                  <a:pt x="9905" y="11697"/>
                  <a:pt x="10145" y="11683"/>
                </a:cubicBezTo>
                <a:cubicBezTo>
                  <a:pt x="10219" y="11683"/>
                  <a:pt x="10228" y="11683"/>
                  <a:pt x="10269" y="116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  <p:sndAc>
      <p:stSnd>
        <p:snd r:embed="rId9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6400800" cy="774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242532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E-76 Pizzaz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571680" y="6276960"/>
            <a:ext cx="687240" cy="573120"/>
          </a:xfrm>
          <a:custGeom>
            <a:avLst/>
            <a:gdLst/>
            <a:ahLst/>
            <a:rect l="l" t="t" r="r" b="b"/>
            <a:pathLst>
              <a:path w="1910" h="1588">
                <a:moveTo>
                  <a:pt x="3497" y="17438"/>
                </a:moveTo>
                <a:cubicBezTo>
                  <a:pt x="2867" y="18573"/>
                  <a:pt x="2990" y="18344"/>
                  <a:pt x="1588" y="19025"/>
                </a:cubicBezTo>
                <a:cubicBezTo>
                  <a:pt x="1822" y="18986"/>
                  <a:pt x="1819" y="18766"/>
                  <a:pt x="1860" y="18554"/>
                </a:cubicBezTo>
                <a:cubicBezTo>
                  <a:pt x="1920" y="18245"/>
                  <a:pt x="1963" y="17940"/>
                  <a:pt x="2034" y="17636"/>
                </a:cubicBezTo>
                <a:cubicBezTo>
                  <a:pt x="2085" y="17417"/>
                  <a:pt x="2078" y="17542"/>
                  <a:pt x="2009" y="17487"/>
                </a:cubicBezTo>
                <a:cubicBezTo>
                  <a:pt x="2001" y="17487"/>
                  <a:pt x="1992" y="17487"/>
                  <a:pt x="1984" y="17487"/>
                </a:cubicBezTo>
                <a:cubicBezTo>
                  <a:pt x="2045" y="17487"/>
                  <a:pt x="2159" y="17468"/>
                  <a:pt x="2208" y="17512"/>
                </a:cubicBezTo>
                <a:cubicBezTo>
                  <a:pt x="2343" y="17632"/>
                  <a:pt x="2446" y="17814"/>
                  <a:pt x="2505" y="17983"/>
                </a:cubicBezTo>
                <a:cubicBezTo>
                  <a:pt x="2543" y="18093"/>
                  <a:pt x="2535" y="18246"/>
                  <a:pt x="2629" y="18331"/>
                </a:cubicBezTo>
                <a:cubicBezTo>
                  <a:pt x="2686" y="18382"/>
                  <a:pt x="2645" y="18273"/>
                  <a:pt x="2654" y="18231"/>
                </a:cubicBezTo>
                <a:cubicBezTo>
                  <a:pt x="2667" y="18173"/>
                  <a:pt x="2656" y="18187"/>
                  <a:pt x="2704" y="18157"/>
                </a:cubicBezTo>
                <a:cubicBezTo>
                  <a:pt x="2712" y="18157"/>
                  <a:pt x="2721" y="18157"/>
                  <a:pt x="2729" y="18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2:17:36Z</dcterms:created>
  <dc:creator>ccps</dc:creator>
  <dc:description/>
  <dc:language>en-US</dc:language>
  <cp:lastModifiedBy>deanne elizabeth mcgrath</cp:lastModifiedBy>
  <dcterms:modified xsi:type="dcterms:W3CDTF">2011-04-18T17:29:14Z</dcterms:modified>
  <cp:revision>17</cp:revision>
  <dc:subject/>
  <dc:title>Obj 7.5:  To solve two step equations.</dc:title>
</cp:coreProperties>
</file>